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886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8F8F-A267-43C6-8548-D133E5E3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57120" y="428400"/>
            <a:ext cx="388904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57120" y="2494080"/>
            <a:ext cx="3889044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57120" y="6178320"/>
            <a:ext cx="3889044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FFB2-D34E-46FF-B9E3-D8D51F44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57120" y="428400"/>
            <a:ext cx="388904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57120" y="2494080"/>
            <a:ext cx="189784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84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57120" y="6178320"/>
            <a:ext cx="189784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78320"/>
            <a:ext cx="189784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E6C7-03A3-4B6A-8B8B-4BBAEFC3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57120" y="428400"/>
            <a:ext cx="388904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57120" y="2494080"/>
            <a:ext cx="125226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6120" y="2494080"/>
            <a:ext cx="125226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5480" y="2494080"/>
            <a:ext cx="125226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57120" y="6178320"/>
            <a:ext cx="125226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6120" y="6178320"/>
            <a:ext cx="125226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5480" y="6178320"/>
            <a:ext cx="1252260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267-35B9-41A5-AEC1-6A0DB5CF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57120" y="428400"/>
            <a:ext cx="388904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57120" y="2494080"/>
            <a:ext cx="38890440" cy="70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BD98-57FC-46FE-A939-3096914E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57120" y="428400"/>
            <a:ext cx="388904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57120" y="2494080"/>
            <a:ext cx="3889044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954D-69CD-4E0D-9039-AB931795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57120" y="428400"/>
            <a:ext cx="388904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57120" y="2494080"/>
            <a:ext cx="1897848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848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76C0-900E-42B2-B836-C8C471E2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57120" y="428400"/>
            <a:ext cx="388904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7D04-950D-4946-B7A9-669A0F23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57120" y="428400"/>
            <a:ext cx="388904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583-BA5A-49BE-A266-502D34F4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57120" y="428400"/>
            <a:ext cx="388904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57120" y="2494080"/>
            <a:ext cx="189784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848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57120" y="6178320"/>
            <a:ext cx="189784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0C0-BEBF-46BA-A5C6-331A241C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57120" y="428400"/>
            <a:ext cx="388904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57120" y="2494080"/>
            <a:ext cx="1897848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84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78320"/>
            <a:ext cx="189784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3FE-3D39-4FBF-AAF5-563C0600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57120" y="428400"/>
            <a:ext cx="388904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57120" y="2494080"/>
            <a:ext cx="189784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848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57120" y="6178320"/>
            <a:ext cx="38890440" cy="33642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9F7-4B1E-41E2-A856-7E36EB84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57120" y="428400"/>
            <a:ext cx="388904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57120" y="2494080"/>
            <a:ext cx="38890440" cy="70531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57120" y="9905760"/>
            <a:ext cx="100868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1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58560" y="9905760"/>
            <a:ext cx="1368756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0720" y="9905760"/>
            <a:ext cx="100868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80E42B2C-DEA7-429D-9DD7-1E06A67217D3}" type="slidenum">
              <a:rPr b="0" lang="ja-JP" sz="1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" descr="carnation.jpg"/>
          <p:cNvPicPr/>
          <p:nvPr/>
        </p:nvPicPr>
        <p:blipFill>
          <a:blip r:embed="rId1"/>
          <a:srcRect l="0" t="37036" r="6469" b="14766"/>
          <a:stretch/>
        </p:blipFill>
        <p:spPr>
          <a:xfrm>
            <a:off x="28490760" y="0"/>
            <a:ext cx="14714640" cy="10688760"/>
          </a:xfrm>
          <a:prstGeom prst="rect">
            <a:avLst/>
          </a:prstGeom>
          <a:ln w="0">
            <a:noFill/>
          </a:ln>
        </p:spPr>
      </p:pic>
      <p:pic>
        <p:nvPicPr>
          <p:cNvPr id="42" name="図 4" descr=""/>
          <p:cNvPicPr/>
          <p:nvPr/>
        </p:nvPicPr>
        <p:blipFill>
          <a:blip r:embed="rId2"/>
          <a:stretch/>
        </p:blipFill>
        <p:spPr>
          <a:xfrm>
            <a:off x="0" y="0"/>
            <a:ext cx="30175200" cy="10688760"/>
          </a:xfrm>
          <a:prstGeom prst="rect">
            <a:avLst/>
          </a:prstGeom>
          <a:ln w="0">
            <a:noFill/>
          </a:ln>
        </p:spPr>
      </p:pic>
      <p:sp>
        <p:nvSpPr>
          <p:cNvPr id="43" name="正方形/長方形 9"/>
          <p:cNvSpPr/>
          <p:nvPr/>
        </p:nvSpPr>
        <p:spPr>
          <a:xfrm>
            <a:off x="1270080" y="530280"/>
            <a:ext cx="22656600" cy="74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ja-JP" sz="300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お母さんに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ja-JP" sz="300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ありがとうを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直線コネクタ 2"/>
          <p:cNvSpPr/>
          <p:nvPr/>
        </p:nvSpPr>
        <p:spPr>
          <a:xfrm>
            <a:off x="1270080" y="8291520"/>
            <a:ext cx="272206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直線コネクタ 13"/>
          <p:cNvSpPr/>
          <p:nvPr/>
        </p:nvSpPr>
        <p:spPr>
          <a:xfrm>
            <a:off x="1270080" y="9736200"/>
            <a:ext cx="272206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18"/>
          <p:cNvSpPr/>
          <p:nvPr/>
        </p:nvSpPr>
        <p:spPr>
          <a:xfrm>
            <a:off x="2157480" y="8558280"/>
            <a:ext cx="25418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5</a:t>
            </a:r>
            <a:r>
              <a:rPr b="1" lang="ja-JP" sz="7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月第２日曜日は母の日です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図 6" descr=""/>
          <p:cNvPicPr/>
          <p:nvPr/>
        </p:nvPicPr>
        <p:blipFill>
          <a:blip r:embed="rId3"/>
          <a:stretch/>
        </p:blipFill>
        <p:spPr>
          <a:xfrm rot="20515800">
            <a:off x="25874640" y="1515960"/>
            <a:ext cx="7012080" cy="4100760"/>
          </a:xfrm>
          <a:prstGeom prst="rect">
            <a:avLst/>
          </a:prstGeom>
          <a:ln w="0">
            <a:noFill/>
          </a:ln>
        </p:spPr>
      </p:pic>
      <p:sp>
        <p:nvSpPr>
          <p:cNvPr id="48" name="正方形/長方形 9"/>
          <p:cNvSpPr/>
          <p:nvPr/>
        </p:nvSpPr>
        <p:spPr>
          <a:xfrm>
            <a:off x="22620240" y="4375080"/>
            <a:ext cx="423720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300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!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5:26:05Z</dcterms:created>
  <dc:creator>深田 龍</dc:creator>
  <dc:description/>
  <dc:language>en-US</dc:language>
  <cp:lastModifiedBy>深田 龍</cp:lastModifiedBy>
  <dcterms:modified xsi:type="dcterms:W3CDTF">2013-02-18T08:18:07Z</dcterms:modified>
  <cp:revision>13</cp:revision>
  <dc:subject/>
  <dc:title>PowerPoint プレゼンテーション</dc:title>
</cp:coreProperties>
</file>