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0240" y="685440"/>
            <a:ext cx="8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1A30-66A0-418D-8319-4120C5DA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F52D-80A3-4E18-8524-BFCF5B33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3000240" y="685800"/>
            <a:ext cx="85752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604-87A2-4453-B8DF-4B0AD8A1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A1A-5E6C-441B-892B-6CE0C75D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D60-85FF-4EA6-8EBF-884F4B27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CB7-6491-43B0-BB83-5EE8B5BE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99B-7968-41E7-AC8A-494529FC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60A-9E8E-4CE4-A35F-5D271B1F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D6D-55AC-438D-9BC9-5CA05AB8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0EE-8432-4C81-89D8-114DEDD8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652-1F58-45E1-AB3F-13E23983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AB7-CD98-4756-9015-21B09B1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EB0-8572-4479-93CF-2638F8A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C55-5F8E-4917-96C9-44ACDA2F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6000"/>
          </a:bodyPr>
          <a:p>
            <a:pPr marL="878040" indent="-8780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1904760" indent="-7322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2930400" indent="-584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4102920" indent="-584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9390-C0D6-4B71-88A3-0481753B3AC8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図 1" descr="hanabi.jpg"/>
          <p:cNvPicPr/>
          <p:nvPr/>
        </p:nvPicPr>
        <p:blipFill>
          <a:blip r:embed="rId1"/>
          <a:stretch/>
        </p:blipFill>
        <p:spPr>
          <a:xfrm>
            <a:off x="0" y="0"/>
            <a:ext cx="10801440" cy="432054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/>
          <p:cNvSpPr/>
          <p:nvPr/>
        </p:nvSpPr>
        <p:spPr>
          <a:xfrm>
            <a:off x="-71280" y="0"/>
            <a:ext cx="10845720" cy="43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4680" y="7099200"/>
            <a:ext cx="10693440" cy="1800"/>
          </a:xfrm>
          <a:custGeom>
            <a:avLst/>
            <a:gdLst>
              <a:gd name="textAreaLeft" fmla="*/ 0 w 10693440"/>
              <a:gd name="textAreaRight" fmla="*/ 10693440 w 10693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736" h="1588">
                <a:moveTo>
                  <a:pt x="6736" y="0"/>
                </a:moveTo>
                <a:lnTo>
                  <a:pt x="0" y="0"/>
                </a:lnTo>
                <a:lnTo>
                  <a:pt x="6736" y="0"/>
                </a:lnTo>
                <a:close/>
              </a:path>
            </a:pathLst>
          </a:cu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3200" bIns="-432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" descr=""/>
          <p:cNvPicPr/>
          <p:nvPr/>
        </p:nvPicPr>
        <p:blipFill>
          <a:blip r:embed="rId2"/>
          <a:stretch/>
        </p:blipFill>
        <p:spPr>
          <a:xfrm>
            <a:off x="1600200" y="7454880"/>
            <a:ext cx="7594560" cy="28295640"/>
          </a:xfrm>
          <a:prstGeom prst="rect">
            <a:avLst/>
          </a:prstGeom>
          <a:ln w="0">
            <a:noFill/>
          </a:ln>
        </p:spPr>
      </p:pic>
      <p:pic>
        <p:nvPicPr>
          <p:cNvPr id="52" name="図 2" descr=""/>
          <p:cNvPicPr/>
          <p:nvPr/>
        </p:nvPicPr>
        <p:blipFill>
          <a:blip r:embed="rId3"/>
          <a:stretch/>
        </p:blipFill>
        <p:spPr>
          <a:xfrm>
            <a:off x="-25560" y="0"/>
            <a:ext cx="8318520" cy="8318520"/>
          </a:xfrm>
          <a:prstGeom prst="rect">
            <a:avLst/>
          </a:prstGeom>
          <a:ln w="0">
            <a:noFill/>
          </a:ln>
        </p:spPr>
      </p:pic>
      <p:sp>
        <p:nvSpPr>
          <p:cNvPr id="53" name="正方形/長方形 3"/>
          <p:cNvSpPr/>
          <p:nvPr/>
        </p:nvSpPr>
        <p:spPr>
          <a:xfrm rot="18900000">
            <a:off x="1395360" y="2018160"/>
            <a:ext cx="3897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第</a:t>
            </a:r>
            <a:r>
              <a:rPr b="0" lang="en-US" sz="13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ja-JP" sz="130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回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4"/>
          <p:cNvSpPr/>
          <p:nvPr/>
        </p:nvSpPr>
        <p:spPr>
          <a:xfrm>
            <a:off x="3691440" y="36436320"/>
            <a:ext cx="3429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17"/>
          <p:cNvSpPr/>
          <p:nvPr/>
        </p:nvSpPr>
        <p:spPr>
          <a:xfrm>
            <a:off x="1453320" y="36436320"/>
            <a:ext cx="2617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0" spc="-1" strike="noStrike">
                <a:solidFill>
                  <a:srgbClr val="ffffff"/>
                </a:solidFill>
                <a:latin typeface="Arial"/>
              </a:rPr>
              <a:t>8.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8"/>
          <p:cNvSpPr/>
          <p:nvPr/>
        </p:nvSpPr>
        <p:spPr>
          <a:xfrm>
            <a:off x="7342200" y="37876320"/>
            <a:ext cx="2466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0" spc="-1" strike="noStrike">
                <a:solidFill>
                  <a:srgbClr val="ffffff"/>
                </a:solidFill>
                <a:latin typeface="Arial"/>
              </a:rPr>
              <a:t>［土］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0"/>
          <p:cNvSpPr/>
          <p:nvPr/>
        </p:nvSpPr>
        <p:spPr>
          <a:xfrm>
            <a:off x="699480" y="39531960"/>
            <a:ext cx="9939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ja-JP" sz="10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〜</a:t>
            </a: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ja-JP" sz="10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0:36Z</dcterms:created>
  <dc:creator>NEC-PCuser</dc:creator>
  <dc:description/>
  <dc:language>en-US</dc:language>
  <cp:lastModifiedBy>Jean</cp:lastModifiedBy>
  <cp:lastPrinted>2013-02-12T08:05:05Z</cp:lastPrinted>
  <dcterms:modified xsi:type="dcterms:W3CDTF">2013-03-18T06:51:36Z</dcterms:modified>
  <cp:revision>16</cp:revision>
  <dc:subject/>
  <dc:title>スライド 1</dc:title>
</cp:coreProperties>
</file>