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32407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4A0-4856-4BF9-87EF-58D2C5AA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96217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18730440"/>
            <a:ext cx="96217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38A-A174-40C2-B3DF-6DCDE2D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7561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18730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18730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179-916E-43DB-AE9E-C786BFDE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309780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120" y="7561440"/>
            <a:ext cx="309780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440" y="7561440"/>
            <a:ext cx="309780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18730440"/>
            <a:ext cx="309780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120" y="18730440"/>
            <a:ext cx="309780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440" y="18730440"/>
            <a:ext cx="309780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F7C-9F5C-4EC5-80DE-582B6279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7561440"/>
            <a:ext cx="9621720" cy="213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3AB-EC27-4C1C-B11D-BA2D2A7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9621720" cy="21383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610-98CB-4351-85BE-C3FFEFF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4695120" cy="21383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7561440"/>
            <a:ext cx="4695120" cy="21383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043-431E-403B-8770-89768E2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60A-014C-480D-9DDD-B4D76AD6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299960"/>
            <a:ext cx="9621720" cy="250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D52-45F2-42FA-A49E-F59062B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7561440"/>
            <a:ext cx="4695120" cy="21383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18730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0BC-3492-4461-B07E-494788C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4695120" cy="21383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7561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18730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9E6-3A88-4989-8553-4FB2B02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7561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7561440"/>
            <a:ext cx="46951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18730440"/>
            <a:ext cx="9621720" cy="101995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B57-1829-4BB2-AA26-989D721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299960"/>
            <a:ext cx="9621720" cy="5398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7561440"/>
            <a:ext cx="9621720" cy="21383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30032280"/>
            <a:ext cx="2495520" cy="1728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30032280"/>
            <a:ext cx="3386160" cy="1728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30032280"/>
            <a:ext cx="2495520" cy="17287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31D2525D-4416-418B-9ECC-DFD85544E418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hanami_haikei_01.jpg"/>
          <p:cNvPicPr/>
          <p:nvPr/>
        </p:nvPicPr>
        <p:blipFill>
          <a:blip r:embed="rId1"/>
          <a:stretch/>
        </p:blipFill>
        <p:spPr>
          <a:xfrm>
            <a:off x="0" y="0"/>
            <a:ext cx="10688760" cy="32383440"/>
          </a:xfrm>
          <a:prstGeom prst="rect">
            <a:avLst/>
          </a:prstGeom>
          <a:ln w="0">
            <a:noFill/>
          </a:ln>
        </p:spPr>
      </p:pic>
      <p:sp>
        <p:nvSpPr>
          <p:cNvPr id="42" name="正方形/長方形 18"/>
          <p:cNvSpPr/>
          <p:nvPr/>
        </p:nvSpPr>
        <p:spPr>
          <a:xfrm>
            <a:off x="1111320" y="1460520"/>
            <a:ext cx="846612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日本の春を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96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満喫しよう</a:t>
            </a:r>
            <a:r>
              <a:rPr b="1" lang="en-US" sz="96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1" descr=""/>
          <p:cNvPicPr/>
          <p:nvPr/>
        </p:nvPicPr>
        <p:blipFill>
          <a:blip r:embed="rId2"/>
          <a:stretch/>
        </p:blipFill>
        <p:spPr>
          <a:xfrm rot="4688400">
            <a:off x="243360" y="5953680"/>
            <a:ext cx="2749320" cy="2408040"/>
          </a:xfrm>
          <a:prstGeom prst="rect">
            <a:avLst/>
          </a:prstGeom>
          <a:ln w="0">
            <a:noFill/>
          </a:ln>
        </p:spPr>
      </p:pic>
      <p:sp>
        <p:nvSpPr>
          <p:cNvPr id="44" name="正方形/長方形 18"/>
          <p:cNvSpPr/>
          <p:nvPr/>
        </p:nvSpPr>
        <p:spPr>
          <a:xfrm>
            <a:off x="349200" y="7013520"/>
            <a:ext cx="9990360" cy="9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34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花見</a:t>
            </a:r>
            <a:endParaRPr b="0" lang="en-US" sz="3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34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特集</a:t>
            </a:r>
            <a:endParaRPr b="0" lang="en-US" sz="3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7" descr=""/>
          <p:cNvPicPr/>
          <p:nvPr/>
        </p:nvPicPr>
        <p:blipFill>
          <a:blip r:embed="rId3"/>
          <a:stretch/>
        </p:blipFill>
        <p:spPr>
          <a:xfrm rot="1758600">
            <a:off x="8254800" y="15338520"/>
            <a:ext cx="2298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深田 龍</cp:lastModifiedBy>
  <dcterms:modified xsi:type="dcterms:W3CDTF">2013-02-18T08:19:47Z</dcterms:modified>
  <cp:revision>16</cp:revision>
  <dc:subject/>
  <dc:title>PowerPoint プレゼンテーション</dc:title>
</cp:coreProperties>
</file>