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6988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0AC8-E0B0-4C71-9648-EDDDF7865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73D3-FDDF-49D4-8CF1-2D9EF027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8F54-5B80-47A5-BF05-F1ACD777A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720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404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36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720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404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84DD-17D7-4C8A-A322-5E77C4627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9CAA-DCCD-4874-9B70-52CCF07D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8B4F-0F1D-4AFD-8057-62DEA2E0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2715-5034-4098-B2DB-7246DDD9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EC6D-513C-4E16-90EA-7A28DB1D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360" y="428400"/>
            <a:ext cx="3888396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C4FE-1401-4F71-81FF-3006A074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4467-BF45-4243-86E3-5338E8EC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4F10-30E9-475B-9324-80F45A74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EE59-98F1-4723-9735-2444EA81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49000"/>
          </a:bodyPr>
          <a:p>
            <a:pPr marL="565200" indent="-56520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1" marL="1225800" indent="-4712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2" marL="1886400" indent="-37728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3" marL="2640600" indent="-37728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4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5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6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1800" y="9910440"/>
            <a:ext cx="1368108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39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2A53ACA0-D451-4DDE-A8D3-3B3D5A65A87B}" type="slidenum">
              <a:rPr b="0" lang="ja-JP" sz="4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1" descr="ha_to.png"/>
          <p:cNvPicPr/>
          <p:nvPr/>
        </p:nvPicPr>
        <p:blipFill>
          <a:blip r:embed="rId1"/>
          <a:stretch/>
        </p:blipFill>
        <p:spPr>
          <a:xfrm>
            <a:off x="0" y="17640"/>
            <a:ext cx="43205400" cy="10675800"/>
          </a:xfrm>
          <a:prstGeom prst="rect">
            <a:avLst/>
          </a:prstGeom>
          <a:ln w="0">
            <a:noFill/>
          </a:ln>
        </p:spPr>
      </p:pic>
      <p:pic>
        <p:nvPicPr>
          <p:cNvPr id="42" name="図 3" descr="hart.png"/>
          <p:cNvPicPr/>
          <p:nvPr/>
        </p:nvPicPr>
        <p:blipFill>
          <a:blip r:embed="rId2"/>
          <a:stretch/>
        </p:blipFill>
        <p:spPr>
          <a:xfrm>
            <a:off x="18794520" y="4051440"/>
            <a:ext cx="3246480" cy="3240000"/>
          </a:xfrm>
          <a:prstGeom prst="rect">
            <a:avLst/>
          </a:prstGeom>
          <a:ln w="0">
            <a:noFill/>
          </a:ln>
        </p:spPr>
      </p:pic>
      <p:pic>
        <p:nvPicPr>
          <p:cNvPr id="43" name="図 4" descr="happy.png"/>
          <p:cNvPicPr/>
          <p:nvPr/>
        </p:nvPicPr>
        <p:blipFill>
          <a:blip r:embed="rId3"/>
          <a:stretch/>
        </p:blipFill>
        <p:spPr>
          <a:xfrm>
            <a:off x="4321080" y="2322360"/>
            <a:ext cx="365014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00:52:52Z</dcterms:created>
  <dc:creator>seisaku</dc:creator>
  <dc:description/>
  <dc:language>en-US</dc:language>
  <cp:lastModifiedBy>株式会社ジーン macpro2</cp:lastModifiedBy>
  <cp:lastPrinted>2013-02-07T07:38:20Z</cp:lastPrinted>
  <dcterms:modified xsi:type="dcterms:W3CDTF">2013-03-15T09:05:38Z</dcterms:modified>
  <cp:revision>29</cp:revision>
  <dc:subject/>
  <dc:title>スライド 1</dc:title>
</cp:coreProperties>
</file>