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7225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4EA-FDEC-4302-98D1-C59295C2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291700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7840" y="6178320"/>
            <a:ext cx="291700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65C-44B8-478D-9B0B-30B93EFA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784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468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20D-DF8C-47BC-9DCD-E5600EA0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408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2600" y="249408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7840" y="617832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7832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2600" y="617832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9F8-1B69-4569-9C2D-EFEFB607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7840" y="2494080"/>
            <a:ext cx="29170080" cy="70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3F3-417C-4336-A259-27E4230E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291700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521-BCD7-4B1C-A852-29BE6AF5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044-7085-45E1-B62A-3F2A2928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B10-E901-4891-AFCE-4DC1B94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7840" y="428400"/>
            <a:ext cx="291700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699-CC31-43E4-8E6B-715854B0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784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823-BB63-4CAF-97BA-93853CB6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468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54A-FB2A-4C3F-897C-D4EEC82E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7840" y="6178320"/>
            <a:ext cx="291700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257-64AA-4D74-8368-18EF92B2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7840" y="2494080"/>
            <a:ext cx="291700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17840" y="9905760"/>
            <a:ext cx="756576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9640" y="9905760"/>
            <a:ext cx="102664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1440" y="9905760"/>
            <a:ext cx="756612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741D1D18-49FA-4FF3-8E8C-7A3C59AE3EB3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/>
          <p:cNvSpPr/>
          <p:nvPr/>
        </p:nvSpPr>
        <p:spPr>
          <a:xfrm>
            <a:off x="0" y="0"/>
            <a:ext cx="32405760" cy="1068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3"/>
          <p:cNvSpPr/>
          <p:nvPr/>
        </p:nvSpPr>
        <p:spPr>
          <a:xfrm>
            <a:off x="0" y="9048600"/>
            <a:ext cx="32405760" cy="16718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18"/>
          <p:cNvSpPr/>
          <p:nvPr/>
        </p:nvSpPr>
        <p:spPr>
          <a:xfrm>
            <a:off x="952560" y="9383760"/>
            <a:ext cx="19065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ja-JP" sz="7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１０月３１日はハロウィン！みんなで盛り上がろう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図 2" descr=""/>
          <p:cNvPicPr/>
          <p:nvPr/>
        </p:nvPicPr>
        <p:blipFill>
          <a:blip r:embed="rId1"/>
          <a:stretch/>
        </p:blipFill>
        <p:spPr>
          <a:xfrm>
            <a:off x="18307080" y="888840"/>
            <a:ext cx="7023240" cy="6350040"/>
          </a:xfrm>
          <a:prstGeom prst="rect">
            <a:avLst/>
          </a:prstGeom>
          <a:ln w="0">
            <a:noFill/>
          </a:ln>
        </p:spPr>
      </p:pic>
      <p:pic>
        <p:nvPicPr>
          <p:cNvPr id="45" name="図 4" descr=""/>
          <p:cNvPicPr/>
          <p:nvPr/>
        </p:nvPicPr>
        <p:blipFill>
          <a:blip r:embed="rId2"/>
          <a:stretch/>
        </p:blipFill>
        <p:spPr>
          <a:xfrm>
            <a:off x="22732920" y="1112760"/>
            <a:ext cx="9271080" cy="9258480"/>
          </a:xfrm>
          <a:prstGeom prst="rect">
            <a:avLst/>
          </a:prstGeom>
          <a:ln w="0">
            <a:noFill/>
          </a:ln>
        </p:spPr>
      </p:pic>
      <p:pic>
        <p:nvPicPr>
          <p:cNvPr id="46" name="図 5" descr=""/>
          <p:cNvPicPr/>
          <p:nvPr/>
        </p:nvPicPr>
        <p:blipFill>
          <a:blip r:embed="rId3"/>
          <a:stretch/>
        </p:blipFill>
        <p:spPr>
          <a:xfrm>
            <a:off x="952560" y="406440"/>
            <a:ext cx="17589600" cy="81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深田 龍</cp:lastModifiedBy>
  <dcterms:modified xsi:type="dcterms:W3CDTF">2013-02-18T08:24:09Z</dcterms:modified>
  <cp:revision>13</cp:revision>
  <dc:subject/>
  <dc:title>PowerPoint プレゼンテーション</dc:title>
</cp:coreProperties>
</file>