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3206988" cy="10691813"/>
  <p:notesSz cx="9928225" cy="42437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0DE6-E19B-4256-B731-F929B34FA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60360" y="29880"/>
            <a:ext cx="38883960" cy="2580480"/>
          </a:xfrm>
          <a:prstGeom prst="rect">
            <a:avLst/>
          </a:prstGeom>
          <a:noFill/>
          <a:ln w="0">
            <a:noFill/>
          </a:ln>
        </p:spPr>
        <p:txBody>
          <a:bodyPr lIns="309600" rIns="309600" tIns="154800" bIns="154800" anchor="ctr">
            <a:noAutofit/>
          </a:bodyPr>
          <a:p>
            <a:pPr indent="0" algn="ctr">
              <a:buNone/>
              <a:tabLst>
                <a:tab algn="l" pos="0"/>
                <a:tab algn="l" pos="3095640"/>
                <a:tab algn="l" pos="6191280"/>
                <a:tab algn="l" pos="9286920"/>
              </a:tabLst>
            </a:pP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38883960" cy="3365640"/>
          </a:xfrm>
          <a:prstGeom prst="rect">
            <a:avLst/>
          </a:prstGeom>
          <a:noFill/>
          <a:ln w="0">
            <a:noFill/>
          </a:ln>
        </p:spPr>
        <p:txBody>
          <a:bodyPr lIns="309600" rIns="309600" tIns="154800" bIns="154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95640"/>
                <a:tab algn="l" pos="6191280"/>
                <a:tab algn="l" pos="92869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60360" y="6180840"/>
            <a:ext cx="38883960" cy="3365640"/>
          </a:xfrm>
          <a:prstGeom prst="rect">
            <a:avLst/>
          </a:prstGeom>
          <a:noFill/>
          <a:ln w="0">
            <a:noFill/>
          </a:ln>
        </p:spPr>
        <p:txBody>
          <a:bodyPr lIns="309600" rIns="309600" tIns="154800" bIns="154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95640"/>
                <a:tab algn="l" pos="6191280"/>
                <a:tab algn="l" pos="92869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095B-0316-43D1-9B9B-67190C2C1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60360" y="29880"/>
            <a:ext cx="38883960" cy="2580480"/>
          </a:xfrm>
          <a:prstGeom prst="rect">
            <a:avLst/>
          </a:prstGeom>
          <a:noFill/>
          <a:ln w="0">
            <a:noFill/>
          </a:ln>
        </p:spPr>
        <p:txBody>
          <a:bodyPr lIns="309600" rIns="309600" tIns="154800" bIns="154800" anchor="ctr">
            <a:noAutofit/>
          </a:bodyPr>
          <a:p>
            <a:pPr indent="0" algn="ctr">
              <a:buNone/>
              <a:tabLst>
                <a:tab algn="l" pos="0"/>
                <a:tab algn="l" pos="3095640"/>
                <a:tab algn="l" pos="6191280"/>
                <a:tab algn="l" pos="9286920"/>
              </a:tabLst>
            </a:pP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9600" rIns="309600" tIns="154800" bIns="154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95640"/>
                <a:tab algn="l" pos="6191280"/>
                <a:tab algn="l" pos="92869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9600" rIns="309600" tIns="154800" bIns="154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95640"/>
                <a:tab algn="l" pos="6191280"/>
                <a:tab algn="l" pos="92869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6036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9600" rIns="309600" tIns="154800" bIns="154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95640"/>
                <a:tab algn="l" pos="6191280"/>
                <a:tab algn="l" pos="92869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208492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9600" rIns="309600" tIns="154800" bIns="154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95640"/>
                <a:tab algn="l" pos="6191280"/>
                <a:tab algn="l" pos="92869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3389-29D2-4795-A07F-5C7840016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60360" y="29880"/>
            <a:ext cx="38883960" cy="2580480"/>
          </a:xfrm>
          <a:prstGeom prst="rect">
            <a:avLst/>
          </a:prstGeom>
          <a:noFill/>
          <a:ln w="0">
            <a:noFill/>
          </a:ln>
        </p:spPr>
        <p:txBody>
          <a:bodyPr lIns="309600" rIns="309600" tIns="154800" bIns="154800" anchor="ctr">
            <a:noAutofit/>
          </a:bodyPr>
          <a:p>
            <a:pPr indent="0" algn="ctr">
              <a:buNone/>
              <a:tabLst>
                <a:tab algn="l" pos="0"/>
                <a:tab algn="l" pos="3095640"/>
                <a:tab algn="l" pos="6191280"/>
                <a:tab algn="l" pos="9286920"/>
              </a:tabLst>
            </a:pP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9600" rIns="309600" tIns="154800" bIns="154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95640"/>
                <a:tab algn="l" pos="6191280"/>
                <a:tab algn="l" pos="92869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307200" y="249516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9600" rIns="309600" tIns="154800" bIns="154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95640"/>
                <a:tab algn="l" pos="6191280"/>
                <a:tab algn="l" pos="92869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8454040" y="249516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9600" rIns="309600" tIns="154800" bIns="154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95640"/>
                <a:tab algn="l" pos="6191280"/>
                <a:tab algn="l" pos="92869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60360" y="618084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9600" rIns="309600" tIns="154800" bIns="154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95640"/>
                <a:tab algn="l" pos="6191280"/>
                <a:tab algn="l" pos="92869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307200" y="618084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9600" rIns="309600" tIns="154800" bIns="154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95640"/>
                <a:tab algn="l" pos="6191280"/>
                <a:tab algn="l" pos="92869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8454040" y="618084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9600" rIns="309600" tIns="154800" bIns="154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95640"/>
                <a:tab algn="l" pos="6191280"/>
                <a:tab algn="l" pos="92869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9B81-ACAA-44E7-96BC-27A43B3E4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60360" y="29880"/>
            <a:ext cx="38883960" cy="2580480"/>
          </a:xfrm>
          <a:prstGeom prst="rect">
            <a:avLst/>
          </a:prstGeom>
          <a:noFill/>
          <a:ln w="0">
            <a:noFill/>
          </a:ln>
        </p:spPr>
        <p:txBody>
          <a:bodyPr lIns="309600" rIns="309600" tIns="154800" bIns="154800" anchor="ctr">
            <a:noAutofit/>
          </a:bodyPr>
          <a:p>
            <a:pPr indent="0" algn="ctr">
              <a:buNone/>
              <a:tabLst>
                <a:tab algn="l" pos="0"/>
                <a:tab algn="l" pos="3095640"/>
                <a:tab algn="l" pos="6191280"/>
                <a:tab algn="l" pos="9286920"/>
              </a:tabLst>
            </a:pP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60360" y="2495160"/>
            <a:ext cx="38883960" cy="70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01"/>
              </a:spcBef>
              <a:buNone/>
              <a:tabLst>
                <a:tab algn="l" pos="0"/>
                <a:tab algn="l" pos="3095640"/>
                <a:tab algn="l" pos="6191280"/>
                <a:tab algn="l" pos="92869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7080-F8EC-409A-898F-3DB20BFA8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60360" y="29880"/>
            <a:ext cx="38883960" cy="2580480"/>
          </a:xfrm>
          <a:prstGeom prst="rect">
            <a:avLst/>
          </a:prstGeom>
          <a:noFill/>
          <a:ln w="0">
            <a:noFill/>
          </a:ln>
        </p:spPr>
        <p:txBody>
          <a:bodyPr lIns="309600" rIns="309600" tIns="154800" bIns="154800" anchor="ctr">
            <a:noAutofit/>
          </a:bodyPr>
          <a:p>
            <a:pPr indent="0" algn="ctr">
              <a:buNone/>
              <a:tabLst>
                <a:tab algn="l" pos="0"/>
                <a:tab algn="l" pos="3095640"/>
                <a:tab algn="l" pos="6191280"/>
                <a:tab algn="l" pos="9286920"/>
              </a:tabLst>
            </a:pP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38883960" cy="7056360"/>
          </a:xfrm>
          <a:prstGeom prst="rect">
            <a:avLst/>
          </a:prstGeom>
          <a:noFill/>
          <a:ln w="0">
            <a:noFill/>
          </a:ln>
        </p:spPr>
        <p:txBody>
          <a:bodyPr lIns="309600" rIns="309600" tIns="154800" bIns="154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95640"/>
                <a:tab algn="l" pos="6191280"/>
                <a:tab algn="l" pos="92869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1FAD-09D6-428C-94A8-ECB5C03C3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60360" y="29880"/>
            <a:ext cx="38883960" cy="2580480"/>
          </a:xfrm>
          <a:prstGeom prst="rect">
            <a:avLst/>
          </a:prstGeom>
          <a:noFill/>
          <a:ln w="0">
            <a:noFill/>
          </a:ln>
        </p:spPr>
        <p:txBody>
          <a:bodyPr lIns="309600" rIns="309600" tIns="154800" bIns="154800" anchor="ctr">
            <a:noAutofit/>
          </a:bodyPr>
          <a:p>
            <a:pPr indent="0" algn="ctr">
              <a:buNone/>
              <a:tabLst>
                <a:tab algn="l" pos="0"/>
                <a:tab algn="l" pos="3095640"/>
                <a:tab algn="l" pos="6191280"/>
                <a:tab algn="l" pos="9286920"/>
              </a:tabLst>
            </a:pP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9600" rIns="309600" tIns="154800" bIns="154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95640"/>
                <a:tab algn="l" pos="6191280"/>
                <a:tab algn="l" pos="92869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9600" rIns="309600" tIns="154800" bIns="154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95640"/>
                <a:tab algn="l" pos="6191280"/>
                <a:tab algn="l" pos="92869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C9B4-B54A-4833-A430-ED5A6FB18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60360" y="29880"/>
            <a:ext cx="38883960" cy="2580480"/>
          </a:xfrm>
          <a:prstGeom prst="rect">
            <a:avLst/>
          </a:prstGeom>
          <a:noFill/>
          <a:ln w="0">
            <a:noFill/>
          </a:ln>
        </p:spPr>
        <p:txBody>
          <a:bodyPr lIns="309600" rIns="309600" tIns="154800" bIns="154800" anchor="ctr">
            <a:noAutofit/>
          </a:bodyPr>
          <a:p>
            <a:pPr indent="0" algn="ctr">
              <a:buNone/>
              <a:tabLst>
                <a:tab algn="l" pos="0"/>
                <a:tab algn="l" pos="3095640"/>
                <a:tab algn="l" pos="6191280"/>
                <a:tab algn="l" pos="9286920"/>
              </a:tabLst>
            </a:pP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51FD-CFAD-4F15-BD3C-549E91C3A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60360" y="428760"/>
            <a:ext cx="38883960" cy="826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01"/>
              </a:spcBef>
              <a:tabLst>
                <a:tab algn="l" pos="0"/>
                <a:tab algn="l" pos="3095640"/>
                <a:tab algn="l" pos="6191280"/>
                <a:tab algn="l" pos="92869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7ACD-7D20-4D32-80E6-6413F2F08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60360" y="29880"/>
            <a:ext cx="38883960" cy="2580480"/>
          </a:xfrm>
          <a:prstGeom prst="rect">
            <a:avLst/>
          </a:prstGeom>
          <a:noFill/>
          <a:ln w="0">
            <a:noFill/>
          </a:ln>
        </p:spPr>
        <p:txBody>
          <a:bodyPr lIns="309600" rIns="309600" tIns="154800" bIns="154800" anchor="ctr">
            <a:noAutofit/>
          </a:bodyPr>
          <a:p>
            <a:pPr indent="0" algn="ctr">
              <a:buNone/>
              <a:tabLst>
                <a:tab algn="l" pos="0"/>
                <a:tab algn="l" pos="3095640"/>
                <a:tab algn="l" pos="6191280"/>
                <a:tab algn="l" pos="9286920"/>
              </a:tabLst>
            </a:pP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9600" rIns="309600" tIns="154800" bIns="154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95640"/>
                <a:tab algn="l" pos="6191280"/>
                <a:tab algn="l" pos="92869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9600" rIns="309600" tIns="154800" bIns="154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95640"/>
                <a:tab algn="l" pos="6191280"/>
                <a:tab algn="l" pos="92869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6036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9600" rIns="309600" tIns="154800" bIns="154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95640"/>
                <a:tab algn="l" pos="6191280"/>
                <a:tab algn="l" pos="92869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F603-878B-4A40-AEF8-66E18A4B8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60360" y="29880"/>
            <a:ext cx="38883960" cy="2580480"/>
          </a:xfrm>
          <a:prstGeom prst="rect">
            <a:avLst/>
          </a:prstGeom>
          <a:noFill/>
          <a:ln w="0">
            <a:noFill/>
          </a:ln>
        </p:spPr>
        <p:txBody>
          <a:bodyPr lIns="309600" rIns="309600" tIns="154800" bIns="154800" anchor="ctr">
            <a:noAutofit/>
          </a:bodyPr>
          <a:p>
            <a:pPr indent="0" algn="ctr">
              <a:buNone/>
              <a:tabLst>
                <a:tab algn="l" pos="0"/>
                <a:tab algn="l" pos="3095640"/>
                <a:tab algn="l" pos="6191280"/>
                <a:tab algn="l" pos="9286920"/>
              </a:tabLst>
            </a:pP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9600" rIns="309600" tIns="154800" bIns="154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95640"/>
                <a:tab algn="l" pos="6191280"/>
                <a:tab algn="l" pos="92869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9600" rIns="309600" tIns="154800" bIns="154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95640"/>
                <a:tab algn="l" pos="6191280"/>
                <a:tab algn="l" pos="92869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08492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9600" rIns="309600" tIns="154800" bIns="154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95640"/>
                <a:tab algn="l" pos="6191280"/>
                <a:tab algn="l" pos="92869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255E-B7C1-4994-A62B-75D42EBB5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60360" y="29880"/>
            <a:ext cx="38883960" cy="2580480"/>
          </a:xfrm>
          <a:prstGeom prst="rect">
            <a:avLst/>
          </a:prstGeom>
          <a:noFill/>
          <a:ln w="0">
            <a:noFill/>
          </a:ln>
        </p:spPr>
        <p:txBody>
          <a:bodyPr lIns="309600" rIns="309600" tIns="154800" bIns="154800" anchor="ctr">
            <a:noAutofit/>
          </a:bodyPr>
          <a:p>
            <a:pPr indent="0" algn="ctr">
              <a:buNone/>
              <a:tabLst>
                <a:tab algn="l" pos="0"/>
                <a:tab algn="l" pos="3095640"/>
                <a:tab algn="l" pos="6191280"/>
                <a:tab algn="l" pos="9286920"/>
              </a:tabLst>
            </a:pP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9600" rIns="309600" tIns="154800" bIns="154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95640"/>
                <a:tab algn="l" pos="6191280"/>
                <a:tab algn="l" pos="92869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9600" rIns="309600" tIns="154800" bIns="154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95640"/>
                <a:tab algn="l" pos="6191280"/>
                <a:tab algn="l" pos="92869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60360" y="6180840"/>
            <a:ext cx="38883960" cy="3365640"/>
          </a:xfrm>
          <a:prstGeom prst="rect">
            <a:avLst/>
          </a:prstGeom>
          <a:noFill/>
          <a:ln w="0">
            <a:noFill/>
          </a:ln>
        </p:spPr>
        <p:txBody>
          <a:bodyPr lIns="309600" rIns="309600" tIns="154800" bIns="154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95640"/>
                <a:tab algn="l" pos="6191280"/>
                <a:tab algn="l" pos="92869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5F6A-DB87-4F8D-9E8F-73C1A4DB4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60360" y="428760"/>
            <a:ext cx="38883960" cy="1782720"/>
          </a:xfrm>
          <a:prstGeom prst="rect">
            <a:avLst/>
          </a:prstGeom>
          <a:noFill/>
          <a:ln w="0">
            <a:noFill/>
          </a:ln>
        </p:spPr>
        <p:txBody>
          <a:bodyPr lIns="309600" rIns="309600" tIns="154800" bIns="154800" anchor="ctr">
            <a:noAutofit/>
          </a:bodyPr>
          <a:p>
            <a:pPr indent="0" algn="ctr">
              <a:buNone/>
              <a:tabLst>
                <a:tab algn="l" pos="0"/>
                <a:tab algn="l" pos="3095640"/>
                <a:tab algn="l" pos="6191280"/>
                <a:tab algn="l" pos="9286920"/>
              </a:tabLst>
            </a:pPr>
            <a:r>
              <a:rPr b="0" lang="en-US" sz="1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60360" y="2495160"/>
            <a:ext cx="38883960" cy="7056360"/>
          </a:xfrm>
          <a:prstGeom prst="rect">
            <a:avLst/>
          </a:prstGeom>
          <a:noFill/>
          <a:ln w="0">
            <a:noFill/>
          </a:ln>
        </p:spPr>
        <p:txBody>
          <a:bodyPr lIns="309600" rIns="309600" tIns="154800" bIns="154800" anchor="t">
            <a:normAutofit fontScale="49000"/>
          </a:bodyPr>
          <a:p>
            <a:pPr marL="568440" indent="-56844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95640"/>
                <a:tab algn="l" pos="6191280"/>
                <a:tab algn="l" pos="928692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1" marL="1232640" indent="-47448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95640"/>
                <a:tab algn="l" pos="6191280"/>
                <a:tab algn="l" pos="928692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2" marL="1896120" indent="-37944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95640"/>
                <a:tab algn="l" pos="6191280"/>
                <a:tab algn="l" pos="928692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3" marL="2654640" indent="-37872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95640"/>
                <a:tab algn="l" pos="6191280"/>
                <a:tab algn="l" pos="928692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4" marL="3413880" indent="-37944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95640"/>
                <a:tab algn="l" pos="6191280"/>
                <a:tab algn="l" pos="928692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5" marL="3413880" indent="-37944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95640"/>
                <a:tab algn="l" pos="6191280"/>
                <a:tab algn="l" pos="928692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6" marL="3413880" indent="-37944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95640"/>
                <a:tab algn="l" pos="6191280"/>
                <a:tab algn="l" pos="928692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60360" y="9737640"/>
            <a:ext cx="10080360" cy="743040"/>
          </a:xfrm>
          <a:prstGeom prst="rect">
            <a:avLst/>
          </a:prstGeom>
          <a:noFill/>
          <a:ln w="0">
            <a:noFill/>
          </a:ln>
        </p:spPr>
        <p:txBody>
          <a:bodyPr lIns="309600" rIns="309600" tIns="154800" bIns="154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761800" y="9737640"/>
            <a:ext cx="13681080" cy="743040"/>
          </a:xfrm>
          <a:prstGeom prst="rect">
            <a:avLst/>
          </a:prstGeom>
          <a:noFill/>
          <a:ln w="0">
            <a:noFill/>
          </a:ln>
        </p:spPr>
        <p:txBody>
          <a:bodyPr lIns="309600" rIns="309600" tIns="154800" bIns="154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963960" y="9737640"/>
            <a:ext cx="10080360" cy="743040"/>
          </a:xfrm>
          <a:prstGeom prst="rect">
            <a:avLst/>
          </a:prstGeom>
          <a:noFill/>
          <a:ln w="0">
            <a:noFill/>
          </a:ln>
        </p:spPr>
        <p:txBody>
          <a:bodyPr lIns="309600" rIns="309600" tIns="154800" bIns="154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A1CA0-2EB2-4CA0-805A-72029AE020D2}" type="slidenum">
              <a:rPr b="0" lang="en-US" sz="4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12"/>
          <p:cNvSpPr/>
          <p:nvPr/>
        </p:nvSpPr>
        <p:spPr>
          <a:xfrm>
            <a:off x="0" y="0"/>
            <a:ext cx="43205400" cy="1069344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図形グループ 12"/>
          <p:cNvGrpSpPr/>
          <p:nvPr/>
        </p:nvGrpSpPr>
        <p:grpSpPr>
          <a:xfrm>
            <a:off x="-360" y="0"/>
            <a:ext cx="22156920" cy="10693440"/>
            <a:chOff x="-360" y="0"/>
            <a:chExt cx="22156920" cy="10693440"/>
          </a:xfrm>
        </p:grpSpPr>
        <p:sp>
          <p:nvSpPr>
            <p:cNvPr id="43" name="正方形/長方形 19"/>
            <p:cNvSpPr/>
            <p:nvPr/>
          </p:nvSpPr>
          <p:spPr>
            <a:xfrm flipH="1" flipV="1">
              <a:off x="-720" y="0"/>
              <a:ext cx="14401800" cy="10693440"/>
            </a:xfrm>
            <a:prstGeom prst="rect">
              <a:avLst/>
            </a:prstGeom>
            <a:solidFill>
              <a:srgbClr val="102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3079800"/>
                  <a:tab algn="l" pos="6159600"/>
                  <a:tab algn="l" pos="9239400"/>
                </a:tabLst>
              </a:pPr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直角三角形 20"/>
            <p:cNvSpPr/>
            <p:nvPr/>
          </p:nvSpPr>
          <p:spPr>
            <a:xfrm flipV="1">
              <a:off x="14330160" y="0"/>
              <a:ext cx="7826400" cy="10693440"/>
            </a:xfrm>
            <a:prstGeom prst="rtTriangle">
              <a:avLst/>
            </a:prstGeom>
            <a:solidFill>
              <a:srgbClr val="102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3079800"/>
                  <a:tab algn="l" pos="6159600"/>
                  <a:tab algn="l" pos="9239400"/>
                </a:tabLst>
              </a:pPr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" name="図 14" descr=""/>
          <p:cNvPicPr/>
          <p:nvPr/>
        </p:nvPicPr>
        <p:blipFill>
          <a:blip r:embed="rId1"/>
          <a:stretch/>
        </p:blipFill>
        <p:spPr>
          <a:xfrm>
            <a:off x="792000" y="666720"/>
            <a:ext cx="3581640" cy="2502000"/>
          </a:xfrm>
          <a:prstGeom prst="rect">
            <a:avLst/>
          </a:prstGeom>
          <a:ln w="0">
            <a:noFill/>
          </a:ln>
        </p:spPr>
      </p:pic>
      <p:pic>
        <p:nvPicPr>
          <p:cNvPr id="46" name="図 15" descr=""/>
          <p:cNvPicPr/>
          <p:nvPr/>
        </p:nvPicPr>
        <p:blipFill>
          <a:blip r:embed="rId2"/>
          <a:stretch/>
        </p:blipFill>
        <p:spPr>
          <a:xfrm>
            <a:off x="38957400" y="7578720"/>
            <a:ext cx="3581280" cy="2502000"/>
          </a:xfrm>
          <a:prstGeom prst="rect">
            <a:avLst/>
          </a:prstGeom>
          <a:ln w="0">
            <a:noFill/>
          </a:ln>
        </p:spPr>
      </p:pic>
      <p:pic>
        <p:nvPicPr>
          <p:cNvPr id="47" name="図 16" descr=""/>
          <p:cNvPicPr/>
          <p:nvPr/>
        </p:nvPicPr>
        <p:blipFill>
          <a:blip r:embed="rId3"/>
          <a:stretch/>
        </p:blipFill>
        <p:spPr>
          <a:xfrm>
            <a:off x="2664000" y="2754360"/>
            <a:ext cx="12864960" cy="5105520"/>
          </a:xfrm>
          <a:prstGeom prst="rect">
            <a:avLst/>
          </a:prstGeom>
          <a:ln w="0">
            <a:noFill/>
          </a:ln>
        </p:spPr>
      </p:pic>
      <p:pic>
        <p:nvPicPr>
          <p:cNvPr id="48" name="図 17" descr=""/>
          <p:cNvPicPr/>
          <p:nvPr/>
        </p:nvPicPr>
        <p:blipFill>
          <a:blip r:embed="rId4"/>
          <a:stretch/>
        </p:blipFill>
        <p:spPr>
          <a:xfrm>
            <a:off x="17100720" y="2394000"/>
            <a:ext cx="24231600" cy="6235560"/>
          </a:xfrm>
          <a:prstGeom prst="rect">
            <a:avLst/>
          </a:prstGeom>
          <a:ln w="0">
            <a:noFill/>
          </a:ln>
        </p:spPr>
      </p:pic>
      <p:pic>
        <p:nvPicPr>
          <p:cNvPr id="49" name="図 18" descr=""/>
          <p:cNvPicPr/>
          <p:nvPr/>
        </p:nvPicPr>
        <p:blipFill>
          <a:blip r:embed="rId5"/>
          <a:stretch/>
        </p:blipFill>
        <p:spPr>
          <a:xfrm>
            <a:off x="17029080" y="2286000"/>
            <a:ext cx="24104520" cy="610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5T02:19:30Z</dcterms:created>
  <dc:creator>ishida (6646)</dc:creator>
  <dc:description/>
  <dc:language>en-US</dc:language>
  <cp:lastModifiedBy>Jean</cp:lastModifiedBy>
  <cp:lastPrinted>2013-02-14T01:21:18Z</cp:lastPrinted>
  <dcterms:modified xsi:type="dcterms:W3CDTF">2013-02-14T10:30:14Z</dcterms:modified>
  <cp:revision>47</cp:revision>
  <dc:subject/>
  <dc:title>スライド 1</dc:title>
</cp:coreProperties>
</file>