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801600" cy="9601200"/>
  <p:notesSz cx="9928225" cy="4243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40D-0CA5-4E54-A8DF-170D120B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4120"/>
            <a:ext cx="11522160" cy="160200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560"/>
            <a:ext cx="1152216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49040"/>
            <a:ext cx="1152216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C9E-7580-41A6-9AF4-BC4CB39C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4120"/>
            <a:ext cx="11522160" cy="160200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560"/>
            <a:ext cx="562248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560"/>
            <a:ext cx="562248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49040"/>
            <a:ext cx="562248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49040"/>
            <a:ext cx="562248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680-DCEC-4796-B944-C2FE5A82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4120"/>
            <a:ext cx="11522160" cy="160200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560"/>
            <a:ext cx="370980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560"/>
            <a:ext cx="370980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560"/>
            <a:ext cx="370980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49040"/>
            <a:ext cx="370980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49040"/>
            <a:ext cx="370980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49040"/>
            <a:ext cx="370980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495-4420-4303-8137-579BF343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4120"/>
            <a:ext cx="11522160" cy="160200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560"/>
            <a:ext cx="115221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5CC-59C2-4A75-A067-8008D4BD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4120"/>
            <a:ext cx="11522160" cy="160200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560"/>
            <a:ext cx="11522160" cy="63356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C0B-CB33-43C3-AD20-67D9D383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4120"/>
            <a:ext cx="11522160" cy="160200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560"/>
            <a:ext cx="5622480" cy="63356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560"/>
            <a:ext cx="5622480" cy="63356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12C-DDD7-4EF1-A37F-581FE0F3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4120"/>
            <a:ext cx="11522160" cy="160200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45A-6EF3-4062-A1ED-C3A2D689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4120"/>
            <a:ext cx="11522160" cy="74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3F0-2F19-4494-968D-12ABAD8C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4120"/>
            <a:ext cx="11522160" cy="160200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560"/>
            <a:ext cx="562248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560"/>
            <a:ext cx="5622480" cy="63356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49040"/>
            <a:ext cx="562248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28F-7C14-41A9-AE8F-68863551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4120"/>
            <a:ext cx="11522160" cy="160200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560"/>
            <a:ext cx="5622480" cy="63356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560"/>
            <a:ext cx="562248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49040"/>
            <a:ext cx="562248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ADD-0566-4AE6-9DD3-C5A8DF68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4120"/>
            <a:ext cx="11522160" cy="160200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560"/>
            <a:ext cx="562248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560"/>
            <a:ext cx="562248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49040"/>
            <a:ext cx="11522160" cy="30218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C48-955C-4CD9-B7D5-8C41DFA3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4120"/>
            <a:ext cx="11522160" cy="160200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560"/>
            <a:ext cx="11522160" cy="63356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marL="480960" indent="-480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017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812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51080" indent="-3207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95480" indent="-3204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95480" indent="-3204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95480" indent="-3204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1880"/>
            <a:ext cx="2987640" cy="6685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1880"/>
            <a:ext cx="4054320" cy="6685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1880"/>
            <a:ext cx="2987640" cy="6685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B0D7-D55D-4F44-8C8D-B1ED436761AF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0"/>
          <p:cNvSpPr/>
          <p:nvPr/>
        </p:nvSpPr>
        <p:spPr>
          <a:xfrm>
            <a:off x="0" y="0"/>
            <a:ext cx="12801600" cy="9601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図形グループ 12"/>
          <p:cNvGrpSpPr/>
          <p:nvPr/>
        </p:nvGrpSpPr>
        <p:grpSpPr>
          <a:xfrm>
            <a:off x="-360" y="0"/>
            <a:ext cx="8849160" cy="9601200"/>
            <a:chOff x="-360" y="0"/>
            <a:chExt cx="8849160" cy="9601200"/>
          </a:xfrm>
        </p:grpSpPr>
        <p:sp>
          <p:nvSpPr>
            <p:cNvPr id="43" name="正方形/長方形 13"/>
            <p:cNvSpPr/>
            <p:nvPr/>
          </p:nvSpPr>
          <p:spPr>
            <a:xfrm flipH="1" flipV="1">
              <a:off x="-720" y="0"/>
              <a:ext cx="5751720" cy="960120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角三角形 14"/>
            <p:cNvSpPr/>
            <p:nvPr/>
          </p:nvSpPr>
          <p:spPr>
            <a:xfrm flipV="1">
              <a:off x="5723280" y="0"/>
              <a:ext cx="3125520" cy="9601200"/>
            </a:xfrm>
            <a:prstGeom prst="rtTriangle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図 14" descr=""/>
          <p:cNvPicPr/>
          <p:nvPr/>
        </p:nvPicPr>
        <p:blipFill>
          <a:blip r:embed="rId1"/>
          <a:stretch/>
        </p:blipFill>
        <p:spPr>
          <a:xfrm>
            <a:off x="480960" y="477720"/>
            <a:ext cx="2654280" cy="1854360"/>
          </a:xfrm>
          <a:prstGeom prst="rect">
            <a:avLst/>
          </a:prstGeom>
          <a:ln w="0">
            <a:noFill/>
          </a:ln>
        </p:spPr>
      </p:pic>
      <p:pic>
        <p:nvPicPr>
          <p:cNvPr id="46" name="図 15" descr=""/>
          <p:cNvPicPr/>
          <p:nvPr/>
        </p:nvPicPr>
        <p:blipFill>
          <a:blip r:embed="rId2"/>
          <a:stretch/>
        </p:blipFill>
        <p:spPr>
          <a:xfrm>
            <a:off x="9617040" y="7399440"/>
            <a:ext cx="2654280" cy="1854000"/>
          </a:xfrm>
          <a:prstGeom prst="rect">
            <a:avLst/>
          </a:prstGeom>
          <a:ln w="0">
            <a:noFill/>
          </a:ln>
        </p:spPr>
      </p:pic>
      <p:pic>
        <p:nvPicPr>
          <p:cNvPr id="47" name="図 16" descr=""/>
          <p:cNvPicPr/>
          <p:nvPr/>
        </p:nvPicPr>
        <p:blipFill>
          <a:blip r:embed="rId3"/>
          <a:stretch/>
        </p:blipFill>
        <p:spPr>
          <a:xfrm>
            <a:off x="2944800" y="1828800"/>
            <a:ext cx="7488360" cy="2971800"/>
          </a:xfrm>
          <a:prstGeom prst="rect">
            <a:avLst/>
          </a:prstGeom>
          <a:ln w="0">
            <a:noFill/>
          </a:ln>
        </p:spPr>
      </p:pic>
      <p:pic>
        <p:nvPicPr>
          <p:cNvPr id="48" name="図 17" descr=""/>
          <p:cNvPicPr/>
          <p:nvPr/>
        </p:nvPicPr>
        <p:blipFill>
          <a:blip r:embed="rId4"/>
          <a:stretch/>
        </p:blipFill>
        <p:spPr>
          <a:xfrm>
            <a:off x="1071720" y="5267160"/>
            <a:ext cx="10777320" cy="2773440"/>
          </a:xfrm>
          <a:prstGeom prst="rect">
            <a:avLst/>
          </a:prstGeom>
          <a:ln w="0">
            <a:noFill/>
          </a:ln>
        </p:spPr>
      </p:pic>
      <p:pic>
        <p:nvPicPr>
          <p:cNvPr id="49" name="図 18" descr=""/>
          <p:cNvPicPr/>
          <p:nvPr/>
        </p:nvPicPr>
        <p:blipFill>
          <a:blip r:embed="rId5"/>
          <a:stretch/>
        </p:blipFill>
        <p:spPr>
          <a:xfrm>
            <a:off x="1000080" y="5159520"/>
            <a:ext cx="107218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02:19:30Z</dcterms:created>
  <dc:creator>ishida (6646)</dc:creator>
  <dc:description/>
  <dc:language>en-US</dc:language>
  <cp:lastModifiedBy>tec</cp:lastModifiedBy>
  <cp:lastPrinted>2013-02-14T01:21:18Z</cp:lastPrinted>
  <dcterms:modified xsi:type="dcterms:W3CDTF">2013-03-15T05:52:06Z</dcterms:modified>
  <cp:revision>48</cp:revision>
  <dc:subject/>
  <dc:title>スライド 1</dc:title>
</cp:coreProperties>
</file>