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D47-0FDF-4FEB-879E-12B21A4C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961884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24973920"/>
            <a:ext cx="961884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866-5324-46D8-891E-E1D63C9A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2497392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2497392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A93-DDBA-439F-B253-81D3344E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1008036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1008036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2497392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2497392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24973920"/>
            <a:ext cx="30970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267-A087-4467-A16B-8B88DA81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0080360"/>
            <a:ext cx="961884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47C-0590-44CA-9C6D-CB62F53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961884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FF8-43C3-4136-94BA-457933A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469368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0080360"/>
            <a:ext cx="469368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45B-DFE6-40A3-AFEB-CFCF9B3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DF9-8389-4286-AF2E-5706A63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1728360"/>
            <a:ext cx="9618840" cy="333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EB4-48AE-4933-A098-AC8DA72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0080360"/>
            <a:ext cx="469368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2497392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9D9-0069-4307-ABEC-445DCC7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469368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2497392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9EE-917A-496B-AD8F-5156E78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0080360"/>
            <a:ext cx="469368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24973920"/>
            <a:ext cx="9618840" cy="136011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00D-4E86-4418-8541-66572A0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1728360"/>
            <a:ext cx="9618840" cy="7202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0080360"/>
            <a:ext cx="9618840" cy="28514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4080" cy="2301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40044600"/>
            <a:ext cx="3386160" cy="2301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40044600"/>
            <a:ext cx="2494080" cy="2301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BC31214F-3130-4A24-B43C-76063874FE1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そば.psd"/>
          <p:cNvPicPr/>
          <p:nvPr/>
        </p:nvPicPr>
        <p:blipFill>
          <a:blip r:embed="rId1"/>
          <a:stretch/>
        </p:blipFill>
        <p:spPr>
          <a:xfrm>
            <a:off x="0" y="0"/>
            <a:ext cx="10688760" cy="43205400"/>
          </a:xfrm>
          <a:prstGeom prst="rect">
            <a:avLst/>
          </a:prstGeom>
          <a:ln w="0">
            <a:noFill/>
          </a:ln>
        </p:spPr>
      </p:pic>
      <p:pic>
        <p:nvPicPr>
          <p:cNvPr id="42" name="図 1" descr=""/>
          <p:cNvPicPr/>
          <p:nvPr/>
        </p:nvPicPr>
        <p:blipFill>
          <a:blip r:embed="rId2"/>
          <a:stretch/>
        </p:blipFill>
        <p:spPr>
          <a:xfrm>
            <a:off x="749160" y="1143000"/>
            <a:ext cx="9182160" cy="32143680"/>
          </a:xfrm>
          <a:prstGeom prst="rect">
            <a:avLst/>
          </a:prstGeom>
          <a:ln w="0">
            <a:noFill/>
          </a:ln>
        </p:spPr>
      </p:pic>
      <p:pic>
        <p:nvPicPr>
          <p:cNvPr id="43" name="図 3" descr=""/>
          <p:cNvPicPr/>
          <p:nvPr/>
        </p:nvPicPr>
        <p:blipFill>
          <a:blip r:embed="rId3"/>
          <a:stretch/>
        </p:blipFill>
        <p:spPr>
          <a:xfrm>
            <a:off x="6548400" y="9755280"/>
            <a:ext cx="339084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Jean</cp:lastModifiedBy>
  <cp:lastPrinted>2013-02-19T01:31:58Z</cp:lastPrinted>
  <dcterms:modified xsi:type="dcterms:W3CDTF">2013-02-19T06:55:36Z</dcterms:modified>
  <cp:revision>28</cp:revision>
  <dc:subject/>
  <dc:title>PowerPoint プレゼンテーション</dc:title>
</cp:coreProperties>
</file>