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1FC7-6368-4205-97E6-9D634AC61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A9E7-9566-42E3-A694-7DCE2A6B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1969-4F5A-4F26-A869-0238D034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A482-0E74-43CA-8AB2-3861DEB5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771E-1A22-44EF-B5B6-3BA906F5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754E-CCA4-4B34-A7D5-BF445403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701D-FFC9-4912-932D-2E9BFC6A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E9BD-F057-44A6-A3E1-28D9C95D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2068-50B9-46F8-A8A1-5A6EF98F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CC28-CED7-47B4-A3F2-619ACADC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B5D8-3A00-432F-BB6F-E6DE559C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C53E-78BD-45CE-BE58-FE30F097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49000"/>
          </a:bodyPr>
          <a:p>
            <a:pPr marL="565200" indent="-5652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225800" indent="-4712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1886400" indent="-3772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2640600" indent="-37728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910440"/>
            <a:ext cx="1368108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F81C7C27-668E-4434-89C0-341484E14C95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3" descr="年越しうどん横.jpg"/>
          <p:cNvPicPr/>
          <p:nvPr/>
        </p:nvPicPr>
        <p:blipFill>
          <a:blip r:embed="rId1"/>
          <a:stretch/>
        </p:blipFill>
        <p:spPr>
          <a:xfrm>
            <a:off x="1440" y="0"/>
            <a:ext cx="43202520" cy="10693440"/>
          </a:xfrm>
          <a:prstGeom prst="rect">
            <a:avLst/>
          </a:prstGeom>
          <a:ln w="0">
            <a:noFill/>
          </a:ln>
        </p:spPr>
      </p:pic>
      <p:sp>
        <p:nvSpPr>
          <p:cNvPr id="42" name="Freeform 6"/>
          <p:cNvSpPr/>
          <p:nvPr/>
        </p:nvSpPr>
        <p:spPr>
          <a:xfrm>
            <a:off x="2055960" y="2886120"/>
            <a:ext cx="26352360" cy="244440"/>
          </a:xfrm>
          <a:custGeom>
            <a:avLst/>
            <a:gdLst>
              <a:gd name="textAreaLeft" fmla="*/ 0 w 26352360"/>
              <a:gd name="textAreaRight" fmla="*/ 26352720 w 263523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6600" h="154">
                <a:moveTo>
                  <a:pt x="16522" y="154"/>
                </a:moveTo>
                <a:lnTo>
                  <a:pt x="78" y="154"/>
                </a:lnTo>
                <a:lnTo>
                  <a:pt x="78" y="154"/>
                </a:lnTo>
                <a:lnTo>
                  <a:pt x="62" y="154"/>
                </a:lnTo>
                <a:lnTo>
                  <a:pt x="48" y="148"/>
                </a:lnTo>
                <a:lnTo>
                  <a:pt x="34" y="142"/>
                </a:lnTo>
                <a:lnTo>
                  <a:pt x="22" y="132"/>
                </a:lnTo>
                <a:lnTo>
                  <a:pt x="12" y="120"/>
                </a:lnTo>
                <a:lnTo>
                  <a:pt x="6" y="108"/>
                </a:lnTo>
                <a:lnTo>
                  <a:pt x="2" y="92"/>
                </a:lnTo>
                <a:lnTo>
                  <a:pt x="0" y="78"/>
                </a:lnTo>
                <a:lnTo>
                  <a:pt x="0" y="78"/>
                </a:lnTo>
                <a:lnTo>
                  <a:pt x="2" y="62"/>
                </a:lnTo>
                <a:lnTo>
                  <a:pt x="6" y="48"/>
                </a:lnTo>
                <a:lnTo>
                  <a:pt x="12" y="34"/>
                </a:lnTo>
                <a:lnTo>
                  <a:pt x="22" y="22"/>
                </a:lnTo>
                <a:lnTo>
                  <a:pt x="34" y="14"/>
                </a:lnTo>
                <a:lnTo>
                  <a:pt x="48" y="6"/>
                </a:lnTo>
                <a:lnTo>
                  <a:pt x="62" y="2"/>
                </a:lnTo>
                <a:lnTo>
                  <a:pt x="78" y="0"/>
                </a:lnTo>
                <a:lnTo>
                  <a:pt x="16522" y="0"/>
                </a:lnTo>
                <a:lnTo>
                  <a:pt x="16522" y="0"/>
                </a:lnTo>
                <a:lnTo>
                  <a:pt x="16538" y="2"/>
                </a:lnTo>
                <a:lnTo>
                  <a:pt x="16552" y="6"/>
                </a:lnTo>
                <a:lnTo>
                  <a:pt x="16566" y="14"/>
                </a:lnTo>
                <a:lnTo>
                  <a:pt x="16576" y="22"/>
                </a:lnTo>
                <a:lnTo>
                  <a:pt x="16586" y="34"/>
                </a:lnTo>
                <a:lnTo>
                  <a:pt x="16594" y="48"/>
                </a:lnTo>
                <a:lnTo>
                  <a:pt x="16598" y="62"/>
                </a:lnTo>
                <a:lnTo>
                  <a:pt x="16600" y="78"/>
                </a:lnTo>
                <a:lnTo>
                  <a:pt x="16600" y="78"/>
                </a:lnTo>
                <a:lnTo>
                  <a:pt x="16598" y="92"/>
                </a:lnTo>
                <a:lnTo>
                  <a:pt x="16594" y="108"/>
                </a:lnTo>
                <a:lnTo>
                  <a:pt x="16586" y="120"/>
                </a:lnTo>
                <a:lnTo>
                  <a:pt x="16576" y="132"/>
                </a:lnTo>
                <a:lnTo>
                  <a:pt x="16566" y="142"/>
                </a:lnTo>
                <a:lnTo>
                  <a:pt x="16552" y="148"/>
                </a:lnTo>
                <a:lnTo>
                  <a:pt x="16538" y="154"/>
                </a:lnTo>
                <a:lnTo>
                  <a:pt x="16522" y="154"/>
                </a:lnTo>
                <a:lnTo>
                  <a:pt x="16522" y="1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グループ化 20"/>
          <p:cNvGrpSpPr/>
          <p:nvPr/>
        </p:nvGrpSpPr>
        <p:grpSpPr>
          <a:xfrm>
            <a:off x="1811160" y="3825720"/>
            <a:ext cx="25936920" cy="4559400"/>
            <a:chOff x="1811160" y="3825720"/>
            <a:chExt cx="25936920" cy="4559400"/>
          </a:xfrm>
        </p:grpSpPr>
        <p:sp>
          <p:nvSpPr>
            <p:cNvPr id="44" name="Freeform 21"/>
            <p:cNvSpPr/>
            <p:nvPr/>
          </p:nvSpPr>
          <p:spPr>
            <a:xfrm>
              <a:off x="1811160" y="3901680"/>
              <a:ext cx="8848800" cy="4483440"/>
            </a:xfrm>
            <a:custGeom>
              <a:avLst/>
              <a:gdLst>
                <a:gd name="textAreaLeft" fmla="*/ 0 w 8848800"/>
                <a:gd name="textAreaRight" fmla="*/ 8849160 w 8848800"/>
                <a:gd name="textAreaTop" fmla="*/ 0 h 4483440"/>
                <a:gd name="textAreaBottom" fmla="*/ 4483800 h 4483440"/>
              </a:gdLst>
              <a:ahLst/>
              <a:rect l="textAreaLeft" t="textAreaTop" r="textAreaRight" b="textAreaBottom"/>
              <a:pathLst>
                <a:path w="5574" h="2824">
                  <a:moveTo>
                    <a:pt x="5496" y="2120"/>
                  </a:moveTo>
                  <a:lnTo>
                    <a:pt x="5496" y="2120"/>
                  </a:lnTo>
                  <a:lnTo>
                    <a:pt x="5514" y="2094"/>
                  </a:lnTo>
                  <a:lnTo>
                    <a:pt x="5530" y="2066"/>
                  </a:lnTo>
                  <a:lnTo>
                    <a:pt x="5544" y="2038"/>
                  </a:lnTo>
                  <a:lnTo>
                    <a:pt x="5554" y="2008"/>
                  </a:lnTo>
                  <a:lnTo>
                    <a:pt x="5564" y="1978"/>
                  </a:lnTo>
                  <a:lnTo>
                    <a:pt x="5570" y="1946"/>
                  </a:lnTo>
                  <a:lnTo>
                    <a:pt x="5572" y="1914"/>
                  </a:lnTo>
                  <a:lnTo>
                    <a:pt x="5574" y="1880"/>
                  </a:lnTo>
                  <a:lnTo>
                    <a:pt x="5574" y="1880"/>
                  </a:lnTo>
                  <a:lnTo>
                    <a:pt x="5572" y="1834"/>
                  </a:lnTo>
                  <a:lnTo>
                    <a:pt x="5568" y="1790"/>
                  </a:lnTo>
                  <a:lnTo>
                    <a:pt x="5560" y="1750"/>
                  </a:lnTo>
                  <a:lnTo>
                    <a:pt x="5550" y="1712"/>
                  </a:lnTo>
                  <a:lnTo>
                    <a:pt x="5536" y="1676"/>
                  </a:lnTo>
                  <a:lnTo>
                    <a:pt x="5518" y="1646"/>
                  </a:lnTo>
                  <a:lnTo>
                    <a:pt x="5500" y="1616"/>
                  </a:lnTo>
                  <a:lnTo>
                    <a:pt x="5476" y="1590"/>
                  </a:lnTo>
                  <a:lnTo>
                    <a:pt x="5476" y="1590"/>
                  </a:lnTo>
                  <a:lnTo>
                    <a:pt x="5458" y="1572"/>
                  </a:lnTo>
                  <a:lnTo>
                    <a:pt x="5438" y="1554"/>
                  </a:lnTo>
                  <a:lnTo>
                    <a:pt x="5416" y="1538"/>
                  </a:lnTo>
                  <a:lnTo>
                    <a:pt x="5394" y="1526"/>
                  </a:lnTo>
                  <a:lnTo>
                    <a:pt x="5394" y="1526"/>
                  </a:lnTo>
                  <a:lnTo>
                    <a:pt x="5438" y="1444"/>
                  </a:lnTo>
                  <a:lnTo>
                    <a:pt x="5478" y="1360"/>
                  </a:lnTo>
                  <a:lnTo>
                    <a:pt x="5478" y="1360"/>
                  </a:lnTo>
                  <a:lnTo>
                    <a:pt x="5498" y="1314"/>
                  </a:lnTo>
                  <a:lnTo>
                    <a:pt x="5512" y="1270"/>
                  </a:lnTo>
                  <a:lnTo>
                    <a:pt x="5516" y="1250"/>
                  </a:lnTo>
                  <a:lnTo>
                    <a:pt x="5520" y="1228"/>
                  </a:lnTo>
                  <a:lnTo>
                    <a:pt x="5522" y="1208"/>
                  </a:lnTo>
                  <a:lnTo>
                    <a:pt x="5522" y="1190"/>
                  </a:lnTo>
                  <a:lnTo>
                    <a:pt x="5522" y="1190"/>
                  </a:lnTo>
                  <a:lnTo>
                    <a:pt x="5522" y="1156"/>
                  </a:lnTo>
                  <a:lnTo>
                    <a:pt x="5518" y="1124"/>
                  </a:lnTo>
                  <a:lnTo>
                    <a:pt x="5510" y="1094"/>
                  </a:lnTo>
                  <a:lnTo>
                    <a:pt x="5502" y="1064"/>
                  </a:lnTo>
                  <a:lnTo>
                    <a:pt x="5490" y="1036"/>
                  </a:lnTo>
                  <a:lnTo>
                    <a:pt x="5474" y="1010"/>
                  </a:lnTo>
                  <a:lnTo>
                    <a:pt x="5458" y="986"/>
                  </a:lnTo>
                  <a:lnTo>
                    <a:pt x="5438" y="964"/>
                  </a:lnTo>
                  <a:lnTo>
                    <a:pt x="5438" y="964"/>
                  </a:lnTo>
                  <a:lnTo>
                    <a:pt x="5458" y="940"/>
                  </a:lnTo>
                  <a:lnTo>
                    <a:pt x="5474" y="916"/>
                  </a:lnTo>
                  <a:lnTo>
                    <a:pt x="5490" y="888"/>
                  </a:lnTo>
                  <a:lnTo>
                    <a:pt x="5500" y="858"/>
                  </a:lnTo>
                  <a:lnTo>
                    <a:pt x="5510" y="828"/>
                  </a:lnTo>
                  <a:lnTo>
                    <a:pt x="5516" y="794"/>
                  </a:lnTo>
                  <a:lnTo>
                    <a:pt x="5522" y="758"/>
                  </a:lnTo>
                  <a:lnTo>
                    <a:pt x="5522" y="722"/>
                  </a:lnTo>
                  <a:lnTo>
                    <a:pt x="5522" y="722"/>
                  </a:lnTo>
                  <a:lnTo>
                    <a:pt x="5522" y="684"/>
                  </a:lnTo>
                  <a:lnTo>
                    <a:pt x="5518" y="650"/>
                  </a:lnTo>
                  <a:lnTo>
                    <a:pt x="5510" y="616"/>
                  </a:lnTo>
                  <a:lnTo>
                    <a:pt x="5500" y="584"/>
                  </a:lnTo>
                  <a:lnTo>
                    <a:pt x="5490" y="554"/>
                  </a:lnTo>
                  <a:lnTo>
                    <a:pt x="5474" y="526"/>
                  </a:lnTo>
                  <a:lnTo>
                    <a:pt x="5458" y="502"/>
                  </a:lnTo>
                  <a:lnTo>
                    <a:pt x="5440" y="478"/>
                  </a:lnTo>
                  <a:lnTo>
                    <a:pt x="5440" y="478"/>
                  </a:lnTo>
                  <a:lnTo>
                    <a:pt x="5446" y="456"/>
                  </a:lnTo>
                  <a:lnTo>
                    <a:pt x="5452" y="430"/>
                  </a:lnTo>
                  <a:lnTo>
                    <a:pt x="5456" y="402"/>
                  </a:lnTo>
                  <a:lnTo>
                    <a:pt x="5458" y="372"/>
                  </a:lnTo>
                  <a:lnTo>
                    <a:pt x="5458" y="372"/>
                  </a:lnTo>
                  <a:lnTo>
                    <a:pt x="5456" y="344"/>
                  </a:lnTo>
                  <a:lnTo>
                    <a:pt x="5452" y="314"/>
                  </a:lnTo>
                  <a:lnTo>
                    <a:pt x="5444" y="284"/>
                  </a:lnTo>
                  <a:lnTo>
                    <a:pt x="5434" y="254"/>
                  </a:lnTo>
                  <a:lnTo>
                    <a:pt x="5434" y="254"/>
                  </a:lnTo>
                  <a:lnTo>
                    <a:pt x="5420" y="212"/>
                  </a:lnTo>
                  <a:lnTo>
                    <a:pt x="5404" y="178"/>
                  </a:lnTo>
                  <a:lnTo>
                    <a:pt x="5390" y="150"/>
                  </a:lnTo>
                  <a:lnTo>
                    <a:pt x="5374" y="126"/>
                  </a:lnTo>
                  <a:lnTo>
                    <a:pt x="5374" y="126"/>
                  </a:lnTo>
                  <a:lnTo>
                    <a:pt x="5356" y="106"/>
                  </a:lnTo>
                  <a:lnTo>
                    <a:pt x="5336" y="86"/>
                  </a:lnTo>
                  <a:lnTo>
                    <a:pt x="5312" y="66"/>
                  </a:lnTo>
                  <a:lnTo>
                    <a:pt x="5282" y="48"/>
                  </a:lnTo>
                  <a:lnTo>
                    <a:pt x="5266" y="40"/>
                  </a:lnTo>
                  <a:lnTo>
                    <a:pt x="5250" y="32"/>
                  </a:lnTo>
                  <a:lnTo>
                    <a:pt x="5230" y="26"/>
                  </a:lnTo>
                  <a:lnTo>
                    <a:pt x="5212" y="20"/>
                  </a:lnTo>
                  <a:lnTo>
                    <a:pt x="5190" y="14"/>
                  </a:lnTo>
                  <a:lnTo>
                    <a:pt x="5168" y="12"/>
                  </a:lnTo>
                  <a:lnTo>
                    <a:pt x="5144" y="10"/>
                  </a:lnTo>
                  <a:lnTo>
                    <a:pt x="5120" y="8"/>
                  </a:lnTo>
                  <a:lnTo>
                    <a:pt x="5120" y="8"/>
                  </a:lnTo>
                  <a:lnTo>
                    <a:pt x="5084" y="10"/>
                  </a:lnTo>
                  <a:lnTo>
                    <a:pt x="5050" y="16"/>
                  </a:lnTo>
                  <a:lnTo>
                    <a:pt x="5016" y="26"/>
                  </a:lnTo>
                  <a:lnTo>
                    <a:pt x="4982" y="40"/>
                  </a:lnTo>
                  <a:lnTo>
                    <a:pt x="4982" y="40"/>
                  </a:lnTo>
                  <a:lnTo>
                    <a:pt x="4944" y="58"/>
                  </a:lnTo>
                  <a:lnTo>
                    <a:pt x="4928" y="70"/>
                  </a:lnTo>
                  <a:lnTo>
                    <a:pt x="4910" y="82"/>
                  </a:lnTo>
                  <a:lnTo>
                    <a:pt x="4910" y="82"/>
                  </a:lnTo>
                  <a:lnTo>
                    <a:pt x="4904" y="78"/>
                  </a:lnTo>
                  <a:lnTo>
                    <a:pt x="4904" y="78"/>
                  </a:lnTo>
                  <a:lnTo>
                    <a:pt x="4882" y="64"/>
                  </a:lnTo>
                  <a:lnTo>
                    <a:pt x="4860" y="52"/>
                  </a:lnTo>
                  <a:lnTo>
                    <a:pt x="4836" y="42"/>
                  </a:lnTo>
                  <a:lnTo>
                    <a:pt x="4810" y="34"/>
                  </a:lnTo>
                  <a:lnTo>
                    <a:pt x="4784" y="28"/>
                  </a:lnTo>
                  <a:lnTo>
                    <a:pt x="4754" y="24"/>
                  </a:lnTo>
                  <a:lnTo>
                    <a:pt x="4726" y="20"/>
                  </a:lnTo>
                  <a:lnTo>
                    <a:pt x="4696" y="20"/>
                  </a:lnTo>
                  <a:lnTo>
                    <a:pt x="4696" y="20"/>
                  </a:lnTo>
                  <a:lnTo>
                    <a:pt x="4656" y="20"/>
                  </a:lnTo>
                  <a:lnTo>
                    <a:pt x="4620" y="24"/>
                  </a:lnTo>
                  <a:lnTo>
                    <a:pt x="4586" y="32"/>
                  </a:lnTo>
                  <a:lnTo>
                    <a:pt x="4556" y="40"/>
                  </a:lnTo>
                  <a:lnTo>
                    <a:pt x="4526" y="52"/>
                  </a:lnTo>
                  <a:lnTo>
                    <a:pt x="4500" y="68"/>
                  </a:lnTo>
                  <a:lnTo>
                    <a:pt x="4474" y="84"/>
                  </a:lnTo>
                  <a:lnTo>
                    <a:pt x="4452" y="104"/>
                  </a:lnTo>
                  <a:lnTo>
                    <a:pt x="4452" y="104"/>
                  </a:lnTo>
                  <a:lnTo>
                    <a:pt x="4432" y="126"/>
                  </a:lnTo>
                  <a:lnTo>
                    <a:pt x="4414" y="152"/>
                  </a:lnTo>
                  <a:lnTo>
                    <a:pt x="4400" y="180"/>
                  </a:lnTo>
                  <a:lnTo>
                    <a:pt x="4386" y="210"/>
                  </a:lnTo>
                  <a:lnTo>
                    <a:pt x="4378" y="240"/>
                  </a:lnTo>
                  <a:lnTo>
                    <a:pt x="4370" y="274"/>
                  </a:lnTo>
                  <a:lnTo>
                    <a:pt x="4366" y="312"/>
                  </a:lnTo>
                  <a:lnTo>
                    <a:pt x="4366" y="350"/>
                  </a:lnTo>
                  <a:lnTo>
                    <a:pt x="4366" y="350"/>
                  </a:lnTo>
                  <a:lnTo>
                    <a:pt x="4366" y="380"/>
                  </a:lnTo>
                  <a:lnTo>
                    <a:pt x="4322" y="380"/>
                  </a:lnTo>
                  <a:lnTo>
                    <a:pt x="4322" y="380"/>
                  </a:lnTo>
                  <a:lnTo>
                    <a:pt x="4290" y="382"/>
                  </a:lnTo>
                  <a:lnTo>
                    <a:pt x="4258" y="384"/>
                  </a:lnTo>
                  <a:lnTo>
                    <a:pt x="4228" y="388"/>
                  </a:lnTo>
                  <a:lnTo>
                    <a:pt x="4198" y="394"/>
                  </a:lnTo>
                  <a:lnTo>
                    <a:pt x="4170" y="400"/>
                  </a:lnTo>
                  <a:lnTo>
                    <a:pt x="4142" y="408"/>
                  </a:lnTo>
                  <a:lnTo>
                    <a:pt x="4116" y="418"/>
                  </a:lnTo>
                  <a:lnTo>
                    <a:pt x="4092" y="428"/>
                  </a:lnTo>
                  <a:lnTo>
                    <a:pt x="4092" y="428"/>
                  </a:lnTo>
                  <a:lnTo>
                    <a:pt x="4078" y="404"/>
                  </a:lnTo>
                  <a:lnTo>
                    <a:pt x="4064" y="380"/>
                  </a:lnTo>
                  <a:lnTo>
                    <a:pt x="4044" y="356"/>
                  </a:lnTo>
                  <a:lnTo>
                    <a:pt x="4022" y="336"/>
                  </a:lnTo>
                  <a:lnTo>
                    <a:pt x="4022" y="336"/>
                  </a:lnTo>
                  <a:lnTo>
                    <a:pt x="4000" y="320"/>
                  </a:lnTo>
                  <a:lnTo>
                    <a:pt x="3978" y="304"/>
                  </a:lnTo>
                  <a:lnTo>
                    <a:pt x="3952" y="292"/>
                  </a:lnTo>
                  <a:lnTo>
                    <a:pt x="3926" y="282"/>
                  </a:lnTo>
                  <a:lnTo>
                    <a:pt x="3896" y="274"/>
                  </a:lnTo>
                  <a:lnTo>
                    <a:pt x="3866" y="268"/>
                  </a:lnTo>
                  <a:lnTo>
                    <a:pt x="3834" y="266"/>
                  </a:lnTo>
                  <a:lnTo>
                    <a:pt x="3800" y="264"/>
                  </a:lnTo>
                  <a:lnTo>
                    <a:pt x="3778" y="264"/>
                  </a:lnTo>
                  <a:lnTo>
                    <a:pt x="3778" y="264"/>
                  </a:lnTo>
                  <a:lnTo>
                    <a:pt x="3772" y="236"/>
                  </a:lnTo>
                  <a:lnTo>
                    <a:pt x="3766" y="208"/>
                  </a:lnTo>
                  <a:lnTo>
                    <a:pt x="3756" y="182"/>
                  </a:lnTo>
                  <a:lnTo>
                    <a:pt x="3744" y="158"/>
                  </a:lnTo>
                  <a:lnTo>
                    <a:pt x="3730" y="134"/>
                  </a:lnTo>
                  <a:lnTo>
                    <a:pt x="3712" y="112"/>
                  </a:lnTo>
                  <a:lnTo>
                    <a:pt x="3694" y="90"/>
                  </a:lnTo>
                  <a:lnTo>
                    <a:pt x="3672" y="70"/>
                  </a:lnTo>
                  <a:lnTo>
                    <a:pt x="3672" y="70"/>
                  </a:lnTo>
                  <a:lnTo>
                    <a:pt x="3650" y="54"/>
                  </a:lnTo>
                  <a:lnTo>
                    <a:pt x="3626" y="40"/>
                  </a:lnTo>
                  <a:lnTo>
                    <a:pt x="3602" y="28"/>
                  </a:lnTo>
                  <a:lnTo>
                    <a:pt x="3574" y="18"/>
                  </a:lnTo>
                  <a:lnTo>
                    <a:pt x="3544" y="10"/>
                  </a:lnTo>
                  <a:lnTo>
                    <a:pt x="3512" y="4"/>
                  </a:lnTo>
                  <a:lnTo>
                    <a:pt x="3478" y="2"/>
                  </a:lnTo>
                  <a:lnTo>
                    <a:pt x="3442" y="0"/>
                  </a:lnTo>
                  <a:lnTo>
                    <a:pt x="3442" y="0"/>
                  </a:lnTo>
                  <a:lnTo>
                    <a:pt x="3404" y="2"/>
                  </a:lnTo>
                  <a:lnTo>
                    <a:pt x="3370" y="4"/>
                  </a:lnTo>
                  <a:lnTo>
                    <a:pt x="3338" y="10"/>
                  </a:lnTo>
                  <a:lnTo>
                    <a:pt x="3308" y="18"/>
                  </a:lnTo>
                  <a:lnTo>
                    <a:pt x="3280" y="28"/>
                  </a:lnTo>
                  <a:lnTo>
                    <a:pt x="3254" y="40"/>
                  </a:lnTo>
                  <a:lnTo>
                    <a:pt x="3230" y="54"/>
                  </a:lnTo>
                  <a:lnTo>
                    <a:pt x="3208" y="72"/>
                  </a:lnTo>
                  <a:lnTo>
                    <a:pt x="3208" y="72"/>
                  </a:lnTo>
                  <a:lnTo>
                    <a:pt x="3200" y="80"/>
                  </a:lnTo>
                  <a:lnTo>
                    <a:pt x="3200" y="80"/>
                  </a:lnTo>
                  <a:lnTo>
                    <a:pt x="3180" y="100"/>
                  </a:lnTo>
                  <a:lnTo>
                    <a:pt x="3164" y="122"/>
                  </a:lnTo>
                  <a:lnTo>
                    <a:pt x="3148" y="144"/>
                  </a:lnTo>
                  <a:lnTo>
                    <a:pt x="3136" y="166"/>
                  </a:lnTo>
                  <a:lnTo>
                    <a:pt x="3124" y="190"/>
                  </a:lnTo>
                  <a:lnTo>
                    <a:pt x="3116" y="214"/>
                  </a:lnTo>
                  <a:lnTo>
                    <a:pt x="3108" y="238"/>
                  </a:lnTo>
                  <a:lnTo>
                    <a:pt x="3104" y="264"/>
                  </a:lnTo>
                  <a:lnTo>
                    <a:pt x="3080" y="264"/>
                  </a:lnTo>
                  <a:lnTo>
                    <a:pt x="3080" y="264"/>
                  </a:lnTo>
                  <a:lnTo>
                    <a:pt x="3046" y="266"/>
                  </a:lnTo>
                  <a:lnTo>
                    <a:pt x="3014" y="268"/>
                  </a:lnTo>
                  <a:lnTo>
                    <a:pt x="2982" y="274"/>
                  </a:lnTo>
                  <a:lnTo>
                    <a:pt x="2954" y="282"/>
                  </a:lnTo>
                  <a:lnTo>
                    <a:pt x="2928" y="292"/>
                  </a:lnTo>
                  <a:lnTo>
                    <a:pt x="2902" y="306"/>
                  </a:lnTo>
                  <a:lnTo>
                    <a:pt x="2880" y="320"/>
                  </a:lnTo>
                  <a:lnTo>
                    <a:pt x="2860" y="338"/>
                  </a:lnTo>
                  <a:lnTo>
                    <a:pt x="2860" y="338"/>
                  </a:lnTo>
                  <a:lnTo>
                    <a:pt x="2836" y="360"/>
                  </a:lnTo>
                  <a:lnTo>
                    <a:pt x="2816" y="386"/>
                  </a:lnTo>
                  <a:lnTo>
                    <a:pt x="2800" y="414"/>
                  </a:lnTo>
                  <a:lnTo>
                    <a:pt x="2786" y="444"/>
                  </a:lnTo>
                  <a:lnTo>
                    <a:pt x="2776" y="478"/>
                  </a:lnTo>
                  <a:lnTo>
                    <a:pt x="2768" y="514"/>
                  </a:lnTo>
                  <a:lnTo>
                    <a:pt x="2762" y="552"/>
                  </a:lnTo>
                  <a:lnTo>
                    <a:pt x="2762" y="594"/>
                  </a:lnTo>
                  <a:lnTo>
                    <a:pt x="2762" y="594"/>
                  </a:lnTo>
                  <a:lnTo>
                    <a:pt x="2762" y="620"/>
                  </a:lnTo>
                  <a:lnTo>
                    <a:pt x="2764" y="642"/>
                  </a:lnTo>
                  <a:lnTo>
                    <a:pt x="2766" y="664"/>
                  </a:lnTo>
                  <a:lnTo>
                    <a:pt x="2770" y="686"/>
                  </a:lnTo>
                  <a:lnTo>
                    <a:pt x="2780" y="724"/>
                  </a:lnTo>
                  <a:lnTo>
                    <a:pt x="2794" y="756"/>
                  </a:lnTo>
                  <a:lnTo>
                    <a:pt x="2810" y="784"/>
                  </a:lnTo>
                  <a:lnTo>
                    <a:pt x="2828" y="810"/>
                  </a:lnTo>
                  <a:lnTo>
                    <a:pt x="2846" y="830"/>
                  </a:lnTo>
                  <a:lnTo>
                    <a:pt x="2864" y="846"/>
                  </a:lnTo>
                  <a:lnTo>
                    <a:pt x="2864" y="846"/>
                  </a:lnTo>
                  <a:lnTo>
                    <a:pt x="2880" y="858"/>
                  </a:lnTo>
                  <a:lnTo>
                    <a:pt x="2898" y="872"/>
                  </a:lnTo>
                  <a:lnTo>
                    <a:pt x="2898" y="872"/>
                  </a:lnTo>
                  <a:lnTo>
                    <a:pt x="2876" y="882"/>
                  </a:lnTo>
                  <a:lnTo>
                    <a:pt x="2854" y="894"/>
                  </a:lnTo>
                  <a:lnTo>
                    <a:pt x="2834" y="906"/>
                  </a:lnTo>
                  <a:lnTo>
                    <a:pt x="2816" y="922"/>
                  </a:lnTo>
                  <a:lnTo>
                    <a:pt x="2816" y="922"/>
                  </a:lnTo>
                  <a:lnTo>
                    <a:pt x="2794" y="944"/>
                  </a:lnTo>
                  <a:lnTo>
                    <a:pt x="2774" y="970"/>
                  </a:lnTo>
                  <a:lnTo>
                    <a:pt x="2756" y="998"/>
                  </a:lnTo>
                  <a:lnTo>
                    <a:pt x="2742" y="1030"/>
                  </a:lnTo>
                  <a:lnTo>
                    <a:pt x="2732" y="1062"/>
                  </a:lnTo>
                  <a:lnTo>
                    <a:pt x="2724" y="1098"/>
                  </a:lnTo>
                  <a:lnTo>
                    <a:pt x="2720" y="1138"/>
                  </a:lnTo>
                  <a:lnTo>
                    <a:pt x="2718" y="1178"/>
                  </a:lnTo>
                  <a:lnTo>
                    <a:pt x="2718" y="1178"/>
                  </a:lnTo>
                  <a:lnTo>
                    <a:pt x="2718" y="1204"/>
                  </a:lnTo>
                  <a:lnTo>
                    <a:pt x="2720" y="1228"/>
                  </a:lnTo>
                  <a:lnTo>
                    <a:pt x="2724" y="1250"/>
                  </a:lnTo>
                  <a:lnTo>
                    <a:pt x="2728" y="1272"/>
                  </a:lnTo>
                  <a:lnTo>
                    <a:pt x="2738" y="1310"/>
                  </a:lnTo>
                  <a:lnTo>
                    <a:pt x="2752" y="1342"/>
                  </a:lnTo>
                  <a:lnTo>
                    <a:pt x="2768" y="1372"/>
                  </a:lnTo>
                  <a:lnTo>
                    <a:pt x="2786" y="1396"/>
                  </a:lnTo>
                  <a:lnTo>
                    <a:pt x="2804" y="1416"/>
                  </a:lnTo>
                  <a:lnTo>
                    <a:pt x="2822" y="1432"/>
                  </a:lnTo>
                  <a:lnTo>
                    <a:pt x="2822" y="1432"/>
                  </a:lnTo>
                  <a:lnTo>
                    <a:pt x="2826" y="1434"/>
                  </a:lnTo>
                  <a:lnTo>
                    <a:pt x="2826" y="1434"/>
                  </a:lnTo>
                  <a:lnTo>
                    <a:pt x="2812" y="1462"/>
                  </a:lnTo>
                  <a:lnTo>
                    <a:pt x="2804" y="1490"/>
                  </a:lnTo>
                  <a:lnTo>
                    <a:pt x="2798" y="1520"/>
                  </a:lnTo>
                  <a:lnTo>
                    <a:pt x="2794" y="1552"/>
                  </a:lnTo>
                  <a:lnTo>
                    <a:pt x="2794" y="1552"/>
                  </a:lnTo>
                  <a:lnTo>
                    <a:pt x="2794" y="1560"/>
                  </a:lnTo>
                  <a:lnTo>
                    <a:pt x="2794" y="1708"/>
                  </a:lnTo>
                  <a:lnTo>
                    <a:pt x="2794" y="1708"/>
                  </a:lnTo>
                  <a:lnTo>
                    <a:pt x="2784" y="1690"/>
                  </a:lnTo>
                  <a:lnTo>
                    <a:pt x="2772" y="1674"/>
                  </a:lnTo>
                  <a:lnTo>
                    <a:pt x="2760" y="1658"/>
                  </a:lnTo>
                  <a:lnTo>
                    <a:pt x="2746" y="1644"/>
                  </a:lnTo>
                  <a:lnTo>
                    <a:pt x="2746" y="1644"/>
                  </a:lnTo>
                  <a:lnTo>
                    <a:pt x="2722" y="1624"/>
                  </a:lnTo>
                  <a:lnTo>
                    <a:pt x="2696" y="1608"/>
                  </a:lnTo>
                  <a:lnTo>
                    <a:pt x="2668" y="1594"/>
                  </a:lnTo>
                  <a:lnTo>
                    <a:pt x="2638" y="1582"/>
                  </a:lnTo>
                  <a:lnTo>
                    <a:pt x="2606" y="1572"/>
                  </a:lnTo>
                  <a:lnTo>
                    <a:pt x="2572" y="1566"/>
                  </a:lnTo>
                  <a:lnTo>
                    <a:pt x="2534" y="1562"/>
                  </a:lnTo>
                  <a:lnTo>
                    <a:pt x="2496" y="1560"/>
                  </a:lnTo>
                  <a:lnTo>
                    <a:pt x="1964" y="1560"/>
                  </a:lnTo>
                  <a:lnTo>
                    <a:pt x="1964" y="1560"/>
                  </a:lnTo>
                  <a:lnTo>
                    <a:pt x="2346" y="1560"/>
                  </a:lnTo>
                  <a:lnTo>
                    <a:pt x="2346" y="1560"/>
                  </a:lnTo>
                  <a:lnTo>
                    <a:pt x="2370" y="1560"/>
                  </a:lnTo>
                  <a:lnTo>
                    <a:pt x="2392" y="1558"/>
                  </a:lnTo>
                  <a:lnTo>
                    <a:pt x="2432" y="1552"/>
                  </a:lnTo>
                  <a:lnTo>
                    <a:pt x="2466" y="1540"/>
                  </a:lnTo>
                  <a:lnTo>
                    <a:pt x="2498" y="1528"/>
                  </a:lnTo>
                  <a:lnTo>
                    <a:pt x="2526" y="1512"/>
                  </a:lnTo>
                  <a:lnTo>
                    <a:pt x="2550" y="1496"/>
                  </a:lnTo>
                  <a:lnTo>
                    <a:pt x="2570" y="1478"/>
                  </a:lnTo>
                  <a:lnTo>
                    <a:pt x="2586" y="1460"/>
                  </a:lnTo>
                  <a:lnTo>
                    <a:pt x="2586" y="1460"/>
                  </a:lnTo>
                  <a:lnTo>
                    <a:pt x="2604" y="1438"/>
                  </a:lnTo>
                  <a:lnTo>
                    <a:pt x="2620" y="1412"/>
                  </a:lnTo>
                  <a:lnTo>
                    <a:pt x="2634" y="1384"/>
                  </a:lnTo>
                  <a:lnTo>
                    <a:pt x="2646" y="1356"/>
                  </a:lnTo>
                  <a:lnTo>
                    <a:pt x="2654" y="1324"/>
                  </a:lnTo>
                  <a:lnTo>
                    <a:pt x="2660" y="1290"/>
                  </a:lnTo>
                  <a:lnTo>
                    <a:pt x="2664" y="1256"/>
                  </a:lnTo>
                  <a:lnTo>
                    <a:pt x="2666" y="1220"/>
                  </a:lnTo>
                  <a:lnTo>
                    <a:pt x="2666" y="1220"/>
                  </a:lnTo>
                  <a:lnTo>
                    <a:pt x="2664" y="1196"/>
                  </a:lnTo>
                  <a:lnTo>
                    <a:pt x="2664" y="1172"/>
                  </a:lnTo>
                  <a:lnTo>
                    <a:pt x="2660" y="1150"/>
                  </a:lnTo>
                  <a:lnTo>
                    <a:pt x="2656" y="1128"/>
                  </a:lnTo>
                  <a:lnTo>
                    <a:pt x="2650" y="1108"/>
                  </a:lnTo>
                  <a:lnTo>
                    <a:pt x="2644" y="1088"/>
                  </a:lnTo>
                  <a:lnTo>
                    <a:pt x="2636" y="1068"/>
                  </a:lnTo>
                  <a:lnTo>
                    <a:pt x="2628" y="1050"/>
                  </a:lnTo>
                  <a:lnTo>
                    <a:pt x="2618" y="1034"/>
                  </a:lnTo>
                  <a:lnTo>
                    <a:pt x="2608" y="1016"/>
                  </a:lnTo>
                  <a:lnTo>
                    <a:pt x="2596" y="1002"/>
                  </a:lnTo>
                  <a:lnTo>
                    <a:pt x="2584" y="986"/>
                  </a:lnTo>
                  <a:lnTo>
                    <a:pt x="2570" y="972"/>
                  </a:lnTo>
                  <a:lnTo>
                    <a:pt x="2556" y="960"/>
                  </a:lnTo>
                  <a:lnTo>
                    <a:pt x="2540" y="948"/>
                  </a:lnTo>
                  <a:lnTo>
                    <a:pt x="2524" y="938"/>
                  </a:lnTo>
                  <a:lnTo>
                    <a:pt x="2524" y="938"/>
                  </a:lnTo>
                  <a:lnTo>
                    <a:pt x="2546" y="930"/>
                  </a:lnTo>
                  <a:lnTo>
                    <a:pt x="2566" y="922"/>
                  </a:lnTo>
                  <a:lnTo>
                    <a:pt x="2584" y="914"/>
                  </a:lnTo>
                  <a:lnTo>
                    <a:pt x="2602" y="902"/>
                  </a:lnTo>
                  <a:lnTo>
                    <a:pt x="2620" y="890"/>
                  </a:lnTo>
                  <a:lnTo>
                    <a:pt x="2636" y="878"/>
                  </a:lnTo>
                  <a:lnTo>
                    <a:pt x="2650" y="864"/>
                  </a:lnTo>
                  <a:lnTo>
                    <a:pt x="2664" y="848"/>
                  </a:lnTo>
                  <a:lnTo>
                    <a:pt x="2664" y="848"/>
                  </a:lnTo>
                  <a:lnTo>
                    <a:pt x="2674" y="834"/>
                  </a:lnTo>
                  <a:lnTo>
                    <a:pt x="2674" y="834"/>
                  </a:lnTo>
                  <a:lnTo>
                    <a:pt x="2686" y="814"/>
                  </a:lnTo>
                  <a:lnTo>
                    <a:pt x="2698" y="790"/>
                  </a:lnTo>
                  <a:lnTo>
                    <a:pt x="2708" y="766"/>
                  </a:lnTo>
                  <a:lnTo>
                    <a:pt x="2714" y="740"/>
                  </a:lnTo>
                  <a:lnTo>
                    <a:pt x="2720" y="712"/>
                  </a:lnTo>
                  <a:lnTo>
                    <a:pt x="2724" y="682"/>
                  </a:lnTo>
                  <a:lnTo>
                    <a:pt x="2728" y="650"/>
                  </a:lnTo>
                  <a:lnTo>
                    <a:pt x="2728" y="616"/>
                  </a:lnTo>
                  <a:lnTo>
                    <a:pt x="2728" y="616"/>
                  </a:lnTo>
                  <a:lnTo>
                    <a:pt x="2726" y="576"/>
                  </a:lnTo>
                  <a:lnTo>
                    <a:pt x="2724" y="540"/>
                  </a:lnTo>
                  <a:lnTo>
                    <a:pt x="2718" y="506"/>
                  </a:lnTo>
                  <a:lnTo>
                    <a:pt x="2710" y="474"/>
                  </a:lnTo>
                  <a:lnTo>
                    <a:pt x="2700" y="444"/>
                  </a:lnTo>
                  <a:lnTo>
                    <a:pt x="2686" y="418"/>
                  </a:lnTo>
                  <a:lnTo>
                    <a:pt x="2672" y="394"/>
                  </a:lnTo>
                  <a:lnTo>
                    <a:pt x="2654" y="370"/>
                  </a:lnTo>
                  <a:lnTo>
                    <a:pt x="2654" y="370"/>
                  </a:lnTo>
                  <a:lnTo>
                    <a:pt x="2632" y="348"/>
                  </a:lnTo>
                  <a:lnTo>
                    <a:pt x="2608" y="330"/>
                  </a:lnTo>
                  <a:lnTo>
                    <a:pt x="2580" y="312"/>
                  </a:lnTo>
                  <a:lnTo>
                    <a:pt x="2550" y="300"/>
                  </a:lnTo>
                  <a:lnTo>
                    <a:pt x="2518" y="288"/>
                  </a:lnTo>
                  <a:lnTo>
                    <a:pt x="2482" y="282"/>
                  </a:lnTo>
                  <a:lnTo>
                    <a:pt x="2442" y="276"/>
                  </a:lnTo>
                  <a:lnTo>
                    <a:pt x="2400" y="274"/>
                  </a:lnTo>
                  <a:lnTo>
                    <a:pt x="1194" y="274"/>
                  </a:lnTo>
                  <a:lnTo>
                    <a:pt x="1194" y="274"/>
                  </a:lnTo>
                  <a:lnTo>
                    <a:pt x="1188" y="252"/>
                  </a:lnTo>
                  <a:lnTo>
                    <a:pt x="1178" y="228"/>
                  </a:lnTo>
                  <a:lnTo>
                    <a:pt x="1166" y="202"/>
                  </a:lnTo>
                  <a:lnTo>
                    <a:pt x="1152" y="178"/>
                  </a:lnTo>
                  <a:lnTo>
                    <a:pt x="1134" y="152"/>
                  </a:lnTo>
                  <a:lnTo>
                    <a:pt x="1112" y="128"/>
                  </a:lnTo>
                  <a:lnTo>
                    <a:pt x="1086" y="104"/>
                  </a:lnTo>
                  <a:lnTo>
                    <a:pt x="1056" y="80"/>
                  </a:lnTo>
                  <a:lnTo>
                    <a:pt x="1056" y="80"/>
                  </a:lnTo>
                  <a:lnTo>
                    <a:pt x="1050" y="76"/>
                  </a:lnTo>
                  <a:lnTo>
                    <a:pt x="1050" y="76"/>
                  </a:lnTo>
                  <a:lnTo>
                    <a:pt x="1022" y="58"/>
                  </a:lnTo>
                  <a:lnTo>
                    <a:pt x="992" y="44"/>
                  </a:lnTo>
                  <a:lnTo>
                    <a:pt x="960" y="30"/>
                  </a:lnTo>
                  <a:lnTo>
                    <a:pt x="928" y="20"/>
                  </a:lnTo>
                  <a:lnTo>
                    <a:pt x="894" y="12"/>
                  </a:lnTo>
                  <a:lnTo>
                    <a:pt x="860" y="6"/>
                  </a:lnTo>
                  <a:lnTo>
                    <a:pt x="824" y="2"/>
                  </a:lnTo>
                  <a:lnTo>
                    <a:pt x="786" y="0"/>
                  </a:lnTo>
                  <a:lnTo>
                    <a:pt x="786" y="0"/>
                  </a:lnTo>
                  <a:lnTo>
                    <a:pt x="756" y="2"/>
                  </a:lnTo>
                  <a:lnTo>
                    <a:pt x="724" y="6"/>
                  </a:lnTo>
                  <a:lnTo>
                    <a:pt x="694" y="14"/>
                  </a:lnTo>
                  <a:lnTo>
                    <a:pt x="664" y="26"/>
                  </a:lnTo>
                  <a:lnTo>
                    <a:pt x="634" y="40"/>
                  </a:lnTo>
                  <a:lnTo>
                    <a:pt x="604" y="58"/>
                  </a:lnTo>
                  <a:lnTo>
                    <a:pt x="574" y="78"/>
                  </a:lnTo>
                  <a:lnTo>
                    <a:pt x="544" y="100"/>
                  </a:lnTo>
                  <a:lnTo>
                    <a:pt x="544" y="100"/>
                  </a:lnTo>
                  <a:lnTo>
                    <a:pt x="532" y="112"/>
                  </a:lnTo>
                  <a:lnTo>
                    <a:pt x="520" y="126"/>
                  </a:lnTo>
                  <a:lnTo>
                    <a:pt x="510" y="142"/>
                  </a:lnTo>
                  <a:lnTo>
                    <a:pt x="502" y="156"/>
                  </a:lnTo>
                  <a:lnTo>
                    <a:pt x="502" y="156"/>
                  </a:lnTo>
                  <a:lnTo>
                    <a:pt x="464" y="238"/>
                  </a:lnTo>
                  <a:lnTo>
                    <a:pt x="424" y="320"/>
                  </a:lnTo>
                  <a:lnTo>
                    <a:pt x="378" y="402"/>
                  </a:lnTo>
                  <a:lnTo>
                    <a:pt x="328" y="488"/>
                  </a:lnTo>
                  <a:lnTo>
                    <a:pt x="276" y="572"/>
                  </a:lnTo>
                  <a:lnTo>
                    <a:pt x="220" y="660"/>
                  </a:lnTo>
                  <a:lnTo>
                    <a:pt x="160" y="746"/>
                  </a:lnTo>
                  <a:lnTo>
                    <a:pt x="96" y="834"/>
                  </a:lnTo>
                  <a:lnTo>
                    <a:pt x="96" y="834"/>
                  </a:lnTo>
                  <a:lnTo>
                    <a:pt x="74" y="856"/>
                  </a:lnTo>
                  <a:lnTo>
                    <a:pt x="54" y="878"/>
                  </a:lnTo>
                  <a:lnTo>
                    <a:pt x="38" y="904"/>
                  </a:lnTo>
                  <a:lnTo>
                    <a:pt x="24" y="928"/>
                  </a:lnTo>
                  <a:lnTo>
                    <a:pt x="14" y="956"/>
                  </a:lnTo>
                  <a:lnTo>
                    <a:pt x="6" y="982"/>
                  </a:lnTo>
                  <a:lnTo>
                    <a:pt x="2" y="1010"/>
                  </a:lnTo>
                  <a:lnTo>
                    <a:pt x="0" y="1040"/>
                  </a:lnTo>
                  <a:lnTo>
                    <a:pt x="0" y="1040"/>
                  </a:lnTo>
                  <a:lnTo>
                    <a:pt x="0" y="1064"/>
                  </a:lnTo>
                  <a:lnTo>
                    <a:pt x="4" y="1090"/>
                  </a:lnTo>
                  <a:lnTo>
                    <a:pt x="10" y="1118"/>
                  </a:lnTo>
                  <a:lnTo>
                    <a:pt x="18" y="1148"/>
                  </a:lnTo>
                  <a:lnTo>
                    <a:pt x="32" y="1180"/>
                  </a:lnTo>
                  <a:lnTo>
                    <a:pt x="48" y="1214"/>
                  </a:lnTo>
                  <a:lnTo>
                    <a:pt x="70" y="1246"/>
                  </a:lnTo>
                  <a:lnTo>
                    <a:pt x="98" y="1280"/>
                  </a:lnTo>
                  <a:lnTo>
                    <a:pt x="98" y="1280"/>
                  </a:lnTo>
                  <a:lnTo>
                    <a:pt x="124" y="1308"/>
                  </a:lnTo>
                  <a:lnTo>
                    <a:pt x="152" y="1334"/>
                  </a:lnTo>
                  <a:lnTo>
                    <a:pt x="180" y="1356"/>
                  </a:lnTo>
                  <a:lnTo>
                    <a:pt x="210" y="1374"/>
                  </a:lnTo>
                  <a:lnTo>
                    <a:pt x="242" y="1390"/>
                  </a:lnTo>
                  <a:lnTo>
                    <a:pt x="274" y="1402"/>
                  </a:lnTo>
                  <a:lnTo>
                    <a:pt x="308" y="1412"/>
                  </a:lnTo>
                  <a:lnTo>
                    <a:pt x="342" y="1418"/>
                  </a:lnTo>
                  <a:lnTo>
                    <a:pt x="342" y="1560"/>
                  </a:lnTo>
                  <a:lnTo>
                    <a:pt x="342" y="1560"/>
                  </a:lnTo>
                  <a:lnTo>
                    <a:pt x="306" y="1562"/>
                  </a:lnTo>
                  <a:lnTo>
                    <a:pt x="272" y="1566"/>
                  </a:lnTo>
                  <a:lnTo>
                    <a:pt x="240" y="1574"/>
                  </a:lnTo>
                  <a:lnTo>
                    <a:pt x="210" y="1582"/>
                  </a:lnTo>
                  <a:lnTo>
                    <a:pt x="182" y="1594"/>
                  </a:lnTo>
                  <a:lnTo>
                    <a:pt x="154" y="1606"/>
                  </a:lnTo>
                  <a:lnTo>
                    <a:pt x="130" y="1622"/>
                  </a:lnTo>
                  <a:lnTo>
                    <a:pt x="108" y="1640"/>
                  </a:lnTo>
                  <a:lnTo>
                    <a:pt x="108" y="1640"/>
                  </a:lnTo>
                  <a:lnTo>
                    <a:pt x="86" y="1664"/>
                  </a:lnTo>
                  <a:lnTo>
                    <a:pt x="66" y="1688"/>
                  </a:lnTo>
                  <a:lnTo>
                    <a:pt x="48" y="1716"/>
                  </a:lnTo>
                  <a:lnTo>
                    <a:pt x="34" y="1748"/>
                  </a:lnTo>
                  <a:lnTo>
                    <a:pt x="24" y="1780"/>
                  </a:lnTo>
                  <a:lnTo>
                    <a:pt x="16" y="1818"/>
                  </a:lnTo>
                  <a:lnTo>
                    <a:pt x="12" y="1856"/>
                  </a:lnTo>
                  <a:lnTo>
                    <a:pt x="10" y="1898"/>
                  </a:lnTo>
                  <a:lnTo>
                    <a:pt x="10" y="1898"/>
                  </a:lnTo>
                  <a:lnTo>
                    <a:pt x="12" y="1940"/>
                  </a:lnTo>
                  <a:lnTo>
                    <a:pt x="16" y="1980"/>
                  </a:lnTo>
                  <a:lnTo>
                    <a:pt x="24" y="2016"/>
                  </a:lnTo>
                  <a:lnTo>
                    <a:pt x="34" y="2050"/>
                  </a:lnTo>
                  <a:lnTo>
                    <a:pt x="48" y="2080"/>
                  </a:lnTo>
                  <a:lnTo>
                    <a:pt x="66" y="2108"/>
                  </a:lnTo>
                  <a:lnTo>
                    <a:pt x="84" y="2134"/>
                  </a:lnTo>
                  <a:lnTo>
                    <a:pt x="108" y="2156"/>
                  </a:lnTo>
                  <a:lnTo>
                    <a:pt x="108" y="2156"/>
                  </a:lnTo>
                  <a:lnTo>
                    <a:pt x="132" y="2176"/>
                  </a:lnTo>
                  <a:lnTo>
                    <a:pt x="158" y="2192"/>
                  </a:lnTo>
                  <a:lnTo>
                    <a:pt x="186" y="2208"/>
                  </a:lnTo>
                  <a:lnTo>
                    <a:pt x="216" y="2218"/>
                  </a:lnTo>
                  <a:lnTo>
                    <a:pt x="246" y="2228"/>
                  </a:lnTo>
                  <a:lnTo>
                    <a:pt x="280" y="2234"/>
                  </a:lnTo>
                  <a:lnTo>
                    <a:pt x="314" y="2238"/>
                  </a:lnTo>
                  <a:lnTo>
                    <a:pt x="352" y="2240"/>
                  </a:lnTo>
                  <a:lnTo>
                    <a:pt x="1222" y="2240"/>
                  </a:lnTo>
                  <a:lnTo>
                    <a:pt x="1222" y="2454"/>
                  </a:lnTo>
                  <a:lnTo>
                    <a:pt x="1222" y="2454"/>
                  </a:lnTo>
                  <a:lnTo>
                    <a:pt x="1224" y="2496"/>
                  </a:lnTo>
                  <a:lnTo>
                    <a:pt x="1230" y="2538"/>
                  </a:lnTo>
                  <a:lnTo>
                    <a:pt x="1238" y="2576"/>
                  </a:lnTo>
                  <a:lnTo>
                    <a:pt x="1248" y="2612"/>
                  </a:lnTo>
                  <a:lnTo>
                    <a:pt x="1264" y="2644"/>
                  </a:lnTo>
                  <a:lnTo>
                    <a:pt x="1282" y="2674"/>
                  </a:lnTo>
                  <a:lnTo>
                    <a:pt x="1302" y="2702"/>
                  </a:lnTo>
                  <a:lnTo>
                    <a:pt x="1326" y="2726"/>
                  </a:lnTo>
                  <a:lnTo>
                    <a:pt x="1326" y="2726"/>
                  </a:lnTo>
                  <a:lnTo>
                    <a:pt x="1352" y="2750"/>
                  </a:lnTo>
                  <a:lnTo>
                    <a:pt x="1380" y="2768"/>
                  </a:lnTo>
                  <a:lnTo>
                    <a:pt x="1410" y="2786"/>
                  </a:lnTo>
                  <a:lnTo>
                    <a:pt x="1442" y="2800"/>
                  </a:lnTo>
                  <a:lnTo>
                    <a:pt x="1476" y="2810"/>
                  </a:lnTo>
                  <a:lnTo>
                    <a:pt x="1514" y="2818"/>
                  </a:lnTo>
                  <a:lnTo>
                    <a:pt x="1552" y="2822"/>
                  </a:lnTo>
                  <a:lnTo>
                    <a:pt x="1594" y="2824"/>
                  </a:lnTo>
                  <a:lnTo>
                    <a:pt x="1594" y="2824"/>
                  </a:lnTo>
                  <a:lnTo>
                    <a:pt x="1636" y="2822"/>
                  </a:lnTo>
                  <a:lnTo>
                    <a:pt x="1676" y="2818"/>
                  </a:lnTo>
                  <a:lnTo>
                    <a:pt x="1712" y="2810"/>
                  </a:lnTo>
                  <a:lnTo>
                    <a:pt x="1748" y="2800"/>
                  </a:lnTo>
                  <a:lnTo>
                    <a:pt x="1780" y="2786"/>
                  </a:lnTo>
                  <a:lnTo>
                    <a:pt x="1810" y="2768"/>
                  </a:lnTo>
                  <a:lnTo>
                    <a:pt x="1838" y="2748"/>
                  </a:lnTo>
                  <a:lnTo>
                    <a:pt x="1864" y="2724"/>
                  </a:lnTo>
                  <a:lnTo>
                    <a:pt x="1864" y="2724"/>
                  </a:lnTo>
                  <a:lnTo>
                    <a:pt x="1888" y="2700"/>
                  </a:lnTo>
                  <a:lnTo>
                    <a:pt x="1908" y="2672"/>
                  </a:lnTo>
                  <a:lnTo>
                    <a:pt x="1926" y="2642"/>
                  </a:lnTo>
                  <a:lnTo>
                    <a:pt x="1940" y="2610"/>
                  </a:lnTo>
                  <a:lnTo>
                    <a:pt x="1950" y="2574"/>
                  </a:lnTo>
                  <a:lnTo>
                    <a:pt x="1958" y="2536"/>
                  </a:lnTo>
                  <a:lnTo>
                    <a:pt x="1962" y="2496"/>
                  </a:lnTo>
                  <a:lnTo>
                    <a:pt x="1964" y="2454"/>
                  </a:lnTo>
                  <a:lnTo>
                    <a:pt x="1964" y="2240"/>
                  </a:lnTo>
                  <a:lnTo>
                    <a:pt x="2496" y="2240"/>
                  </a:lnTo>
                  <a:lnTo>
                    <a:pt x="2496" y="2240"/>
                  </a:lnTo>
                  <a:lnTo>
                    <a:pt x="2522" y="2240"/>
                  </a:lnTo>
                  <a:lnTo>
                    <a:pt x="2546" y="2238"/>
                  </a:lnTo>
                  <a:lnTo>
                    <a:pt x="2570" y="2234"/>
                  </a:lnTo>
                  <a:lnTo>
                    <a:pt x="2592" y="2230"/>
                  </a:lnTo>
                  <a:lnTo>
                    <a:pt x="2614" y="2224"/>
                  </a:lnTo>
                  <a:lnTo>
                    <a:pt x="2632" y="2218"/>
                  </a:lnTo>
                  <a:lnTo>
                    <a:pt x="2668" y="2202"/>
                  </a:lnTo>
                  <a:lnTo>
                    <a:pt x="2698" y="2186"/>
                  </a:lnTo>
                  <a:lnTo>
                    <a:pt x="2726" y="2166"/>
                  </a:lnTo>
                  <a:lnTo>
                    <a:pt x="2748" y="2146"/>
                  </a:lnTo>
                  <a:lnTo>
                    <a:pt x="2766" y="2128"/>
                  </a:lnTo>
                  <a:lnTo>
                    <a:pt x="2766" y="2128"/>
                  </a:lnTo>
                  <a:lnTo>
                    <a:pt x="2768" y="2126"/>
                  </a:lnTo>
                  <a:lnTo>
                    <a:pt x="2768" y="2126"/>
                  </a:lnTo>
                  <a:lnTo>
                    <a:pt x="2756" y="2182"/>
                  </a:lnTo>
                  <a:lnTo>
                    <a:pt x="2744" y="2238"/>
                  </a:lnTo>
                  <a:lnTo>
                    <a:pt x="2730" y="2292"/>
                  </a:lnTo>
                  <a:lnTo>
                    <a:pt x="2714" y="2348"/>
                  </a:lnTo>
                  <a:lnTo>
                    <a:pt x="2714" y="2348"/>
                  </a:lnTo>
                  <a:lnTo>
                    <a:pt x="2704" y="2374"/>
                  </a:lnTo>
                  <a:lnTo>
                    <a:pt x="2698" y="2398"/>
                  </a:lnTo>
                  <a:lnTo>
                    <a:pt x="2692" y="2422"/>
                  </a:lnTo>
                  <a:lnTo>
                    <a:pt x="2688" y="2446"/>
                  </a:lnTo>
                  <a:lnTo>
                    <a:pt x="2688" y="2446"/>
                  </a:lnTo>
                  <a:lnTo>
                    <a:pt x="2688" y="2462"/>
                  </a:lnTo>
                  <a:lnTo>
                    <a:pt x="2688" y="2462"/>
                  </a:lnTo>
                  <a:lnTo>
                    <a:pt x="2690" y="2508"/>
                  </a:lnTo>
                  <a:lnTo>
                    <a:pt x="2696" y="2548"/>
                  </a:lnTo>
                  <a:lnTo>
                    <a:pt x="2706" y="2584"/>
                  </a:lnTo>
                  <a:lnTo>
                    <a:pt x="2718" y="2616"/>
                  </a:lnTo>
                  <a:lnTo>
                    <a:pt x="2732" y="2642"/>
                  </a:lnTo>
                  <a:lnTo>
                    <a:pt x="2748" y="2666"/>
                  </a:lnTo>
                  <a:lnTo>
                    <a:pt x="2766" y="2686"/>
                  </a:lnTo>
                  <a:lnTo>
                    <a:pt x="2784" y="2702"/>
                  </a:lnTo>
                  <a:lnTo>
                    <a:pt x="2784" y="2702"/>
                  </a:lnTo>
                  <a:lnTo>
                    <a:pt x="2800" y="2720"/>
                  </a:lnTo>
                  <a:lnTo>
                    <a:pt x="2822" y="2736"/>
                  </a:lnTo>
                  <a:lnTo>
                    <a:pt x="2844" y="2750"/>
                  </a:lnTo>
                  <a:lnTo>
                    <a:pt x="2872" y="2764"/>
                  </a:lnTo>
                  <a:lnTo>
                    <a:pt x="2902" y="2774"/>
                  </a:lnTo>
                  <a:lnTo>
                    <a:pt x="2936" y="2784"/>
                  </a:lnTo>
                  <a:lnTo>
                    <a:pt x="2974" y="2790"/>
                  </a:lnTo>
                  <a:lnTo>
                    <a:pt x="3016" y="2792"/>
                  </a:lnTo>
                  <a:lnTo>
                    <a:pt x="3016" y="2792"/>
                  </a:lnTo>
                  <a:lnTo>
                    <a:pt x="3048" y="2790"/>
                  </a:lnTo>
                  <a:lnTo>
                    <a:pt x="3080" y="2788"/>
                  </a:lnTo>
                  <a:lnTo>
                    <a:pt x="3108" y="2784"/>
                  </a:lnTo>
                  <a:lnTo>
                    <a:pt x="3134" y="2778"/>
                  </a:lnTo>
                  <a:lnTo>
                    <a:pt x="3160" y="2772"/>
                  </a:lnTo>
                  <a:lnTo>
                    <a:pt x="3182" y="2764"/>
                  </a:lnTo>
                  <a:lnTo>
                    <a:pt x="3202" y="2754"/>
                  </a:lnTo>
                  <a:lnTo>
                    <a:pt x="3220" y="2744"/>
                  </a:lnTo>
                  <a:lnTo>
                    <a:pt x="3238" y="2734"/>
                  </a:lnTo>
                  <a:lnTo>
                    <a:pt x="3254" y="2722"/>
                  </a:lnTo>
                  <a:lnTo>
                    <a:pt x="3266" y="2710"/>
                  </a:lnTo>
                  <a:lnTo>
                    <a:pt x="3280" y="2698"/>
                  </a:lnTo>
                  <a:lnTo>
                    <a:pt x="3300" y="2672"/>
                  </a:lnTo>
                  <a:lnTo>
                    <a:pt x="3316" y="2646"/>
                  </a:lnTo>
                  <a:lnTo>
                    <a:pt x="3316" y="2646"/>
                  </a:lnTo>
                  <a:lnTo>
                    <a:pt x="3316" y="2644"/>
                  </a:lnTo>
                  <a:lnTo>
                    <a:pt x="3316" y="2644"/>
                  </a:lnTo>
                  <a:lnTo>
                    <a:pt x="3354" y="2664"/>
                  </a:lnTo>
                  <a:lnTo>
                    <a:pt x="3390" y="2680"/>
                  </a:lnTo>
                  <a:lnTo>
                    <a:pt x="3428" y="2696"/>
                  </a:lnTo>
                  <a:lnTo>
                    <a:pt x="3466" y="2708"/>
                  </a:lnTo>
                  <a:lnTo>
                    <a:pt x="3466" y="2708"/>
                  </a:lnTo>
                  <a:lnTo>
                    <a:pt x="3472" y="2710"/>
                  </a:lnTo>
                  <a:lnTo>
                    <a:pt x="3472" y="2710"/>
                  </a:lnTo>
                  <a:lnTo>
                    <a:pt x="3544" y="2726"/>
                  </a:lnTo>
                  <a:lnTo>
                    <a:pt x="3620" y="2742"/>
                  </a:lnTo>
                  <a:lnTo>
                    <a:pt x="3704" y="2754"/>
                  </a:lnTo>
                  <a:lnTo>
                    <a:pt x="3792" y="2764"/>
                  </a:lnTo>
                  <a:lnTo>
                    <a:pt x="3888" y="2770"/>
                  </a:lnTo>
                  <a:lnTo>
                    <a:pt x="3990" y="2776"/>
                  </a:lnTo>
                  <a:lnTo>
                    <a:pt x="4098" y="2780"/>
                  </a:lnTo>
                  <a:lnTo>
                    <a:pt x="4214" y="2780"/>
                  </a:lnTo>
                  <a:lnTo>
                    <a:pt x="5098" y="2780"/>
                  </a:lnTo>
                  <a:lnTo>
                    <a:pt x="5098" y="2780"/>
                  </a:lnTo>
                  <a:lnTo>
                    <a:pt x="5156" y="2780"/>
                  </a:lnTo>
                  <a:lnTo>
                    <a:pt x="5208" y="2776"/>
                  </a:lnTo>
                  <a:lnTo>
                    <a:pt x="5254" y="2770"/>
                  </a:lnTo>
                  <a:lnTo>
                    <a:pt x="5294" y="2762"/>
                  </a:lnTo>
                  <a:lnTo>
                    <a:pt x="5294" y="2762"/>
                  </a:lnTo>
                  <a:lnTo>
                    <a:pt x="5316" y="2756"/>
                  </a:lnTo>
                  <a:lnTo>
                    <a:pt x="5316" y="2756"/>
                  </a:lnTo>
                  <a:lnTo>
                    <a:pt x="5344" y="2744"/>
                  </a:lnTo>
                  <a:lnTo>
                    <a:pt x="5368" y="2730"/>
                  </a:lnTo>
                  <a:lnTo>
                    <a:pt x="5392" y="2714"/>
                  </a:lnTo>
                  <a:lnTo>
                    <a:pt x="5412" y="2696"/>
                  </a:lnTo>
                  <a:lnTo>
                    <a:pt x="5432" y="2676"/>
                  </a:lnTo>
                  <a:lnTo>
                    <a:pt x="5448" y="2654"/>
                  </a:lnTo>
                  <a:lnTo>
                    <a:pt x="5464" y="2632"/>
                  </a:lnTo>
                  <a:lnTo>
                    <a:pt x="5476" y="2608"/>
                  </a:lnTo>
                  <a:lnTo>
                    <a:pt x="5476" y="2608"/>
                  </a:lnTo>
                  <a:lnTo>
                    <a:pt x="5488" y="2584"/>
                  </a:lnTo>
                  <a:lnTo>
                    <a:pt x="5496" y="2562"/>
                  </a:lnTo>
                  <a:lnTo>
                    <a:pt x="5504" y="2538"/>
                  </a:lnTo>
                  <a:lnTo>
                    <a:pt x="5510" y="2512"/>
                  </a:lnTo>
                  <a:lnTo>
                    <a:pt x="5516" y="2488"/>
                  </a:lnTo>
                  <a:lnTo>
                    <a:pt x="5520" y="2462"/>
                  </a:lnTo>
                  <a:lnTo>
                    <a:pt x="5522" y="2436"/>
                  </a:lnTo>
                  <a:lnTo>
                    <a:pt x="5522" y="2410"/>
                  </a:lnTo>
                  <a:lnTo>
                    <a:pt x="5522" y="2410"/>
                  </a:lnTo>
                  <a:lnTo>
                    <a:pt x="5520" y="2372"/>
                  </a:lnTo>
                  <a:lnTo>
                    <a:pt x="5516" y="2336"/>
                  </a:lnTo>
                  <a:lnTo>
                    <a:pt x="5508" y="2304"/>
                  </a:lnTo>
                  <a:lnTo>
                    <a:pt x="5500" y="2274"/>
                  </a:lnTo>
                  <a:lnTo>
                    <a:pt x="5488" y="2246"/>
                  </a:lnTo>
                  <a:lnTo>
                    <a:pt x="5474" y="2222"/>
                  </a:lnTo>
                  <a:lnTo>
                    <a:pt x="5460" y="2200"/>
                  </a:lnTo>
                  <a:lnTo>
                    <a:pt x="5446" y="2182"/>
                  </a:lnTo>
                  <a:lnTo>
                    <a:pt x="5446" y="2182"/>
                  </a:lnTo>
                  <a:lnTo>
                    <a:pt x="5470" y="2154"/>
                  </a:lnTo>
                  <a:lnTo>
                    <a:pt x="5494" y="2124"/>
                  </a:lnTo>
                  <a:lnTo>
                    <a:pt x="5494" y="2124"/>
                  </a:lnTo>
                  <a:lnTo>
                    <a:pt x="5496" y="2120"/>
                  </a:lnTo>
                  <a:lnTo>
                    <a:pt x="5496" y="2120"/>
                  </a:lnTo>
                  <a:close/>
                  <a:moveTo>
                    <a:pt x="1222" y="1560"/>
                  </a:moveTo>
                  <a:lnTo>
                    <a:pt x="1222" y="1560"/>
                  </a:lnTo>
                  <a:lnTo>
                    <a:pt x="1062" y="1560"/>
                  </a:lnTo>
                  <a:lnTo>
                    <a:pt x="1062" y="1560"/>
                  </a:lnTo>
                  <a:lnTo>
                    <a:pt x="1222" y="15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22"/>
            <p:cNvSpPr/>
            <p:nvPr/>
          </p:nvSpPr>
          <p:spPr>
            <a:xfrm>
              <a:off x="11069640" y="4130280"/>
              <a:ext cx="3552840" cy="4010400"/>
            </a:xfrm>
            <a:custGeom>
              <a:avLst/>
              <a:gdLst>
                <a:gd name="textAreaLeft" fmla="*/ 0 w 3552840"/>
                <a:gd name="textAreaRight" fmla="*/ 3553200 w 3552840"/>
                <a:gd name="textAreaTop" fmla="*/ 0 h 4010400"/>
                <a:gd name="textAreaBottom" fmla="*/ 4010400 h 4010400"/>
              </a:gdLst>
              <a:ahLst/>
              <a:rect l="textAreaLeft" t="textAreaTop" r="textAreaRight" b="textAreaBottom"/>
              <a:pathLst>
                <a:path w="2238" h="2526">
                  <a:moveTo>
                    <a:pt x="1880" y="1058"/>
                  </a:moveTo>
                  <a:lnTo>
                    <a:pt x="1880" y="1058"/>
                  </a:lnTo>
                  <a:lnTo>
                    <a:pt x="1858" y="1058"/>
                  </a:lnTo>
                  <a:lnTo>
                    <a:pt x="1836" y="1060"/>
                  </a:lnTo>
                  <a:lnTo>
                    <a:pt x="1814" y="1064"/>
                  </a:lnTo>
                  <a:lnTo>
                    <a:pt x="1792" y="1068"/>
                  </a:lnTo>
                  <a:lnTo>
                    <a:pt x="1770" y="1074"/>
                  </a:lnTo>
                  <a:lnTo>
                    <a:pt x="1750" y="1082"/>
                  </a:lnTo>
                  <a:lnTo>
                    <a:pt x="1730" y="1090"/>
                  </a:lnTo>
                  <a:lnTo>
                    <a:pt x="1710" y="1100"/>
                  </a:lnTo>
                  <a:lnTo>
                    <a:pt x="1692" y="1110"/>
                  </a:lnTo>
                  <a:lnTo>
                    <a:pt x="1674" y="1122"/>
                  </a:lnTo>
                  <a:lnTo>
                    <a:pt x="1656" y="1136"/>
                  </a:lnTo>
                  <a:lnTo>
                    <a:pt x="1640" y="1150"/>
                  </a:lnTo>
                  <a:lnTo>
                    <a:pt x="1624" y="1166"/>
                  </a:lnTo>
                  <a:lnTo>
                    <a:pt x="1608" y="1184"/>
                  </a:lnTo>
                  <a:lnTo>
                    <a:pt x="1594" y="1202"/>
                  </a:lnTo>
                  <a:lnTo>
                    <a:pt x="1580" y="1220"/>
                  </a:lnTo>
                  <a:lnTo>
                    <a:pt x="1580" y="1220"/>
                  </a:lnTo>
                  <a:lnTo>
                    <a:pt x="1578" y="1224"/>
                  </a:lnTo>
                  <a:lnTo>
                    <a:pt x="1578" y="1224"/>
                  </a:lnTo>
                  <a:lnTo>
                    <a:pt x="1498" y="1350"/>
                  </a:lnTo>
                  <a:lnTo>
                    <a:pt x="1432" y="1452"/>
                  </a:lnTo>
                  <a:lnTo>
                    <a:pt x="1376" y="1534"/>
                  </a:lnTo>
                  <a:lnTo>
                    <a:pt x="1330" y="1600"/>
                  </a:lnTo>
                  <a:lnTo>
                    <a:pt x="1292" y="1648"/>
                  </a:lnTo>
                  <a:lnTo>
                    <a:pt x="1264" y="1684"/>
                  </a:lnTo>
                  <a:lnTo>
                    <a:pt x="1242" y="1710"/>
                  </a:lnTo>
                  <a:lnTo>
                    <a:pt x="1226" y="1724"/>
                  </a:lnTo>
                  <a:lnTo>
                    <a:pt x="1226" y="1724"/>
                  </a:lnTo>
                  <a:lnTo>
                    <a:pt x="1212" y="1738"/>
                  </a:lnTo>
                  <a:lnTo>
                    <a:pt x="1194" y="1750"/>
                  </a:lnTo>
                  <a:lnTo>
                    <a:pt x="1176" y="1762"/>
                  </a:lnTo>
                  <a:lnTo>
                    <a:pt x="1158" y="1772"/>
                  </a:lnTo>
                  <a:lnTo>
                    <a:pt x="1138" y="1782"/>
                  </a:lnTo>
                  <a:lnTo>
                    <a:pt x="1116" y="1792"/>
                  </a:lnTo>
                  <a:lnTo>
                    <a:pt x="1070" y="1808"/>
                  </a:lnTo>
                  <a:lnTo>
                    <a:pt x="1022" y="1820"/>
                  </a:lnTo>
                  <a:lnTo>
                    <a:pt x="968" y="1828"/>
                  </a:lnTo>
                  <a:lnTo>
                    <a:pt x="912" y="1834"/>
                  </a:lnTo>
                  <a:lnTo>
                    <a:pt x="850" y="1836"/>
                  </a:lnTo>
                  <a:lnTo>
                    <a:pt x="850" y="1836"/>
                  </a:lnTo>
                  <a:lnTo>
                    <a:pt x="828" y="1834"/>
                  </a:lnTo>
                  <a:lnTo>
                    <a:pt x="808" y="1834"/>
                  </a:lnTo>
                  <a:lnTo>
                    <a:pt x="792" y="1830"/>
                  </a:lnTo>
                  <a:lnTo>
                    <a:pt x="776" y="1828"/>
                  </a:lnTo>
                  <a:lnTo>
                    <a:pt x="764" y="1824"/>
                  </a:lnTo>
                  <a:lnTo>
                    <a:pt x="756" y="1820"/>
                  </a:lnTo>
                  <a:lnTo>
                    <a:pt x="748" y="1816"/>
                  </a:lnTo>
                  <a:lnTo>
                    <a:pt x="744" y="1810"/>
                  </a:lnTo>
                  <a:lnTo>
                    <a:pt x="744" y="1810"/>
                  </a:lnTo>
                  <a:lnTo>
                    <a:pt x="742" y="1808"/>
                  </a:lnTo>
                  <a:lnTo>
                    <a:pt x="742" y="1808"/>
                  </a:lnTo>
                  <a:lnTo>
                    <a:pt x="734" y="1798"/>
                  </a:lnTo>
                  <a:lnTo>
                    <a:pt x="730" y="1786"/>
                  </a:lnTo>
                  <a:lnTo>
                    <a:pt x="724" y="1770"/>
                  </a:lnTo>
                  <a:lnTo>
                    <a:pt x="718" y="1748"/>
                  </a:lnTo>
                  <a:lnTo>
                    <a:pt x="714" y="1720"/>
                  </a:lnTo>
                  <a:lnTo>
                    <a:pt x="710" y="1686"/>
                  </a:lnTo>
                  <a:lnTo>
                    <a:pt x="710" y="1644"/>
                  </a:lnTo>
                  <a:lnTo>
                    <a:pt x="710" y="1644"/>
                  </a:lnTo>
                  <a:lnTo>
                    <a:pt x="712" y="1454"/>
                  </a:lnTo>
                  <a:lnTo>
                    <a:pt x="720" y="1178"/>
                  </a:lnTo>
                  <a:lnTo>
                    <a:pt x="734" y="818"/>
                  </a:lnTo>
                  <a:lnTo>
                    <a:pt x="754" y="372"/>
                  </a:lnTo>
                  <a:lnTo>
                    <a:pt x="754" y="372"/>
                  </a:lnTo>
                  <a:lnTo>
                    <a:pt x="754" y="370"/>
                  </a:lnTo>
                  <a:lnTo>
                    <a:pt x="754" y="370"/>
                  </a:lnTo>
                  <a:lnTo>
                    <a:pt x="754" y="344"/>
                  </a:lnTo>
                  <a:lnTo>
                    <a:pt x="752" y="320"/>
                  </a:lnTo>
                  <a:lnTo>
                    <a:pt x="750" y="298"/>
                  </a:lnTo>
                  <a:lnTo>
                    <a:pt x="746" y="276"/>
                  </a:lnTo>
                  <a:lnTo>
                    <a:pt x="740" y="254"/>
                  </a:lnTo>
                  <a:lnTo>
                    <a:pt x="734" y="236"/>
                  </a:lnTo>
                  <a:lnTo>
                    <a:pt x="720" y="200"/>
                  </a:lnTo>
                  <a:lnTo>
                    <a:pt x="704" y="168"/>
                  </a:lnTo>
                  <a:lnTo>
                    <a:pt x="686" y="140"/>
                  </a:lnTo>
                  <a:lnTo>
                    <a:pt x="666" y="116"/>
                  </a:lnTo>
                  <a:lnTo>
                    <a:pt x="648" y="96"/>
                  </a:lnTo>
                  <a:lnTo>
                    <a:pt x="648" y="96"/>
                  </a:lnTo>
                  <a:lnTo>
                    <a:pt x="640" y="90"/>
                  </a:lnTo>
                  <a:lnTo>
                    <a:pt x="640" y="90"/>
                  </a:lnTo>
                  <a:lnTo>
                    <a:pt x="616" y="72"/>
                  </a:lnTo>
                  <a:lnTo>
                    <a:pt x="590" y="54"/>
                  </a:lnTo>
                  <a:lnTo>
                    <a:pt x="564" y="40"/>
                  </a:lnTo>
                  <a:lnTo>
                    <a:pt x="536" y="28"/>
                  </a:lnTo>
                  <a:lnTo>
                    <a:pt x="506" y="18"/>
                  </a:lnTo>
                  <a:lnTo>
                    <a:pt x="476" y="10"/>
                  </a:lnTo>
                  <a:lnTo>
                    <a:pt x="444" y="4"/>
                  </a:lnTo>
                  <a:lnTo>
                    <a:pt x="412" y="0"/>
                  </a:lnTo>
                  <a:lnTo>
                    <a:pt x="412" y="0"/>
                  </a:lnTo>
                  <a:lnTo>
                    <a:pt x="406" y="0"/>
                  </a:lnTo>
                  <a:lnTo>
                    <a:pt x="406" y="0"/>
                  </a:lnTo>
                  <a:lnTo>
                    <a:pt x="392" y="0"/>
                  </a:lnTo>
                  <a:lnTo>
                    <a:pt x="392" y="0"/>
                  </a:lnTo>
                  <a:lnTo>
                    <a:pt x="362" y="2"/>
                  </a:lnTo>
                  <a:lnTo>
                    <a:pt x="330" y="6"/>
                  </a:lnTo>
                  <a:lnTo>
                    <a:pt x="300" y="12"/>
                  </a:lnTo>
                  <a:lnTo>
                    <a:pt x="272" y="20"/>
                  </a:lnTo>
                  <a:lnTo>
                    <a:pt x="244" y="32"/>
                  </a:lnTo>
                  <a:lnTo>
                    <a:pt x="216" y="46"/>
                  </a:lnTo>
                  <a:lnTo>
                    <a:pt x="190" y="62"/>
                  </a:lnTo>
                  <a:lnTo>
                    <a:pt x="166" y="80"/>
                  </a:lnTo>
                  <a:lnTo>
                    <a:pt x="166" y="80"/>
                  </a:lnTo>
                  <a:lnTo>
                    <a:pt x="162" y="82"/>
                  </a:lnTo>
                  <a:lnTo>
                    <a:pt x="162" y="82"/>
                  </a:lnTo>
                  <a:lnTo>
                    <a:pt x="134" y="108"/>
                  </a:lnTo>
                  <a:lnTo>
                    <a:pt x="112" y="136"/>
                  </a:lnTo>
                  <a:lnTo>
                    <a:pt x="92" y="166"/>
                  </a:lnTo>
                  <a:lnTo>
                    <a:pt x="74" y="198"/>
                  </a:lnTo>
                  <a:lnTo>
                    <a:pt x="62" y="232"/>
                  </a:lnTo>
                  <a:lnTo>
                    <a:pt x="52" y="268"/>
                  </a:lnTo>
                  <a:lnTo>
                    <a:pt x="44" y="306"/>
                  </a:lnTo>
                  <a:lnTo>
                    <a:pt x="42" y="344"/>
                  </a:lnTo>
                  <a:lnTo>
                    <a:pt x="42" y="344"/>
                  </a:lnTo>
                  <a:lnTo>
                    <a:pt x="24" y="798"/>
                  </a:lnTo>
                  <a:lnTo>
                    <a:pt x="12" y="1166"/>
                  </a:lnTo>
                  <a:lnTo>
                    <a:pt x="4" y="1448"/>
                  </a:lnTo>
                  <a:lnTo>
                    <a:pt x="0" y="1644"/>
                  </a:lnTo>
                  <a:lnTo>
                    <a:pt x="0" y="1644"/>
                  </a:lnTo>
                  <a:lnTo>
                    <a:pt x="2" y="1690"/>
                  </a:lnTo>
                  <a:lnTo>
                    <a:pt x="4" y="1734"/>
                  </a:lnTo>
                  <a:lnTo>
                    <a:pt x="8" y="1778"/>
                  </a:lnTo>
                  <a:lnTo>
                    <a:pt x="12" y="1820"/>
                  </a:lnTo>
                  <a:lnTo>
                    <a:pt x="20" y="1862"/>
                  </a:lnTo>
                  <a:lnTo>
                    <a:pt x="26" y="1902"/>
                  </a:lnTo>
                  <a:lnTo>
                    <a:pt x="36" y="1940"/>
                  </a:lnTo>
                  <a:lnTo>
                    <a:pt x="48" y="1980"/>
                  </a:lnTo>
                  <a:lnTo>
                    <a:pt x="60" y="2016"/>
                  </a:lnTo>
                  <a:lnTo>
                    <a:pt x="74" y="2052"/>
                  </a:lnTo>
                  <a:lnTo>
                    <a:pt x="88" y="2088"/>
                  </a:lnTo>
                  <a:lnTo>
                    <a:pt x="104" y="2122"/>
                  </a:lnTo>
                  <a:lnTo>
                    <a:pt x="122" y="2154"/>
                  </a:lnTo>
                  <a:lnTo>
                    <a:pt x="142" y="2186"/>
                  </a:lnTo>
                  <a:lnTo>
                    <a:pt x="162" y="2216"/>
                  </a:lnTo>
                  <a:lnTo>
                    <a:pt x="186" y="2246"/>
                  </a:lnTo>
                  <a:lnTo>
                    <a:pt x="186" y="2246"/>
                  </a:lnTo>
                  <a:lnTo>
                    <a:pt x="186" y="2246"/>
                  </a:lnTo>
                  <a:lnTo>
                    <a:pt x="186" y="2246"/>
                  </a:lnTo>
                  <a:lnTo>
                    <a:pt x="216" y="2280"/>
                  </a:lnTo>
                  <a:lnTo>
                    <a:pt x="246" y="2312"/>
                  </a:lnTo>
                  <a:lnTo>
                    <a:pt x="278" y="2340"/>
                  </a:lnTo>
                  <a:lnTo>
                    <a:pt x="312" y="2368"/>
                  </a:lnTo>
                  <a:lnTo>
                    <a:pt x="348" y="2394"/>
                  </a:lnTo>
                  <a:lnTo>
                    <a:pt x="386" y="2416"/>
                  </a:lnTo>
                  <a:lnTo>
                    <a:pt x="426" y="2436"/>
                  </a:lnTo>
                  <a:lnTo>
                    <a:pt x="466" y="2456"/>
                  </a:lnTo>
                  <a:lnTo>
                    <a:pt x="508" y="2472"/>
                  </a:lnTo>
                  <a:lnTo>
                    <a:pt x="552" y="2486"/>
                  </a:lnTo>
                  <a:lnTo>
                    <a:pt x="598" y="2498"/>
                  </a:lnTo>
                  <a:lnTo>
                    <a:pt x="646" y="2508"/>
                  </a:lnTo>
                  <a:lnTo>
                    <a:pt x="694" y="2516"/>
                  </a:lnTo>
                  <a:lnTo>
                    <a:pt x="744" y="2520"/>
                  </a:lnTo>
                  <a:lnTo>
                    <a:pt x="796" y="2524"/>
                  </a:lnTo>
                  <a:lnTo>
                    <a:pt x="850" y="2526"/>
                  </a:lnTo>
                  <a:lnTo>
                    <a:pt x="850" y="2526"/>
                  </a:lnTo>
                  <a:lnTo>
                    <a:pt x="938" y="2524"/>
                  </a:lnTo>
                  <a:lnTo>
                    <a:pt x="1022" y="2518"/>
                  </a:lnTo>
                  <a:lnTo>
                    <a:pt x="1104" y="2508"/>
                  </a:lnTo>
                  <a:lnTo>
                    <a:pt x="1184" y="2494"/>
                  </a:lnTo>
                  <a:lnTo>
                    <a:pt x="1258" y="2478"/>
                  </a:lnTo>
                  <a:lnTo>
                    <a:pt x="1330" y="2456"/>
                  </a:lnTo>
                  <a:lnTo>
                    <a:pt x="1398" y="2432"/>
                  </a:lnTo>
                  <a:lnTo>
                    <a:pt x="1432" y="2418"/>
                  </a:lnTo>
                  <a:lnTo>
                    <a:pt x="1464" y="2404"/>
                  </a:lnTo>
                  <a:lnTo>
                    <a:pt x="1464" y="2404"/>
                  </a:lnTo>
                  <a:lnTo>
                    <a:pt x="1518" y="2374"/>
                  </a:lnTo>
                  <a:lnTo>
                    <a:pt x="1572" y="2342"/>
                  </a:lnTo>
                  <a:lnTo>
                    <a:pt x="1624" y="2306"/>
                  </a:lnTo>
                  <a:lnTo>
                    <a:pt x="1676" y="2266"/>
                  </a:lnTo>
                  <a:lnTo>
                    <a:pt x="1726" y="2220"/>
                  </a:lnTo>
                  <a:lnTo>
                    <a:pt x="1776" y="2174"/>
                  </a:lnTo>
                  <a:lnTo>
                    <a:pt x="1824" y="2122"/>
                  </a:lnTo>
                  <a:lnTo>
                    <a:pt x="1870" y="2066"/>
                  </a:lnTo>
                  <a:lnTo>
                    <a:pt x="1870" y="2066"/>
                  </a:lnTo>
                  <a:lnTo>
                    <a:pt x="1896" y="2034"/>
                  </a:lnTo>
                  <a:lnTo>
                    <a:pt x="1926" y="1992"/>
                  </a:lnTo>
                  <a:lnTo>
                    <a:pt x="1996" y="1892"/>
                  </a:lnTo>
                  <a:lnTo>
                    <a:pt x="2082" y="1762"/>
                  </a:lnTo>
                  <a:lnTo>
                    <a:pt x="2184" y="1602"/>
                  </a:lnTo>
                  <a:lnTo>
                    <a:pt x="2184" y="1602"/>
                  </a:lnTo>
                  <a:lnTo>
                    <a:pt x="2186" y="1598"/>
                  </a:lnTo>
                  <a:lnTo>
                    <a:pt x="2186" y="1598"/>
                  </a:lnTo>
                  <a:lnTo>
                    <a:pt x="2198" y="1576"/>
                  </a:lnTo>
                  <a:lnTo>
                    <a:pt x="2208" y="1554"/>
                  </a:lnTo>
                  <a:lnTo>
                    <a:pt x="2218" y="1532"/>
                  </a:lnTo>
                  <a:lnTo>
                    <a:pt x="2224" y="1510"/>
                  </a:lnTo>
                  <a:lnTo>
                    <a:pt x="2230" y="1488"/>
                  </a:lnTo>
                  <a:lnTo>
                    <a:pt x="2234" y="1464"/>
                  </a:lnTo>
                  <a:lnTo>
                    <a:pt x="2236" y="1442"/>
                  </a:lnTo>
                  <a:lnTo>
                    <a:pt x="2238" y="1420"/>
                  </a:lnTo>
                  <a:lnTo>
                    <a:pt x="2238" y="1420"/>
                  </a:lnTo>
                  <a:lnTo>
                    <a:pt x="2236" y="1384"/>
                  </a:lnTo>
                  <a:lnTo>
                    <a:pt x="2232" y="1350"/>
                  </a:lnTo>
                  <a:lnTo>
                    <a:pt x="2222" y="1316"/>
                  </a:lnTo>
                  <a:lnTo>
                    <a:pt x="2212" y="1284"/>
                  </a:lnTo>
                  <a:lnTo>
                    <a:pt x="2198" y="1252"/>
                  </a:lnTo>
                  <a:lnTo>
                    <a:pt x="2180" y="1222"/>
                  </a:lnTo>
                  <a:lnTo>
                    <a:pt x="2160" y="1194"/>
                  </a:lnTo>
                  <a:lnTo>
                    <a:pt x="2136" y="1166"/>
                  </a:lnTo>
                  <a:lnTo>
                    <a:pt x="2136" y="1166"/>
                  </a:lnTo>
                  <a:lnTo>
                    <a:pt x="2110" y="1142"/>
                  </a:lnTo>
                  <a:lnTo>
                    <a:pt x="2082" y="1120"/>
                  </a:lnTo>
                  <a:lnTo>
                    <a:pt x="2052" y="1102"/>
                  </a:lnTo>
                  <a:lnTo>
                    <a:pt x="2020" y="1086"/>
                  </a:lnTo>
                  <a:lnTo>
                    <a:pt x="1988" y="1074"/>
                  </a:lnTo>
                  <a:lnTo>
                    <a:pt x="1952" y="1064"/>
                  </a:lnTo>
                  <a:lnTo>
                    <a:pt x="1918" y="1060"/>
                  </a:lnTo>
                  <a:lnTo>
                    <a:pt x="1880" y="1058"/>
                  </a:lnTo>
                  <a:lnTo>
                    <a:pt x="1880" y="10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23"/>
            <p:cNvSpPr/>
            <p:nvPr/>
          </p:nvSpPr>
          <p:spPr>
            <a:xfrm>
              <a:off x="15333840" y="4089240"/>
              <a:ext cx="3295440" cy="4188240"/>
            </a:xfrm>
            <a:custGeom>
              <a:avLst/>
              <a:gdLst>
                <a:gd name="textAreaLeft" fmla="*/ 0 w 3295440"/>
                <a:gd name="textAreaRight" fmla="*/ 3295800 w 3295440"/>
                <a:gd name="textAreaTop" fmla="*/ 0 h 4188240"/>
                <a:gd name="textAreaBottom" fmla="*/ 4188600 h 4188240"/>
              </a:gdLst>
              <a:ahLst/>
              <a:rect l="textAreaLeft" t="textAreaTop" r="textAreaRight" b="textAreaBottom"/>
              <a:pathLst>
                <a:path w="2076" h="2638">
                  <a:moveTo>
                    <a:pt x="1846" y="848"/>
                  </a:moveTo>
                  <a:lnTo>
                    <a:pt x="1846" y="848"/>
                  </a:lnTo>
                  <a:lnTo>
                    <a:pt x="1844" y="846"/>
                  </a:lnTo>
                  <a:lnTo>
                    <a:pt x="1844" y="846"/>
                  </a:lnTo>
                  <a:lnTo>
                    <a:pt x="1818" y="826"/>
                  </a:lnTo>
                  <a:lnTo>
                    <a:pt x="1794" y="806"/>
                  </a:lnTo>
                  <a:lnTo>
                    <a:pt x="1768" y="788"/>
                  </a:lnTo>
                  <a:lnTo>
                    <a:pt x="1740" y="772"/>
                  </a:lnTo>
                  <a:lnTo>
                    <a:pt x="1714" y="756"/>
                  </a:lnTo>
                  <a:lnTo>
                    <a:pt x="1684" y="742"/>
                  </a:lnTo>
                  <a:lnTo>
                    <a:pt x="1656" y="728"/>
                  </a:lnTo>
                  <a:lnTo>
                    <a:pt x="1626" y="716"/>
                  </a:lnTo>
                  <a:lnTo>
                    <a:pt x="1626" y="716"/>
                  </a:lnTo>
                  <a:lnTo>
                    <a:pt x="1652" y="696"/>
                  </a:lnTo>
                  <a:lnTo>
                    <a:pt x="1676" y="672"/>
                  </a:lnTo>
                  <a:lnTo>
                    <a:pt x="1676" y="672"/>
                  </a:lnTo>
                  <a:lnTo>
                    <a:pt x="1680" y="670"/>
                  </a:lnTo>
                  <a:lnTo>
                    <a:pt x="1680" y="670"/>
                  </a:lnTo>
                  <a:lnTo>
                    <a:pt x="1704" y="642"/>
                  </a:lnTo>
                  <a:lnTo>
                    <a:pt x="1724" y="614"/>
                  </a:lnTo>
                  <a:lnTo>
                    <a:pt x="1742" y="584"/>
                  </a:lnTo>
                  <a:lnTo>
                    <a:pt x="1756" y="554"/>
                  </a:lnTo>
                  <a:lnTo>
                    <a:pt x="1768" y="522"/>
                  </a:lnTo>
                  <a:lnTo>
                    <a:pt x="1776" y="490"/>
                  </a:lnTo>
                  <a:lnTo>
                    <a:pt x="1782" y="458"/>
                  </a:lnTo>
                  <a:lnTo>
                    <a:pt x="1784" y="424"/>
                  </a:lnTo>
                  <a:lnTo>
                    <a:pt x="1784" y="424"/>
                  </a:lnTo>
                  <a:lnTo>
                    <a:pt x="1782" y="396"/>
                  </a:lnTo>
                  <a:lnTo>
                    <a:pt x="1778" y="368"/>
                  </a:lnTo>
                  <a:lnTo>
                    <a:pt x="1770" y="342"/>
                  </a:lnTo>
                  <a:lnTo>
                    <a:pt x="1760" y="314"/>
                  </a:lnTo>
                  <a:lnTo>
                    <a:pt x="1748" y="288"/>
                  </a:lnTo>
                  <a:lnTo>
                    <a:pt x="1732" y="260"/>
                  </a:lnTo>
                  <a:lnTo>
                    <a:pt x="1714" y="236"/>
                  </a:lnTo>
                  <a:lnTo>
                    <a:pt x="1694" y="210"/>
                  </a:lnTo>
                  <a:lnTo>
                    <a:pt x="1694" y="210"/>
                  </a:lnTo>
                  <a:lnTo>
                    <a:pt x="1670" y="184"/>
                  </a:lnTo>
                  <a:lnTo>
                    <a:pt x="1644" y="160"/>
                  </a:lnTo>
                  <a:lnTo>
                    <a:pt x="1618" y="142"/>
                  </a:lnTo>
                  <a:lnTo>
                    <a:pt x="1588" y="126"/>
                  </a:lnTo>
                  <a:lnTo>
                    <a:pt x="1558" y="114"/>
                  </a:lnTo>
                  <a:lnTo>
                    <a:pt x="1528" y="104"/>
                  </a:lnTo>
                  <a:lnTo>
                    <a:pt x="1496" y="98"/>
                  </a:lnTo>
                  <a:lnTo>
                    <a:pt x="1462" y="98"/>
                  </a:lnTo>
                  <a:lnTo>
                    <a:pt x="1462" y="98"/>
                  </a:lnTo>
                  <a:lnTo>
                    <a:pt x="1436" y="96"/>
                  </a:lnTo>
                  <a:lnTo>
                    <a:pt x="1342" y="82"/>
                  </a:lnTo>
                  <a:lnTo>
                    <a:pt x="1116" y="48"/>
                  </a:lnTo>
                  <a:lnTo>
                    <a:pt x="1116" y="48"/>
                  </a:lnTo>
                  <a:lnTo>
                    <a:pt x="1114" y="48"/>
                  </a:lnTo>
                  <a:lnTo>
                    <a:pt x="1114" y="48"/>
                  </a:lnTo>
                  <a:lnTo>
                    <a:pt x="936" y="22"/>
                  </a:lnTo>
                  <a:lnTo>
                    <a:pt x="824" y="8"/>
                  </a:lnTo>
                  <a:lnTo>
                    <a:pt x="758" y="0"/>
                  </a:lnTo>
                  <a:lnTo>
                    <a:pt x="724" y="0"/>
                  </a:lnTo>
                  <a:lnTo>
                    <a:pt x="724" y="0"/>
                  </a:lnTo>
                  <a:lnTo>
                    <a:pt x="700" y="0"/>
                  </a:lnTo>
                  <a:lnTo>
                    <a:pt x="676" y="2"/>
                  </a:lnTo>
                  <a:lnTo>
                    <a:pt x="652" y="6"/>
                  </a:lnTo>
                  <a:lnTo>
                    <a:pt x="630" y="10"/>
                  </a:lnTo>
                  <a:lnTo>
                    <a:pt x="610" y="16"/>
                  </a:lnTo>
                  <a:lnTo>
                    <a:pt x="590" y="22"/>
                  </a:lnTo>
                  <a:lnTo>
                    <a:pt x="556" y="38"/>
                  </a:lnTo>
                  <a:lnTo>
                    <a:pt x="526" y="54"/>
                  </a:lnTo>
                  <a:lnTo>
                    <a:pt x="498" y="74"/>
                  </a:lnTo>
                  <a:lnTo>
                    <a:pt x="476" y="94"/>
                  </a:lnTo>
                  <a:lnTo>
                    <a:pt x="456" y="116"/>
                  </a:lnTo>
                  <a:lnTo>
                    <a:pt x="456" y="116"/>
                  </a:lnTo>
                  <a:lnTo>
                    <a:pt x="434" y="142"/>
                  </a:lnTo>
                  <a:lnTo>
                    <a:pt x="416" y="168"/>
                  </a:lnTo>
                  <a:lnTo>
                    <a:pt x="400" y="198"/>
                  </a:lnTo>
                  <a:lnTo>
                    <a:pt x="386" y="230"/>
                  </a:lnTo>
                  <a:lnTo>
                    <a:pt x="376" y="262"/>
                  </a:lnTo>
                  <a:lnTo>
                    <a:pt x="368" y="296"/>
                  </a:lnTo>
                  <a:lnTo>
                    <a:pt x="364" y="332"/>
                  </a:lnTo>
                  <a:lnTo>
                    <a:pt x="362" y="368"/>
                  </a:lnTo>
                  <a:lnTo>
                    <a:pt x="362" y="368"/>
                  </a:lnTo>
                  <a:lnTo>
                    <a:pt x="364" y="396"/>
                  </a:lnTo>
                  <a:lnTo>
                    <a:pt x="366" y="414"/>
                  </a:lnTo>
                  <a:lnTo>
                    <a:pt x="370" y="430"/>
                  </a:lnTo>
                  <a:lnTo>
                    <a:pt x="376" y="448"/>
                  </a:lnTo>
                  <a:lnTo>
                    <a:pt x="382" y="468"/>
                  </a:lnTo>
                  <a:lnTo>
                    <a:pt x="392" y="486"/>
                  </a:lnTo>
                  <a:lnTo>
                    <a:pt x="402" y="506"/>
                  </a:lnTo>
                  <a:lnTo>
                    <a:pt x="416" y="526"/>
                  </a:lnTo>
                  <a:lnTo>
                    <a:pt x="432" y="546"/>
                  </a:lnTo>
                  <a:lnTo>
                    <a:pt x="450" y="564"/>
                  </a:lnTo>
                  <a:lnTo>
                    <a:pt x="472" y="584"/>
                  </a:lnTo>
                  <a:lnTo>
                    <a:pt x="498" y="602"/>
                  </a:lnTo>
                  <a:lnTo>
                    <a:pt x="526" y="620"/>
                  </a:lnTo>
                  <a:lnTo>
                    <a:pt x="558" y="636"/>
                  </a:lnTo>
                  <a:lnTo>
                    <a:pt x="594" y="652"/>
                  </a:lnTo>
                  <a:lnTo>
                    <a:pt x="594" y="652"/>
                  </a:lnTo>
                  <a:lnTo>
                    <a:pt x="596" y="654"/>
                  </a:lnTo>
                  <a:lnTo>
                    <a:pt x="596" y="654"/>
                  </a:lnTo>
                  <a:lnTo>
                    <a:pt x="628" y="666"/>
                  </a:lnTo>
                  <a:lnTo>
                    <a:pt x="664" y="676"/>
                  </a:lnTo>
                  <a:lnTo>
                    <a:pt x="702" y="688"/>
                  </a:lnTo>
                  <a:lnTo>
                    <a:pt x="744" y="698"/>
                  </a:lnTo>
                  <a:lnTo>
                    <a:pt x="744" y="698"/>
                  </a:lnTo>
                  <a:lnTo>
                    <a:pt x="678" y="708"/>
                  </a:lnTo>
                  <a:lnTo>
                    <a:pt x="612" y="720"/>
                  </a:lnTo>
                  <a:lnTo>
                    <a:pt x="546" y="734"/>
                  </a:lnTo>
                  <a:lnTo>
                    <a:pt x="482" y="750"/>
                  </a:lnTo>
                  <a:lnTo>
                    <a:pt x="418" y="766"/>
                  </a:lnTo>
                  <a:lnTo>
                    <a:pt x="356" y="784"/>
                  </a:lnTo>
                  <a:lnTo>
                    <a:pt x="294" y="804"/>
                  </a:lnTo>
                  <a:lnTo>
                    <a:pt x="234" y="824"/>
                  </a:lnTo>
                  <a:lnTo>
                    <a:pt x="234" y="824"/>
                  </a:lnTo>
                  <a:lnTo>
                    <a:pt x="234" y="824"/>
                  </a:lnTo>
                  <a:lnTo>
                    <a:pt x="234" y="824"/>
                  </a:lnTo>
                  <a:lnTo>
                    <a:pt x="206" y="836"/>
                  </a:lnTo>
                  <a:lnTo>
                    <a:pt x="180" y="848"/>
                  </a:lnTo>
                  <a:lnTo>
                    <a:pt x="156" y="860"/>
                  </a:lnTo>
                  <a:lnTo>
                    <a:pt x="134" y="876"/>
                  </a:lnTo>
                  <a:lnTo>
                    <a:pt x="114" y="892"/>
                  </a:lnTo>
                  <a:lnTo>
                    <a:pt x="94" y="910"/>
                  </a:lnTo>
                  <a:lnTo>
                    <a:pt x="78" y="928"/>
                  </a:lnTo>
                  <a:lnTo>
                    <a:pt x="62" y="948"/>
                  </a:lnTo>
                  <a:lnTo>
                    <a:pt x="48" y="970"/>
                  </a:lnTo>
                  <a:lnTo>
                    <a:pt x="36" y="992"/>
                  </a:lnTo>
                  <a:lnTo>
                    <a:pt x="24" y="1016"/>
                  </a:lnTo>
                  <a:lnTo>
                    <a:pt x="16" y="1040"/>
                  </a:lnTo>
                  <a:lnTo>
                    <a:pt x="10" y="1066"/>
                  </a:lnTo>
                  <a:lnTo>
                    <a:pt x="4" y="1092"/>
                  </a:lnTo>
                  <a:lnTo>
                    <a:pt x="2" y="1120"/>
                  </a:lnTo>
                  <a:lnTo>
                    <a:pt x="0" y="1148"/>
                  </a:lnTo>
                  <a:lnTo>
                    <a:pt x="0" y="1148"/>
                  </a:lnTo>
                  <a:lnTo>
                    <a:pt x="2" y="1182"/>
                  </a:lnTo>
                  <a:lnTo>
                    <a:pt x="8" y="1214"/>
                  </a:lnTo>
                  <a:lnTo>
                    <a:pt x="14" y="1246"/>
                  </a:lnTo>
                  <a:lnTo>
                    <a:pt x="26" y="1276"/>
                  </a:lnTo>
                  <a:lnTo>
                    <a:pt x="40" y="1306"/>
                  </a:lnTo>
                  <a:lnTo>
                    <a:pt x="58" y="1334"/>
                  </a:lnTo>
                  <a:lnTo>
                    <a:pt x="78" y="1360"/>
                  </a:lnTo>
                  <a:lnTo>
                    <a:pt x="100" y="1384"/>
                  </a:lnTo>
                  <a:lnTo>
                    <a:pt x="100" y="1384"/>
                  </a:lnTo>
                  <a:lnTo>
                    <a:pt x="124" y="1406"/>
                  </a:lnTo>
                  <a:lnTo>
                    <a:pt x="150" y="1424"/>
                  </a:lnTo>
                  <a:lnTo>
                    <a:pt x="178" y="1440"/>
                  </a:lnTo>
                  <a:lnTo>
                    <a:pt x="208" y="1454"/>
                  </a:lnTo>
                  <a:lnTo>
                    <a:pt x="240" y="1464"/>
                  </a:lnTo>
                  <a:lnTo>
                    <a:pt x="272" y="1472"/>
                  </a:lnTo>
                  <a:lnTo>
                    <a:pt x="306" y="1476"/>
                  </a:lnTo>
                  <a:lnTo>
                    <a:pt x="342" y="1478"/>
                  </a:lnTo>
                  <a:lnTo>
                    <a:pt x="342" y="1478"/>
                  </a:lnTo>
                  <a:lnTo>
                    <a:pt x="366" y="1476"/>
                  </a:lnTo>
                  <a:lnTo>
                    <a:pt x="392" y="1474"/>
                  </a:lnTo>
                  <a:lnTo>
                    <a:pt x="448" y="1466"/>
                  </a:lnTo>
                  <a:lnTo>
                    <a:pt x="514" y="1452"/>
                  </a:lnTo>
                  <a:lnTo>
                    <a:pt x="588" y="1430"/>
                  </a:lnTo>
                  <a:lnTo>
                    <a:pt x="588" y="1430"/>
                  </a:lnTo>
                  <a:lnTo>
                    <a:pt x="692" y="1400"/>
                  </a:lnTo>
                  <a:lnTo>
                    <a:pt x="792" y="1368"/>
                  </a:lnTo>
                  <a:lnTo>
                    <a:pt x="792" y="1368"/>
                  </a:lnTo>
                  <a:lnTo>
                    <a:pt x="842" y="1356"/>
                  </a:lnTo>
                  <a:lnTo>
                    <a:pt x="894" y="1344"/>
                  </a:lnTo>
                  <a:lnTo>
                    <a:pt x="948" y="1336"/>
                  </a:lnTo>
                  <a:lnTo>
                    <a:pt x="1002" y="1328"/>
                  </a:lnTo>
                  <a:lnTo>
                    <a:pt x="1056" y="1322"/>
                  </a:lnTo>
                  <a:lnTo>
                    <a:pt x="1112" y="1318"/>
                  </a:lnTo>
                  <a:lnTo>
                    <a:pt x="1170" y="1316"/>
                  </a:lnTo>
                  <a:lnTo>
                    <a:pt x="1228" y="1314"/>
                  </a:lnTo>
                  <a:lnTo>
                    <a:pt x="1228" y="1314"/>
                  </a:lnTo>
                  <a:lnTo>
                    <a:pt x="1252" y="1316"/>
                  </a:lnTo>
                  <a:lnTo>
                    <a:pt x="1276" y="1322"/>
                  </a:lnTo>
                  <a:lnTo>
                    <a:pt x="1300" y="1334"/>
                  </a:lnTo>
                  <a:lnTo>
                    <a:pt x="1324" y="1348"/>
                  </a:lnTo>
                  <a:lnTo>
                    <a:pt x="1324" y="1348"/>
                  </a:lnTo>
                  <a:lnTo>
                    <a:pt x="1340" y="1362"/>
                  </a:lnTo>
                  <a:lnTo>
                    <a:pt x="1346" y="1368"/>
                  </a:lnTo>
                  <a:lnTo>
                    <a:pt x="1350" y="1376"/>
                  </a:lnTo>
                  <a:lnTo>
                    <a:pt x="1354" y="1384"/>
                  </a:lnTo>
                  <a:lnTo>
                    <a:pt x="1356" y="1392"/>
                  </a:lnTo>
                  <a:lnTo>
                    <a:pt x="1358" y="1414"/>
                  </a:lnTo>
                  <a:lnTo>
                    <a:pt x="1358" y="1414"/>
                  </a:lnTo>
                  <a:lnTo>
                    <a:pt x="1356" y="1452"/>
                  </a:lnTo>
                  <a:lnTo>
                    <a:pt x="1354" y="1488"/>
                  </a:lnTo>
                  <a:lnTo>
                    <a:pt x="1350" y="1522"/>
                  </a:lnTo>
                  <a:lnTo>
                    <a:pt x="1346" y="1554"/>
                  </a:lnTo>
                  <a:lnTo>
                    <a:pt x="1340" y="1586"/>
                  </a:lnTo>
                  <a:lnTo>
                    <a:pt x="1332" y="1616"/>
                  </a:lnTo>
                  <a:lnTo>
                    <a:pt x="1324" y="1646"/>
                  </a:lnTo>
                  <a:lnTo>
                    <a:pt x="1314" y="1674"/>
                  </a:lnTo>
                  <a:lnTo>
                    <a:pt x="1302" y="1700"/>
                  </a:lnTo>
                  <a:lnTo>
                    <a:pt x="1288" y="1726"/>
                  </a:lnTo>
                  <a:lnTo>
                    <a:pt x="1274" y="1750"/>
                  </a:lnTo>
                  <a:lnTo>
                    <a:pt x="1258" y="1772"/>
                  </a:lnTo>
                  <a:lnTo>
                    <a:pt x="1242" y="1794"/>
                  </a:lnTo>
                  <a:lnTo>
                    <a:pt x="1222" y="1814"/>
                  </a:lnTo>
                  <a:lnTo>
                    <a:pt x="1202" y="1832"/>
                  </a:lnTo>
                  <a:lnTo>
                    <a:pt x="1182" y="1850"/>
                  </a:lnTo>
                  <a:lnTo>
                    <a:pt x="1182" y="1850"/>
                  </a:lnTo>
                  <a:lnTo>
                    <a:pt x="1162" y="1864"/>
                  </a:lnTo>
                  <a:lnTo>
                    <a:pt x="1140" y="1876"/>
                  </a:lnTo>
                  <a:lnTo>
                    <a:pt x="1118" y="1888"/>
                  </a:lnTo>
                  <a:lnTo>
                    <a:pt x="1096" y="1900"/>
                  </a:lnTo>
                  <a:lnTo>
                    <a:pt x="1046" y="1920"/>
                  </a:lnTo>
                  <a:lnTo>
                    <a:pt x="994" y="1936"/>
                  </a:lnTo>
                  <a:lnTo>
                    <a:pt x="936" y="1948"/>
                  </a:lnTo>
                  <a:lnTo>
                    <a:pt x="876" y="1958"/>
                  </a:lnTo>
                  <a:lnTo>
                    <a:pt x="812" y="1962"/>
                  </a:lnTo>
                  <a:lnTo>
                    <a:pt x="744" y="1964"/>
                  </a:lnTo>
                  <a:lnTo>
                    <a:pt x="744" y="1964"/>
                  </a:lnTo>
                  <a:lnTo>
                    <a:pt x="702" y="1966"/>
                  </a:lnTo>
                  <a:lnTo>
                    <a:pt x="664" y="1972"/>
                  </a:lnTo>
                  <a:lnTo>
                    <a:pt x="630" y="1982"/>
                  </a:lnTo>
                  <a:lnTo>
                    <a:pt x="598" y="1994"/>
                  </a:lnTo>
                  <a:lnTo>
                    <a:pt x="572" y="2006"/>
                  </a:lnTo>
                  <a:lnTo>
                    <a:pt x="548" y="2022"/>
                  </a:lnTo>
                  <a:lnTo>
                    <a:pt x="528" y="2036"/>
                  </a:lnTo>
                  <a:lnTo>
                    <a:pt x="510" y="2052"/>
                  </a:lnTo>
                  <a:lnTo>
                    <a:pt x="510" y="2052"/>
                  </a:lnTo>
                  <a:lnTo>
                    <a:pt x="482" y="2080"/>
                  </a:lnTo>
                  <a:lnTo>
                    <a:pt x="462" y="2108"/>
                  </a:lnTo>
                  <a:lnTo>
                    <a:pt x="444" y="2136"/>
                  </a:lnTo>
                  <a:lnTo>
                    <a:pt x="432" y="2164"/>
                  </a:lnTo>
                  <a:lnTo>
                    <a:pt x="424" y="2190"/>
                  </a:lnTo>
                  <a:lnTo>
                    <a:pt x="418" y="2214"/>
                  </a:lnTo>
                  <a:lnTo>
                    <a:pt x="414" y="2238"/>
                  </a:lnTo>
                  <a:lnTo>
                    <a:pt x="414" y="2260"/>
                  </a:lnTo>
                  <a:lnTo>
                    <a:pt x="414" y="2260"/>
                  </a:lnTo>
                  <a:lnTo>
                    <a:pt x="416" y="2298"/>
                  </a:lnTo>
                  <a:lnTo>
                    <a:pt x="420" y="2334"/>
                  </a:lnTo>
                  <a:lnTo>
                    <a:pt x="430" y="2370"/>
                  </a:lnTo>
                  <a:lnTo>
                    <a:pt x="442" y="2406"/>
                  </a:lnTo>
                  <a:lnTo>
                    <a:pt x="458" y="2438"/>
                  </a:lnTo>
                  <a:lnTo>
                    <a:pt x="478" y="2470"/>
                  </a:lnTo>
                  <a:lnTo>
                    <a:pt x="500" y="2500"/>
                  </a:lnTo>
                  <a:lnTo>
                    <a:pt x="526" y="2530"/>
                  </a:lnTo>
                  <a:lnTo>
                    <a:pt x="526" y="2530"/>
                  </a:lnTo>
                  <a:lnTo>
                    <a:pt x="554" y="2554"/>
                  </a:lnTo>
                  <a:lnTo>
                    <a:pt x="584" y="2576"/>
                  </a:lnTo>
                  <a:lnTo>
                    <a:pt x="618" y="2596"/>
                  </a:lnTo>
                  <a:lnTo>
                    <a:pt x="654" y="2610"/>
                  </a:lnTo>
                  <a:lnTo>
                    <a:pt x="692" y="2622"/>
                  </a:lnTo>
                  <a:lnTo>
                    <a:pt x="732" y="2632"/>
                  </a:lnTo>
                  <a:lnTo>
                    <a:pt x="774" y="2636"/>
                  </a:lnTo>
                  <a:lnTo>
                    <a:pt x="820" y="2638"/>
                  </a:lnTo>
                  <a:lnTo>
                    <a:pt x="820" y="2638"/>
                  </a:lnTo>
                  <a:lnTo>
                    <a:pt x="864" y="2638"/>
                  </a:lnTo>
                  <a:lnTo>
                    <a:pt x="908" y="2634"/>
                  </a:lnTo>
                  <a:lnTo>
                    <a:pt x="956" y="2630"/>
                  </a:lnTo>
                  <a:lnTo>
                    <a:pt x="1004" y="2624"/>
                  </a:lnTo>
                  <a:lnTo>
                    <a:pt x="1052" y="2616"/>
                  </a:lnTo>
                  <a:lnTo>
                    <a:pt x="1104" y="2606"/>
                  </a:lnTo>
                  <a:lnTo>
                    <a:pt x="1156" y="2594"/>
                  </a:lnTo>
                  <a:lnTo>
                    <a:pt x="1208" y="2582"/>
                  </a:lnTo>
                  <a:lnTo>
                    <a:pt x="1208" y="2582"/>
                  </a:lnTo>
                  <a:lnTo>
                    <a:pt x="1262" y="2566"/>
                  </a:lnTo>
                  <a:lnTo>
                    <a:pt x="1314" y="2550"/>
                  </a:lnTo>
                  <a:lnTo>
                    <a:pt x="1364" y="2532"/>
                  </a:lnTo>
                  <a:lnTo>
                    <a:pt x="1414" y="2514"/>
                  </a:lnTo>
                  <a:lnTo>
                    <a:pt x="1462" y="2492"/>
                  </a:lnTo>
                  <a:lnTo>
                    <a:pt x="1508" y="2470"/>
                  </a:lnTo>
                  <a:lnTo>
                    <a:pt x="1552" y="2448"/>
                  </a:lnTo>
                  <a:lnTo>
                    <a:pt x="1596" y="2424"/>
                  </a:lnTo>
                  <a:lnTo>
                    <a:pt x="1596" y="2424"/>
                  </a:lnTo>
                  <a:lnTo>
                    <a:pt x="1626" y="2406"/>
                  </a:lnTo>
                  <a:lnTo>
                    <a:pt x="1654" y="2386"/>
                  </a:lnTo>
                  <a:lnTo>
                    <a:pt x="1682" y="2368"/>
                  </a:lnTo>
                  <a:lnTo>
                    <a:pt x="1708" y="2346"/>
                  </a:lnTo>
                  <a:lnTo>
                    <a:pt x="1734" y="2324"/>
                  </a:lnTo>
                  <a:lnTo>
                    <a:pt x="1758" y="2302"/>
                  </a:lnTo>
                  <a:lnTo>
                    <a:pt x="1782" y="2278"/>
                  </a:lnTo>
                  <a:lnTo>
                    <a:pt x="1806" y="2254"/>
                  </a:lnTo>
                  <a:lnTo>
                    <a:pt x="1828" y="2230"/>
                  </a:lnTo>
                  <a:lnTo>
                    <a:pt x="1848" y="2204"/>
                  </a:lnTo>
                  <a:lnTo>
                    <a:pt x="1870" y="2176"/>
                  </a:lnTo>
                  <a:lnTo>
                    <a:pt x="1888" y="2148"/>
                  </a:lnTo>
                  <a:lnTo>
                    <a:pt x="1906" y="2120"/>
                  </a:lnTo>
                  <a:lnTo>
                    <a:pt x="1924" y="2090"/>
                  </a:lnTo>
                  <a:lnTo>
                    <a:pt x="1940" y="2058"/>
                  </a:lnTo>
                  <a:lnTo>
                    <a:pt x="1956" y="2028"/>
                  </a:lnTo>
                  <a:lnTo>
                    <a:pt x="1970" y="1994"/>
                  </a:lnTo>
                  <a:lnTo>
                    <a:pt x="1984" y="1962"/>
                  </a:lnTo>
                  <a:lnTo>
                    <a:pt x="2008" y="1892"/>
                  </a:lnTo>
                  <a:lnTo>
                    <a:pt x="2030" y="1818"/>
                  </a:lnTo>
                  <a:lnTo>
                    <a:pt x="2046" y="1742"/>
                  </a:lnTo>
                  <a:lnTo>
                    <a:pt x="2060" y="1662"/>
                  </a:lnTo>
                  <a:lnTo>
                    <a:pt x="2070" y="1578"/>
                  </a:lnTo>
                  <a:lnTo>
                    <a:pt x="2074" y="1492"/>
                  </a:lnTo>
                  <a:lnTo>
                    <a:pt x="2076" y="1400"/>
                  </a:lnTo>
                  <a:lnTo>
                    <a:pt x="2076" y="1400"/>
                  </a:lnTo>
                  <a:lnTo>
                    <a:pt x="2076" y="1358"/>
                  </a:lnTo>
                  <a:lnTo>
                    <a:pt x="2074" y="1318"/>
                  </a:lnTo>
                  <a:lnTo>
                    <a:pt x="2068" y="1278"/>
                  </a:lnTo>
                  <a:lnTo>
                    <a:pt x="2062" y="1238"/>
                  </a:lnTo>
                  <a:lnTo>
                    <a:pt x="2054" y="1200"/>
                  </a:lnTo>
                  <a:lnTo>
                    <a:pt x="2044" y="1162"/>
                  </a:lnTo>
                  <a:lnTo>
                    <a:pt x="2032" y="1126"/>
                  </a:lnTo>
                  <a:lnTo>
                    <a:pt x="2018" y="1092"/>
                  </a:lnTo>
                  <a:lnTo>
                    <a:pt x="2004" y="1058"/>
                  </a:lnTo>
                  <a:lnTo>
                    <a:pt x="1986" y="1024"/>
                  </a:lnTo>
                  <a:lnTo>
                    <a:pt x="1968" y="992"/>
                  </a:lnTo>
                  <a:lnTo>
                    <a:pt x="1946" y="962"/>
                  </a:lnTo>
                  <a:lnTo>
                    <a:pt x="1924" y="932"/>
                  </a:lnTo>
                  <a:lnTo>
                    <a:pt x="1900" y="902"/>
                  </a:lnTo>
                  <a:lnTo>
                    <a:pt x="1874" y="874"/>
                  </a:lnTo>
                  <a:lnTo>
                    <a:pt x="1846" y="848"/>
                  </a:lnTo>
                  <a:lnTo>
                    <a:pt x="1846" y="8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24"/>
            <p:cNvSpPr/>
            <p:nvPr/>
          </p:nvSpPr>
          <p:spPr>
            <a:xfrm>
              <a:off x="19550160" y="3825720"/>
              <a:ext cx="4060800" cy="4270680"/>
            </a:xfrm>
            <a:custGeom>
              <a:avLst/>
              <a:gdLst>
                <a:gd name="textAreaLeft" fmla="*/ 0 w 4060800"/>
                <a:gd name="textAreaRight" fmla="*/ 4061160 w 4060800"/>
                <a:gd name="textAreaTop" fmla="*/ 0 h 4270680"/>
                <a:gd name="textAreaBottom" fmla="*/ 4271040 h 4270680"/>
              </a:gdLst>
              <a:ahLst/>
              <a:rect l="textAreaLeft" t="textAreaTop" r="textAreaRight" b="textAreaBottom"/>
              <a:pathLst>
                <a:path w="2558" h="2690">
                  <a:moveTo>
                    <a:pt x="2134" y="778"/>
                  </a:moveTo>
                  <a:lnTo>
                    <a:pt x="2134" y="778"/>
                  </a:lnTo>
                  <a:lnTo>
                    <a:pt x="2148" y="764"/>
                  </a:lnTo>
                  <a:lnTo>
                    <a:pt x="2160" y="750"/>
                  </a:lnTo>
                  <a:lnTo>
                    <a:pt x="2160" y="750"/>
                  </a:lnTo>
                  <a:lnTo>
                    <a:pt x="2190" y="762"/>
                  </a:lnTo>
                  <a:lnTo>
                    <a:pt x="2222" y="772"/>
                  </a:lnTo>
                  <a:lnTo>
                    <a:pt x="2254" y="778"/>
                  </a:lnTo>
                  <a:lnTo>
                    <a:pt x="2288" y="780"/>
                  </a:lnTo>
                  <a:lnTo>
                    <a:pt x="2288" y="780"/>
                  </a:lnTo>
                  <a:lnTo>
                    <a:pt x="2322" y="778"/>
                  </a:lnTo>
                  <a:lnTo>
                    <a:pt x="2352" y="774"/>
                  </a:lnTo>
                  <a:lnTo>
                    <a:pt x="2382" y="766"/>
                  </a:lnTo>
                  <a:lnTo>
                    <a:pt x="2408" y="758"/>
                  </a:lnTo>
                  <a:lnTo>
                    <a:pt x="2432" y="746"/>
                  </a:lnTo>
                  <a:lnTo>
                    <a:pt x="2456" y="732"/>
                  </a:lnTo>
                  <a:lnTo>
                    <a:pt x="2474" y="718"/>
                  </a:lnTo>
                  <a:lnTo>
                    <a:pt x="2492" y="700"/>
                  </a:lnTo>
                  <a:lnTo>
                    <a:pt x="2508" y="682"/>
                  </a:lnTo>
                  <a:lnTo>
                    <a:pt x="2522" y="662"/>
                  </a:lnTo>
                  <a:lnTo>
                    <a:pt x="2532" y="642"/>
                  </a:lnTo>
                  <a:lnTo>
                    <a:pt x="2542" y="620"/>
                  </a:lnTo>
                  <a:lnTo>
                    <a:pt x="2548" y="598"/>
                  </a:lnTo>
                  <a:lnTo>
                    <a:pt x="2554" y="574"/>
                  </a:lnTo>
                  <a:lnTo>
                    <a:pt x="2556" y="552"/>
                  </a:lnTo>
                  <a:lnTo>
                    <a:pt x="2558" y="528"/>
                  </a:lnTo>
                  <a:lnTo>
                    <a:pt x="2558" y="528"/>
                  </a:lnTo>
                  <a:lnTo>
                    <a:pt x="2556" y="484"/>
                  </a:lnTo>
                  <a:lnTo>
                    <a:pt x="2550" y="442"/>
                  </a:lnTo>
                  <a:lnTo>
                    <a:pt x="2540" y="402"/>
                  </a:lnTo>
                  <a:lnTo>
                    <a:pt x="2526" y="364"/>
                  </a:lnTo>
                  <a:lnTo>
                    <a:pt x="2526" y="364"/>
                  </a:lnTo>
                  <a:lnTo>
                    <a:pt x="2524" y="358"/>
                  </a:lnTo>
                  <a:lnTo>
                    <a:pt x="2524" y="358"/>
                  </a:lnTo>
                  <a:lnTo>
                    <a:pt x="2492" y="294"/>
                  </a:lnTo>
                  <a:lnTo>
                    <a:pt x="2454" y="232"/>
                  </a:lnTo>
                  <a:lnTo>
                    <a:pt x="2414" y="170"/>
                  </a:lnTo>
                  <a:lnTo>
                    <a:pt x="2368" y="110"/>
                  </a:lnTo>
                  <a:lnTo>
                    <a:pt x="2368" y="110"/>
                  </a:lnTo>
                  <a:lnTo>
                    <a:pt x="2362" y="104"/>
                  </a:lnTo>
                  <a:lnTo>
                    <a:pt x="2362" y="104"/>
                  </a:lnTo>
                  <a:lnTo>
                    <a:pt x="2348" y="88"/>
                  </a:lnTo>
                  <a:lnTo>
                    <a:pt x="2332" y="74"/>
                  </a:lnTo>
                  <a:lnTo>
                    <a:pt x="2304" y="52"/>
                  </a:lnTo>
                  <a:lnTo>
                    <a:pt x="2274" y="32"/>
                  </a:lnTo>
                  <a:lnTo>
                    <a:pt x="2244" y="20"/>
                  </a:lnTo>
                  <a:lnTo>
                    <a:pt x="2216" y="10"/>
                  </a:lnTo>
                  <a:lnTo>
                    <a:pt x="2190" y="4"/>
                  </a:lnTo>
                  <a:lnTo>
                    <a:pt x="2164" y="0"/>
                  </a:lnTo>
                  <a:lnTo>
                    <a:pt x="2140" y="0"/>
                  </a:lnTo>
                  <a:lnTo>
                    <a:pt x="2140" y="0"/>
                  </a:lnTo>
                  <a:lnTo>
                    <a:pt x="2104" y="2"/>
                  </a:lnTo>
                  <a:lnTo>
                    <a:pt x="2068" y="6"/>
                  </a:lnTo>
                  <a:lnTo>
                    <a:pt x="2036" y="14"/>
                  </a:lnTo>
                  <a:lnTo>
                    <a:pt x="2006" y="24"/>
                  </a:lnTo>
                  <a:lnTo>
                    <a:pt x="1980" y="38"/>
                  </a:lnTo>
                  <a:lnTo>
                    <a:pt x="1956" y="54"/>
                  </a:lnTo>
                  <a:lnTo>
                    <a:pt x="1936" y="70"/>
                  </a:lnTo>
                  <a:lnTo>
                    <a:pt x="1918" y="90"/>
                  </a:lnTo>
                  <a:lnTo>
                    <a:pt x="1918" y="90"/>
                  </a:lnTo>
                  <a:lnTo>
                    <a:pt x="1886" y="78"/>
                  </a:lnTo>
                  <a:lnTo>
                    <a:pt x="1854" y="70"/>
                  </a:lnTo>
                  <a:lnTo>
                    <a:pt x="1826" y="66"/>
                  </a:lnTo>
                  <a:lnTo>
                    <a:pt x="1800" y="64"/>
                  </a:lnTo>
                  <a:lnTo>
                    <a:pt x="1800" y="64"/>
                  </a:lnTo>
                  <a:lnTo>
                    <a:pt x="1766" y="66"/>
                  </a:lnTo>
                  <a:lnTo>
                    <a:pt x="1734" y="70"/>
                  </a:lnTo>
                  <a:lnTo>
                    <a:pt x="1704" y="78"/>
                  </a:lnTo>
                  <a:lnTo>
                    <a:pt x="1676" y="86"/>
                  </a:lnTo>
                  <a:lnTo>
                    <a:pt x="1652" y="98"/>
                  </a:lnTo>
                  <a:lnTo>
                    <a:pt x="1628" y="112"/>
                  </a:lnTo>
                  <a:lnTo>
                    <a:pt x="1608" y="128"/>
                  </a:lnTo>
                  <a:lnTo>
                    <a:pt x="1590" y="146"/>
                  </a:lnTo>
                  <a:lnTo>
                    <a:pt x="1574" y="164"/>
                  </a:lnTo>
                  <a:lnTo>
                    <a:pt x="1560" y="184"/>
                  </a:lnTo>
                  <a:lnTo>
                    <a:pt x="1548" y="206"/>
                  </a:lnTo>
                  <a:lnTo>
                    <a:pt x="1540" y="228"/>
                  </a:lnTo>
                  <a:lnTo>
                    <a:pt x="1532" y="250"/>
                  </a:lnTo>
                  <a:lnTo>
                    <a:pt x="1526" y="274"/>
                  </a:lnTo>
                  <a:lnTo>
                    <a:pt x="1524" y="298"/>
                  </a:lnTo>
                  <a:lnTo>
                    <a:pt x="1522" y="322"/>
                  </a:lnTo>
                  <a:lnTo>
                    <a:pt x="1522" y="322"/>
                  </a:lnTo>
                  <a:lnTo>
                    <a:pt x="1524" y="346"/>
                  </a:lnTo>
                  <a:lnTo>
                    <a:pt x="1526" y="370"/>
                  </a:lnTo>
                  <a:lnTo>
                    <a:pt x="1532" y="394"/>
                  </a:lnTo>
                  <a:lnTo>
                    <a:pt x="1540" y="420"/>
                  </a:lnTo>
                  <a:lnTo>
                    <a:pt x="1550" y="446"/>
                  </a:lnTo>
                  <a:lnTo>
                    <a:pt x="1562" y="474"/>
                  </a:lnTo>
                  <a:lnTo>
                    <a:pt x="1576" y="500"/>
                  </a:lnTo>
                  <a:lnTo>
                    <a:pt x="1594" y="528"/>
                  </a:lnTo>
                  <a:lnTo>
                    <a:pt x="1594" y="528"/>
                  </a:lnTo>
                  <a:lnTo>
                    <a:pt x="1596" y="532"/>
                  </a:lnTo>
                  <a:lnTo>
                    <a:pt x="1596" y="532"/>
                  </a:lnTo>
                  <a:lnTo>
                    <a:pt x="1666" y="640"/>
                  </a:lnTo>
                  <a:lnTo>
                    <a:pt x="1714" y="712"/>
                  </a:lnTo>
                  <a:lnTo>
                    <a:pt x="1714" y="712"/>
                  </a:lnTo>
                  <a:lnTo>
                    <a:pt x="1452" y="788"/>
                  </a:lnTo>
                  <a:lnTo>
                    <a:pt x="1280" y="838"/>
                  </a:lnTo>
                  <a:lnTo>
                    <a:pt x="1184" y="408"/>
                  </a:lnTo>
                  <a:lnTo>
                    <a:pt x="1184" y="408"/>
                  </a:lnTo>
                  <a:lnTo>
                    <a:pt x="1176" y="376"/>
                  </a:lnTo>
                  <a:lnTo>
                    <a:pt x="1166" y="346"/>
                  </a:lnTo>
                  <a:lnTo>
                    <a:pt x="1154" y="318"/>
                  </a:lnTo>
                  <a:lnTo>
                    <a:pt x="1140" y="290"/>
                  </a:lnTo>
                  <a:lnTo>
                    <a:pt x="1122" y="266"/>
                  </a:lnTo>
                  <a:lnTo>
                    <a:pt x="1104" y="242"/>
                  </a:lnTo>
                  <a:lnTo>
                    <a:pt x="1082" y="220"/>
                  </a:lnTo>
                  <a:lnTo>
                    <a:pt x="1060" y="202"/>
                  </a:lnTo>
                  <a:lnTo>
                    <a:pt x="1036" y="184"/>
                  </a:lnTo>
                  <a:lnTo>
                    <a:pt x="1008" y="170"/>
                  </a:lnTo>
                  <a:lnTo>
                    <a:pt x="980" y="158"/>
                  </a:lnTo>
                  <a:lnTo>
                    <a:pt x="950" y="146"/>
                  </a:lnTo>
                  <a:lnTo>
                    <a:pt x="918" y="138"/>
                  </a:lnTo>
                  <a:lnTo>
                    <a:pt x="886" y="132"/>
                  </a:lnTo>
                  <a:lnTo>
                    <a:pt x="850" y="128"/>
                  </a:lnTo>
                  <a:lnTo>
                    <a:pt x="814" y="128"/>
                  </a:lnTo>
                  <a:lnTo>
                    <a:pt x="814" y="128"/>
                  </a:lnTo>
                  <a:lnTo>
                    <a:pt x="782" y="128"/>
                  </a:lnTo>
                  <a:lnTo>
                    <a:pt x="748" y="134"/>
                  </a:lnTo>
                  <a:lnTo>
                    <a:pt x="718" y="142"/>
                  </a:lnTo>
                  <a:lnTo>
                    <a:pt x="686" y="152"/>
                  </a:lnTo>
                  <a:lnTo>
                    <a:pt x="658" y="166"/>
                  </a:lnTo>
                  <a:lnTo>
                    <a:pt x="628" y="182"/>
                  </a:lnTo>
                  <a:lnTo>
                    <a:pt x="602" y="202"/>
                  </a:lnTo>
                  <a:lnTo>
                    <a:pt x="576" y="224"/>
                  </a:lnTo>
                  <a:lnTo>
                    <a:pt x="576" y="224"/>
                  </a:lnTo>
                  <a:lnTo>
                    <a:pt x="550" y="250"/>
                  </a:lnTo>
                  <a:lnTo>
                    <a:pt x="530" y="276"/>
                  </a:lnTo>
                  <a:lnTo>
                    <a:pt x="510" y="306"/>
                  </a:lnTo>
                  <a:lnTo>
                    <a:pt x="496" y="336"/>
                  </a:lnTo>
                  <a:lnTo>
                    <a:pt x="484" y="368"/>
                  </a:lnTo>
                  <a:lnTo>
                    <a:pt x="474" y="402"/>
                  </a:lnTo>
                  <a:lnTo>
                    <a:pt x="470" y="438"/>
                  </a:lnTo>
                  <a:lnTo>
                    <a:pt x="468" y="474"/>
                  </a:lnTo>
                  <a:lnTo>
                    <a:pt x="468" y="474"/>
                  </a:lnTo>
                  <a:lnTo>
                    <a:pt x="468" y="508"/>
                  </a:lnTo>
                  <a:lnTo>
                    <a:pt x="472" y="540"/>
                  </a:lnTo>
                  <a:lnTo>
                    <a:pt x="472" y="540"/>
                  </a:lnTo>
                  <a:lnTo>
                    <a:pt x="474" y="552"/>
                  </a:lnTo>
                  <a:lnTo>
                    <a:pt x="594" y="1112"/>
                  </a:lnTo>
                  <a:lnTo>
                    <a:pt x="594" y="1112"/>
                  </a:lnTo>
                  <a:lnTo>
                    <a:pt x="522" y="1156"/>
                  </a:lnTo>
                  <a:lnTo>
                    <a:pt x="454" y="1200"/>
                  </a:lnTo>
                  <a:lnTo>
                    <a:pt x="392" y="1246"/>
                  </a:lnTo>
                  <a:lnTo>
                    <a:pt x="334" y="1292"/>
                  </a:lnTo>
                  <a:lnTo>
                    <a:pt x="282" y="1340"/>
                  </a:lnTo>
                  <a:lnTo>
                    <a:pt x="232" y="1390"/>
                  </a:lnTo>
                  <a:lnTo>
                    <a:pt x="188" y="1440"/>
                  </a:lnTo>
                  <a:lnTo>
                    <a:pt x="150" y="1492"/>
                  </a:lnTo>
                  <a:lnTo>
                    <a:pt x="114" y="1546"/>
                  </a:lnTo>
                  <a:lnTo>
                    <a:pt x="84" y="1600"/>
                  </a:lnTo>
                  <a:lnTo>
                    <a:pt x="58" y="1656"/>
                  </a:lnTo>
                  <a:lnTo>
                    <a:pt x="38" y="1714"/>
                  </a:lnTo>
                  <a:lnTo>
                    <a:pt x="28" y="1742"/>
                  </a:lnTo>
                  <a:lnTo>
                    <a:pt x="22" y="1772"/>
                  </a:lnTo>
                  <a:lnTo>
                    <a:pt x="14" y="1802"/>
                  </a:lnTo>
                  <a:lnTo>
                    <a:pt x="10" y="1832"/>
                  </a:lnTo>
                  <a:lnTo>
                    <a:pt x="2" y="1892"/>
                  </a:lnTo>
                  <a:lnTo>
                    <a:pt x="0" y="1956"/>
                  </a:lnTo>
                  <a:lnTo>
                    <a:pt x="0" y="1956"/>
                  </a:lnTo>
                  <a:lnTo>
                    <a:pt x="2" y="1990"/>
                  </a:lnTo>
                  <a:lnTo>
                    <a:pt x="4" y="2026"/>
                  </a:lnTo>
                  <a:lnTo>
                    <a:pt x="8" y="2064"/>
                  </a:lnTo>
                  <a:lnTo>
                    <a:pt x="16" y="2102"/>
                  </a:lnTo>
                  <a:lnTo>
                    <a:pt x="26" y="2140"/>
                  </a:lnTo>
                  <a:lnTo>
                    <a:pt x="40" y="2180"/>
                  </a:lnTo>
                  <a:lnTo>
                    <a:pt x="56" y="2220"/>
                  </a:lnTo>
                  <a:lnTo>
                    <a:pt x="76" y="2260"/>
                  </a:lnTo>
                  <a:lnTo>
                    <a:pt x="100" y="2298"/>
                  </a:lnTo>
                  <a:lnTo>
                    <a:pt x="128" y="2338"/>
                  </a:lnTo>
                  <a:lnTo>
                    <a:pt x="160" y="2376"/>
                  </a:lnTo>
                  <a:lnTo>
                    <a:pt x="198" y="2414"/>
                  </a:lnTo>
                  <a:lnTo>
                    <a:pt x="240" y="2450"/>
                  </a:lnTo>
                  <a:lnTo>
                    <a:pt x="288" y="2484"/>
                  </a:lnTo>
                  <a:lnTo>
                    <a:pt x="340" y="2518"/>
                  </a:lnTo>
                  <a:lnTo>
                    <a:pt x="400" y="2548"/>
                  </a:lnTo>
                  <a:lnTo>
                    <a:pt x="400" y="2548"/>
                  </a:lnTo>
                  <a:lnTo>
                    <a:pt x="436" y="2566"/>
                  </a:lnTo>
                  <a:lnTo>
                    <a:pt x="474" y="2582"/>
                  </a:lnTo>
                  <a:lnTo>
                    <a:pt x="512" y="2596"/>
                  </a:lnTo>
                  <a:lnTo>
                    <a:pt x="552" y="2610"/>
                  </a:lnTo>
                  <a:lnTo>
                    <a:pt x="592" y="2624"/>
                  </a:lnTo>
                  <a:lnTo>
                    <a:pt x="634" y="2634"/>
                  </a:lnTo>
                  <a:lnTo>
                    <a:pt x="678" y="2646"/>
                  </a:lnTo>
                  <a:lnTo>
                    <a:pt x="722" y="2654"/>
                  </a:lnTo>
                  <a:lnTo>
                    <a:pt x="768" y="2662"/>
                  </a:lnTo>
                  <a:lnTo>
                    <a:pt x="814" y="2670"/>
                  </a:lnTo>
                  <a:lnTo>
                    <a:pt x="862" y="2676"/>
                  </a:lnTo>
                  <a:lnTo>
                    <a:pt x="910" y="2682"/>
                  </a:lnTo>
                  <a:lnTo>
                    <a:pt x="1010" y="2688"/>
                  </a:lnTo>
                  <a:lnTo>
                    <a:pt x="1114" y="2690"/>
                  </a:lnTo>
                  <a:lnTo>
                    <a:pt x="1114" y="2690"/>
                  </a:lnTo>
                  <a:lnTo>
                    <a:pt x="1220" y="2688"/>
                  </a:lnTo>
                  <a:lnTo>
                    <a:pt x="1328" y="2686"/>
                  </a:lnTo>
                  <a:lnTo>
                    <a:pt x="1432" y="2680"/>
                  </a:lnTo>
                  <a:lnTo>
                    <a:pt x="1538" y="2672"/>
                  </a:lnTo>
                  <a:lnTo>
                    <a:pt x="1640" y="2662"/>
                  </a:lnTo>
                  <a:lnTo>
                    <a:pt x="1742" y="2648"/>
                  </a:lnTo>
                  <a:lnTo>
                    <a:pt x="1844" y="2634"/>
                  </a:lnTo>
                  <a:lnTo>
                    <a:pt x="1944" y="2616"/>
                  </a:lnTo>
                  <a:lnTo>
                    <a:pt x="1944" y="2616"/>
                  </a:lnTo>
                  <a:lnTo>
                    <a:pt x="1976" y="2610"/>
                  </a:lnTo>
                  <a:lnTo>
                    <a:pt x="2008" y="2600"/>
                  </a:lnTo>
                  <a:lnTo>
                    <a:pt x="2038" y="2590"/>
                  </a:lnTo>
                  <a:lnTo>
                    <a:pt x="2068" y="2576"/>
                  </a:lnTo>
                  <a:lnTo>
                    <a:pt x="2094" y="2562"/>
                  </a:lnTo>
                  <a:lnTo>
                    <a:pt x="2118" y="2544"/>
                  </a:lnTo>
                  <a:lnTo>
                    <a:pt x="2140" y="2526"/>
                  </a:lnTo>
                  <a:lnTo>
                    <a:pt x="2160" y="2506"/>
                  </a:lnTo>
                  <a:lnTo>
                    <a:pt x="2178" y="2486"/>
                  </a:lnTo>
                  <a:lnTo>
                    <a:pt x="2194" y="2462"/>
                  </a:lnTo>
                  <a:lnTo>
                    <a:pt x="2208" y="2438"/>
                  </a:lnTo>
                  <a:lnTo>
                    <a:pt x="2220" y="2412"/>
                  </a:lnTo>
                  <a:lnTo>
                    <a:pt x="2230" y="2384"/>
                  </a:lnTo>
                  <a:lnTo>
                    <a:pt x="2236" y="2356"/>
                  </a:lnTo>
                  <a:lnTo>
                    <a:pt x="2240" y="2326"/>
                  </a:lnTo>
                  <a:lnTo>
                    <a:pt x="2242" y="2296"/>
                  </a:lnTo>
                  <a:lnTo>
                    <a:pt x="2242" y="2296"/>
                  </a:lnTo>
                  <a:lnTo>
                    <a:pt x="2242" y="2292"/>
                  </a:lnTo>
                  <a:lnTo>
                    <a:pt x="2242" y="2292"/>
                  </a:lnTo>
                  <a:lnTo>
                    <a:pt x="2240" y="2258"/>
                  </a:lnTo>
                  <a:lnTo>
                    <a:pt x="2236" y="2226"/>
                  </a:lnTo>
                  <a:lnTo>
                    <a:pt x="2230" y="2192"/>
                  </a:lnTo>
                  <a:lnTo>
                    <a:pt x="2220" y="2162"/>
                  </a:lnTo>
                  <a:lnTo>
                    <a:pt x="2206" y="2130"/>
                  </a:lnTo>
                  <a:lnTo>
                    <a:pt x="2192" y="2100"/>
                  </a:lnTo>
                  <a:lnTo>
                    <a:pt x="2174" y="2072"/>
                  </a:lnTo>
                  <a:lnTo>
                    <a:pt x="2152" y="2044"/>
                  </a:lnTo>
                  <a:lnTo>
                    <a:pt x="2152" y="2044"/>
                  </a:lnTo>
                  <a:lnTo>
                    <a:pt x="2126" y="2016"/>
                  </a:lnTo>
                  <a:lnTo>
                    <a:pt x="2098" y="1990"/>
                  </a:lnTo>
                  <a:lnTo>
                    <a:pt x="2066" y="1968"/>
                  </a:lnTo>
                  <a:lnTo>
                    <a:pt x="2034" y="1950"/>
                  </a:lnTo>
                  <a:lnTo>
                    <a:pt x="2000" y="1936"/>
                  </a:lnTo>
                  <a:lnTo>
                    <a:pt x="1964" y="1926"/>
                  </a:lnTo>
                  <a:lnTo>
                    <a:pt x="1924" y="1920"/>
                  </a:lnTo>
                  <a:lnTo>
                    <a:pt x="1886" y="1918"/>
                  </a:lnTo>
                  <a:lnTo>
                    <a:pt x="1886" y="1918"/>
                  </a:lnTo>
                  <a:lnTo>
                    <a:pt x="1866" y="1920"/>
                  </a:lnTo>
                  <a:lnTo>
                    <a:pt x="1848" y="1924"/>
                  </a:lnTo>
                  <a:lnTo>
                    <a:pt x="1848" y="1924"/>
                  </a:lnTo>
                  <a:lnTo>
                    <a:pt x="1602" y="1956"/>
                  </a:lnTo>
                  <a:lnTo>
                    <a:pt x="1602" y="1956"/>
                  </a:lnTo>
                  <a:lnTo>
                    <a:pt x="1474" y="1970"/>
                  </a:lnTo>
                  <a:lnTo>
                    <a:pt x="1358" y="1980"/>
                  </a:lnTo>
                  <a:lnTo>
                    <a:pt x="1254" y="1988"/>
                  </a:lnTo>
                  <a:lnTo>
                    <a:pt x="1162" y="1990"/>
                  </a:lnTo>
                  <a:lnTo>
                    <a:pt x="1162" y="1990"/>
                  </a:lnTo>
                  <a:lnTo>
                    <a:pt x="1076" y="1988"/>
                  </a:lnTo>
                  <a:lnTo>
                    <a:pt x="1034" y="1984"/>
                  </a:lnTo>
                  <a:lnTo>
                    <a:pt x="992" y="1980"/>
                  </a:lnTo>
                  <a:lnTo>
                    <a:pt x="952" y="1976"/>
                  </a:lnTo>
                  <a:lnTo>
                    <a:pt x="914" y="1968"/>
                  </a:lnTo>
                  <a:lnTo>
                    <a:pt x="876" y="1962"/>
                  </a:lnTo>
                  <a:lnTo>
                    <a:pt x="840" y="1954"/>
                  </a:lnTo>
                  <a:lnTo>
                    <a:pt x="840" y="1954"/>
                  </a:lnTo>
                  <a:lnTo>
                    <a:pt x="834" y="1952"/>
                  </a:lnTo>
                  <a:lnTo>
                    <a:pt x="834" y="1952"/>
                  </a:lnTo>
                  <a:lnTo>
                    <a:pt x="798" y="1944"/>
                  </a:lnTo>
                  <a:lnTo>
                    <a:pt x="768" y="1934"/>
                  </a:lnTo>
                  <a:lnTo>
                    <a:pt x="746" y="1926"/>
                  </a:lnTo>
                  <a:lnTo>
                    <a:pt x="730" y="1918"/>
                  </a:lnTo>
                  <a:lnTo>
                    <a:pt x="730" y="1918"/>
                  </a:lnTo>
                  <a:lnTo>
                    <a:pt x="734" y="1904"/>
                  </a:lnTo>
                  <a:lnTo>
                    <a:pt x="742" y="1888"/>
                  </a:lnTo>
                  <a:lnTo>
                    <a:pt x="750" y="1874"/>
                  </a:lnTo>
                  <a:lnTo>
                    <a:pt x="760" y="1860"/>
                  </a:lnTo>
                  <a:lnTo>
                    <a:pt x="784" y="1832"/>
                  </a:lnTo>
                  <a:lnTo>
                    <a:pt x="812" y="1806"/>
                  </a:lnTo>
                  <a:lnTo>
                    <a:pt x="842" y="1780"/>
                  </a:lnTo>
                  <a:lnTo>
                    <a:pt x="872" y="1758"/>
                  </a:lnTo>
                  <a:lnTo>
                    <a:pt x="902" y="1740"/>
                  </a:lnTo>
                  <a:lnTo>
                    <a:pt x="930" y="1722"/>
                  </a:lnTo>
                  <a:lnTo>
                    <a:pt x="930" y="1722"/>
                  </a:lnTo>
                  <a:lnTo>
                    <a:pt x="980" y="1696"/>
                  </a:lnTo>
                  <a:lnTo>
                    <a:pt x="1034" y="1668"/>
                  </a:lnTo>
                  <a:lnTo>
                    <a:pt x="1094" y="1640"/>
                  </a:lnTo>
                  <a:lnTo>
                    <a:pt x="1160" y="1614"/>
                  </a:lnTo>
                  <a:lnTo>
                    <a:pt x="1230" y="1586"/>
                  </a:lnTo>
                  <a:lnTo>
                    <a:pt x="1306" y="1560"/>
                  </a:lnTo>
                  <a:lnTo>
                    <a:pt x="1388" y="1534"/>
                  </a:lnTo>
                  <a:lnTo>
                    <a:pt x="1472" y="1506"/>
                  </a:lnTo>
                  <a:lnTo>
                    <a:pt x="1472" y="1506"/>
                  </a:lnTo>
                  <a:lnTo>
                    <a:pt x="1714" y="1440"/>
                  </a:lnTo>
                  <a:lnTo>
                    <a:pt x="1954" y="1378"/>
                  </a:lnTo>
                  <a:lnTo>
                    <a:pt x="1954" y="1378"/>
                  </a:lnTo>
                  <a:lnTo>
                    <a:pt x="1956" y="1378"/>
                  </a:lnTo>
                  <a:lnTo>
                    <a:pt x="1956" y="1378"/>
                  </a:lnTo>
                  <a:lnTo>
                    <a:pt x="1986" y="1368"/>
                  </a:lnTo>
                  <a:lnTo>
                    <a:pt x="2014" y="1356"/>
                  </a:lnTo>
                  <a:lnTo>
                    <a:pt x="2042" y="1344"/>
                  </a:lnTo>
                  <a:lnTo>
                    <a:pt x="2066" y="1330"/>
                  </a:lnTo>
                  <a:lnTo>
                    <a:pt x="2090" y="1314"/>
                  </a:lnTo>
                  <a:lnTo>
                    <a:pt x="2110" y="1296"/>
                  </a:lnTo>
                  <a:lnTo>
                    <a:pt x="2130" y="1278"/>
                  </a:lnTo>
                  <a:lnTo>
                    <a:pt x="2148" y="1256"/>
                  </a:lnTo>
                  <a:lnTo>
                    <a:pt x="2164" y="1234"/>
                  </a:lnTo>
                  <a:lnTo>
                    <a:pt x="2176" y="1212"/>
                  </a:lnTo>
                  <a:lnTo>
                    <a:pt x="2188" y="1186"/>
                  </a:lnTo>
                  <a:lnTo>
                    <a:pt x="2198" y="1160"/>
                  </a:lnTo>
                  <a:lnTo>
                    <a:pt x="2206" y="1134"/>
                  </a:lnTo>
                  <a:lnTo>
                    <a:pt x="2210" y="1104"/>
                  </a:lnTo>
                  <a:lnTo>
                    <a:pt x="2214" y="1076"/>
                  </a:lnTo>
                  <a:lnTo>
                    <a:pt x="2216" y="1044"/>
                  </a:lnTo>
                  <a:lnTo>
                    <a:pt x="2216" y="1044"/>
                  </a:lnTo>
                  <a:lnTo>
                    <a:pt x="2214" y="1010"/>
                  </a:lnTo>
                  <a:lnTo>
                    <a:pt x="2210" y="976"/>
                  </a:lnTo>
                  <a:lnTo>
                    <a:pt x="2202" y="942"/>
                  </a:lnTo>
                  <a:lnTo>
                    <a:pt x="2190" y="912"/>
                  </a:lnTo>
                  <a:lnTo>
                    <a:pt x="2178" y="880"/>
                  </a:lnTo>
                  <a:lnTo>
                    <a:pt x="2160" y="850"/>
                  </a:lnTo>
                  <a:lnTo>
                    <a:pt x="2142" y="822"/>
                  </a:lnTo>
                  <a:lnTo>
                    <a:pt x="2120" y="796"/>
                  </a:lnTo>
                  <a:lnTo>
                    <a:pt x="2120" y="796"/>
                  </a:lnTo>
                  <a:lnTo>
                    <a:pt x="2116" y="792"/>
                  </a:lnTo>
                  <a:lnTo>
                    <a:pt x="2116" y="792"/>
                  </a:lnTo>
                  <a:lnTo>
                    <a:pt x="2124" y="786"/>
                  </a:lnTo>
                  <a:lnTo>
                    <a:pt x="2124" y="786"/>
                  </a:lnTo>
                  <a:lnTo>
                    <a:pt x="2134" y="778"/>
                  </a:lnTo>
                  <a:lnTo>
                    <a:pt x="2134" y="7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25"/>
            <p:cNvSpPr/>
            <p:nvPr/>
          </p:nvSpPr>
          <p:spPr>
            <a:xfrm>
              <a:off x="23490360" y="4019400"/>
              <a:ext cx="4257720" cy="4150080"/>
            </a:xfrm>
            <a:custGeom>
              <a:avLst/>
              <a:gdLst>
                <a:gd name="textAreaLeft" fmla="*/ 0 w 4257720"/>
                <a:gd name="textAreaRight" fmla="*/ 4258080 w 4257720"/>
                <a:gd name="textAreaTop" fmla="*/ 0 h 4150080"/>
                <a:gd name="textAreaBottom" fmla="*/ 4150440 h 4150080"/>
              </a:gdLst>
              <a:ahLst/>
              <a:rect l="textAreaLeft" t="textAreaTop" r="textAreaRight" b="textAreaBottom"/>
              <a:pathLst>
                <a:path w="2682" h="2614">
                  <a:moveTo>
                    <a:pt x="2592" y="1504"/>
                  </a:moveTo>
                  <a:lnTo>
                    <a:pt x="2592" y="1504"/>
                  </a:lnTo>
                  <a:lnTo>
                    <a:pt x="2588" y="1498"/>
                  </a:lnTo>
                  <a:lnTo>
                    <a:pt x="2588" y="1498"/>
                  </a:lnTo>
                  <a:lnTo>
                    <a:pt x="2562" y="1474"/>
                  </a:lnTo>
                  <a:lnTo>
                    <a:pt x="2534" y="1452"/>
                  </a:lnTo>
                  <a:lnTo>
                    <a:pt x="2504" y="1434"/>
                  </a:lnTo>
                  <a:lnTo>
                    <a:pt x="2474" y="1418"/>
                  </a:lnTo>
                  <a:lnTo>
                    <a:pt x="2442" y="1406"/>
                  </a:lnTo>
                  <a:lnTo>
                    <a:pt x="2408" y="1398"/>
                  </a:lnTo>
                  <a:lnTo>
                    <a:pt x="2374" y="1394"/>
                  </a:lnTo>
                  <a:lnTo>
                    <a:pt x="2340" y="1392"/>
                  </a:lnTo>
                  <a:lnTo>
                    <a:pt x="2340" y="1392"/>
                  </a:lnTo>
                  <a:lnTo>
                    <a:pt x="2314" y="1392"/>
                  </a:lnTo>
                  <a:lnTo>
                    <a:pt x="2288" y="1394"/>
                  </a:lnTo>
                  <a:lnTo>
                    <a:pt x="2264" y="1398"/>
                  </a:lnTo>
                  <a:lnTo>
                    <a:pt x="2240" y="1404"/>
                  </a:lnTo>
                  <a:lnTo>
                    <a:pt x="2218" y="1410"/>
                  </a:lnTo>
                  <a:lnTo>
                    <a:pt x="2196" y="1418"/>
                  </a:lnTo>
                  <a:lnTo>
                    <a:pt x="2176" y="1428"/>
                  </a:lnTo>
                  <a:lnTo>
                    <a:pt x="2156" y="1438"/>
                  </a:lnTo>
                  <a:lnTo>
                    <a:pt x="2138" y="1450"/>
                  </a:lnTo>
                  <a:lnTo>
                    <a:pt x="2120" y="1464"/>
                  </a:lnTo>
                  <a:lnTo>
                    <a:pt x="2102" y="1478"/>
                  </a:lnTo>
                  <a:lnTo>
                    <a:pt x="2088" y="1494"/>
                  </a:lnTo>
                  <a:lnTo>
                    <a:pt x="2072" y="1512"/>
                  </a:lnTo>
                  <a:lnTo>
                    <a:pt x="2060" y="1530"/>
                  </a:lnTo>
                  <a:lnTo>
                    <a:pt x="2046" y="1550"/>
                  </a:lnTo>
                  <a:lnTo>
                    <a:pt x="2036" y="1570"/>
                  </a:lnTo>
                  <a:lnTo>
                    <a:pt x="2036" y="1570"/>
                  </a:lnTo>
                  <a:lnTo>
                    <a:pt x="2034" y="1576"/>
                  </a:lnTo>
                  <a:lnTo>
                    <a:pt x="2034" y="1576"/>
                  </a:lnTo>
                  <a:lnTo>
                    <a:pt x="1980" y="1692"/>
                  </a:lnTo>
                  <a:lnTo>
                    <a:pt x="1980" y="1692"/>
                  </a:lnTo>
                  <a:lnTo>
                    <a:pt x="1956" y="1740"/>
                  </a:lnTo>
                  <a:lnTo>
                    <a:pt x="1934" y="1780"/>
                  </a:lnTo>
                  <a:lnTo>
                    <a:pt x="1912" y="1814"/>
                  </a:lnTo>
                  <a:lnTo>
                    <a:pt x="1890" y="1842"/>
                  </a:lnTo>
                  <a:lnTo>
                    <a:pt x="1872" y="1864"/>
                  </a:lnTo>
                  <a:lnTo>
                    <a:pt x="1854" y="1880"/>
                  </a:lnTo>
                  <a:lnTo>
                    <a:pt x="1838" y="1892"/>
                  </a:lnTo>
                  <a:lnTo>
                    <a:pt x="1826" y="1898"/>
                  </a:lnTo>
                  <a:lnTo>
                    <a:pt x="1826" y="1898"/>
                  </a:lnTo>
                  <a:lnTo>
                    <a:pt x="1822" y="1888"/>
                  </a:lnTo>
                  <a:lnTo>
                    <a:pt x="1822" y="1888"/>
                  </a:lnTo>
                  <a:lnTo>
                    <a:pt x="1818" y="1862"/>
                  </a:lnTo>
                  <a:lnTo>
                    <a:pt x="1814" y="1814"/>
                  </a:lnTo>
                  <a:lnTo>
                    <a:pt x="1812" y="1744"/>
                  </a:lnTo>
                  <a:lnTo>
                    <a:pt x="1810" y="1642"/>
                  </a:lnTo>
                  <a:lnTo>
                    <a:pt x="1810" y="1642"/>
                  </a:lnTo>
                  <a:lnTo>
                    <a:pt x="1808" y="1590"/>
                  </a:lnTo>
                  <a:lnTo>
                    <a:pt x="1804" y="1540"/>
                  </a:lnTo>
                  <a:lnTo>
                    <a:pt x="1798" y="1490"/>
                  </a:lnTo>
                  <a:lnTo>
                    <a:pt x="1788" y="1442"/>
                  </a:lnTo>
                  <a:lnTo>
                    <a:pt x="1776" y="1394"/>
                  </a:lnTo>
                  <a:lnTo>
                    <a:pt x="1760" y="1348"/>
                  </a:lnTo>
                  <a:lnTo>
                    <a:pt x="1742" y="1304"/>
                  </a:lnTo>
                  <a:lnTo>
                    <a:pt x="1722" y="1260"/>
                  </a:lnTo>
                  <a:lnTo>
                    <a:pt x="1722" y="1260"/>
                  </a:lnTo>
                  <a:lnTo>
                    <a:pt x="1706" y="1230"/>
                  </a:lnTo>
                  <a:lnTo>
                    <a:pt x="1688" y="1202"/>
                  </a:lnTo>
                  <a:lnTo>
                    <a:pt x="1670" y="1174"/>
                  </a:lnTo>
                  <a:lnTo>
                    <a:pt x="1650" y="1150"/>
                  </a:lnTo>
                  <a:lnTo>
                    <a:pt x="1628" y="1126"/>
                  </a:lnTo>
                  <a:lnTo>
                    <a:pt x="1606" y="1106"/>
                  </a:lnTo>
                  <a:lnTo>
                    <a:pt x="1582" y="1086"/>
                  </a:lnTo>
                  <a:lnTo>
                    <a:pt x="1558" y="1068"/>
                  </a:lnTo>
                  <a:lnTo>
                    <a:pt x="1532" y="1052"/>
                  </a:lnTo>
                  <a:lnTo>
                    <a:pt x="1506" y="1038"/>
                  </a:lnTo>
                  <a:lnTo>
                    <a:pt x="1478" y="1026"/>
                  </a:lnTo>
                  <a:lnTo>
                    <a:pt x="1450" y="1016"/>
                  </a:lnTo>
                  <a:lnTo>
                    <a:pt x="1420" y="1008"/>
                  </a:lnTo>
                  <a:lnTo>
                    <a:pt x="1390" y="1002"/>
                  </a:lnTo>
                  <a:lnTo>
                    <a:pt x="1360" y="998"/>
                  </a:lnTo>
                  <a:lnTo>
                    <a:pt x="1328" y="994"/>
                  </a:lnTo>
                  <a:lnTo>
                    <a:pt x="1328" y="994"/>
                  </a:lnTo>
                  <a:lnTo>
                    <a:pt x="1472" y="706"/>
                  </a:lnTo>
                  <a:lnTo>
                    <a:pt x="1568" y="510"/>
                  </a:lnTo>
                  <a:lnTo>
                    <a:pt x="1568" y="510"/>
                  </a:lnTo>
                  <a:lnTo>
                    <a:pt x="1578" y="488"/>
                  </a:lnTo>
                  <a:lnTo>
                    <a:pt x="1586" y="468"/>
                  </a:lnTo>
                  <a:lnTo>
                    <a:pt x="1594" y="446"/>
                  </a:lnTo>
                  <a:lnTo>
                    <a:pt x="1600" y="424"/>
                  </a:lnTo>
                  <a:lnTo>
                    <a:pt x="1606" y="404"/>
                  </a:lnTo>
                  <a:lnTo>
                    <a:pt x="1608" y="382"/>
                  </a:lnTo>
                  <a:lnTo>
                    <a:pt x="1610" y="362"/>
                  </a:lnTo>
                  <a:lnTo>
                    <a:pt x="1612" y="340"/>
                  </a:lnTo>
                  <a:lnTo>
                    <a:pt x="1612" y="340"/>
                  </a:lnTo>
                  <a:lnTo>
                    <a:pt x="1612" y="328"/>
                  </a:lnTo>
                  <a:lnTo>
                    <a:pt x="1612" y="328"/>
                  </a:lnTo>
                  <a:lnTo>
                    <a:pt x="1608" y="304"/>
                  </a:lnTo>
                  <a:lnTo>
                    <a:pt x="1602" y="278"/>
                  </a:lnTo>
                  <a:lnTo>
                    <a:pt x="1594" y="248"/>
                  </a:lnTo>
                  <a:lnTo>
                    <a:pt x="1582" y="218"/>
                  </a:lnTo>
                  <a:lnTo>
                    <a:pt x="1566" y="188"/>
                  </a:lnTo>
                  <a:lnTo>
                    <a:pt x="1546" y="158"/>
                  </a:lnTo>
                  <a:lnTo>
                    <a:pt x="1518" y="126"/>
                  </a:lnTo>
                  <a:lnTo>
                    <a:pt x="1504" y="112"/>
                  </a:lnTo>
                  <a:lnTo>
                    <a:pt x="1486" y="96"/>
                  </a:lnTo>
                  <a:lnTo>
                    <a:pt x="1486" y="96"/>
                  </a:lnTo>
                  <a:lnTo>
                    <a:pt x="1460" y="74"/>
                  </a:lnTo>
                  <a:lnTo>
                    <a:pt x="1430" y="54"/>
                  </a:lnTo>
                  <a:lnTo>
                    <a:pt x="1402" y="38"/>
                  </a:lnTo>
                  <a:lnTo>
                    <a:pt x="1370" y="24"/>
                  </a:lnTo>
                  <a:lnTo>
                    <a:pt x="1338" y="14"/>
                  </a:lnTo>
                  <a:lnTo>
                    <a:pt x="1304" y="6"/>
                  </a:lnTo>
                  <a:lnTo>
                    <a:pt x="1270" y="2"/>
                  </a:lnTo>
                  <a:lnTo>
                    <a:pt x="1236" y="0"/>
                  </a:lnTo>
                  <a:lnTo>
                    <a:pt x="1236" y="0"/>
                  </a:lnTo>
                  <a:lnTo>
                    <a:pt x="1210" y="0"/>
                  </a:lnTo>
                  <a:lnTo>
                    <a:pt x="1186" y="4"/>
                  </a:lnTo>
                  <a:lnTo>
                    <a:pt x="1164" y="8"/>
                  </a:lnTo>
                  <a:lnTo>
                    <a:pt x="1140" y="12"/>
                  </a:lnTo>
                  <a:lnTo>
                    <a:pt x="1118" y="20"/>
                  </a:lnTo>
                  <a:lnTo>
                    <a:pt x="1096" y="28"/>
                  </a:lnTo>
                  <a:lnTo>
                    <a:pt x="1076" y="38"/>
                  </a:lnTo>
                  <a:lnTo>
                    <a:pt x="1056" y="50"/>
                  </a:lnTo>
                  <a:lnTo>
                    <a:pt x="1036" y="64"/>
                  </a:lnTo>
                  <a:lnTo>
                    <a:pt x="1018" y="78"/>
                  </a:lnTo>
                  <a:lnTo>
                    <a:pt x="1000" y="94"/>
                  </a:lnTo>
                  <a:lnTo>
                    <a:pt x="982" y="112"/>
                  </a:lnTo>
                  <a:lnTo>
                    <a:pt x="966" y="130"/>
                  </a:lnTo>
                  <a:lnTo>
                    <a:pt x="952" y="150"/>
                  </a:lnTo>
                  <a:lnTo>
                    <a:pt x="938" y="172"/>
                  </a:lnTo>
                  <a:lnTo>
                    <a:pt x="924" y="194"/>
                  </a:lnTo>
                  <a:lnTo>
                    <a:pt x="924" y="194"/>
                  </a:lnTo>
                  <a:lnTo>
                    <a:pt x="922" y="200"/>
                  </a:lnTo>
                  <a:lnTo>
                    <a:pt x="922" y="200"/>
                  </a:lnTo>
                  <a:lnTo>
                    <a:pt x="754" y="544"/>
                  </a:lnTo>
                  <a:lnTo>
                    <a:pt x="608" y="844"/>
                  </a:lnTo>
                  <a:lnTo>
                    <a:pt x="486" y="1100"/>
                  </a:lnTo>
                  <a:lnTo>
                    <a:pt x="388" y="1310"/>
                  </a:lnTo>
                  <a:lnTo>
                    <a:pt x="388" y="1310"/>
                  </a:lnTo>
                  <a:lnTo>
                    <a:pt x="260" y="1582"/>
                  </a:lnTo>
                  <a:lnTo>
                    <a:pt x="164" y="1792"/>
                  </a:lnTo>
                  <a:lnTo>
                    <a:pt x="94" y="1948"/>
                  </a:lnTo>
                  <a:lnTo>
                    <a:pt x="48" y="2060"/>
                  </a:lnTo>
                  <a:lnTo>
                    <a:pt x="20" y="2136"/>
                  </a:lnTo>
                  <a:lnTo>
                    <a:pt x="12" y="2164"/>
                  </a:lnTo>
                  <a:lnTo>
                    <a:pt x="6" y="2186"/>
                  </a:lnTo>
                  <a:lnTo>
                    <a:pt x="2" y="2202"/>
                  </a:lnTo>
                  <a:lnTo>
                    <a:pt x="0" y="2216"/>
                  </a:lnTo>
                  <a:lnTo>
                    <a:pt x="0" y="2238"/>
                  </a:lnTo>
                  <a:lnTo>
                    <a:pt x="0" y="2238"/>
                  </a:lnTo>
                  <a:lnTo>
                    <a:pt x="2" y="2280"/>
                  </a:lnTo>
                  <a:lnTo>
                    <a:pt x="8" y="2320"/>
                  </a:lnTo>
                  <a:lnTo>
                    <a:pt x="16" y="2358"/>
                  </a:lnTo>
                  <a:lnTo>
                    <a:pt x="28" y="2394"/>
                  </a:lnTo>
                  <a:lnTo>
                    <a:pt x="42" y="2428"/>
                  </a:lnTo>
                  <a:lnTo>
                    <a:pt x="60" y="2460"/>
                  </a:lnTo>
                  <a:lnTo>
                    <a:pt x="82" y="2488"/>
                  </a:lnTo>
                  <a:lnTo>
                    <a:pt x="106" y="2514"/>
                  </a:lnTo>
                  <a:lnTo>
                    <a:pt x="132" y="2536"/>
                  </a:lnTo>
                  <a:lnTo>
                    <a:pt x="162" y="2556"/>
                  </a:lnTo>
                  <a:lnTo>
                    <a:pt x="194" y="2574"/>
                  </a:lnTo>
                  <a:lnTo>
                    <a:pt x="230" y="2588"/>
                  </a:lnTo>
                  <a:lnTo>
                    <a:pt x="266" y="2600"/>
                  </a:lnTo>
                  <a:lnTo>
                    <a:pt x="306" y="2608"/>
                  </a:lnTo>
                  <a:lnTo>
                    <a:pt x="348" y="2612"/>
                  </a:lnTo>
                  <a:lnTo>
                    <a:pt x="392" y="2614"/>
                  </a:lnTo>
                  <a:lnTo>
                    <a:pt x="392" y="2614"/>
                  </a:lnTo>
                  <a:lnTo>
                    <a:pt x="410" y="2614"/>
                  </a:lnTo>
                  <a:lnTo>
                    <a:pt x="430" y="2612"/>
                  </a:lnTo>
                  <a:lnTo>
                    <a:pt x="450" y="2608"/>
                  </a:lnTo>
                  <a:lnTo>
                    <a:pt x="470" y="2604"/>
                  </a:lnTo>
                  <a:lnTo>
                    <a:pt x="490" y="2598"/>
                  </a:lnTo>
                  <a:lnTo>
                    <a:pt x="510" y="2588"/>
                  </a:lnTo>
                  <a:lnTo>
                    <a:pt x="530" y="2578"/>
                  </a:lnTo>
                  <a:lnTo>
                    <a:pt x="552" y="2566"/>
                  </a:lnTo>
                  <a:lnTo>
                    <a:pt x="572" y="2550"/>
                  </a:lnTo>
                  <a:lnTo>
                    <a:pt x="592" y="2532"/>
                  </a:lnTo>
                  <a:lnTo>
                    <a:pt x="612" y="2510"/>
                  </a:lnTo>
                  <a:lnTo>
                    <a:pt x="632" y="2486"/>
                  </a:lnTo>
                  <a:lnTo>
                    <a:pt x="652" y="2460"/>
                  </a:lnTo>
                  <a:lnTo>
                    <a:pt x="670" y="2428"/>
                  </a:lnTo>
                  <a:lnTo>
                    <a:pt x="688" y="2394"/>
                  </a:lnTo>
                  <a:lnTo>
                    <a:pt x="704" y="2356"/>
                  </a:lnTo>
                  <a:lnTo>
                    <a:pt x="704" y="2356"/>
                  </a:lnTo>
                  <a:lnTo>
                    <a:pt x="772" y="2206"/>
                  </a:lnTo>
                  <a:lnTo>
                    <a:pt x="830" y="2078"/>
                  </a:lnTo>
                  <a:lnTo>
                    <a:pt x="858" y="2024"/>
                  </a:lnTo>
                  <a:lnTo>
                    <a:pt x="884" y="1978"/>
                  </a:lnTo>
                  <a:lnTo>
                    <a:pt x="906" y="1936"/>
                  </a:lnTo>
                  <a:lnTo>
                    <a:pt x="928" y="1902"/>
                  </a:lnTo>
                  <a:lnTo>
                    <a:pt x="928" y="1902"/>
                  </a:lnTo>
                  <a:lnTo>
                    <a:pt x="956" y="1862"/>
                  </a:lnTo>
                  <a:lnTo>
                    <a:pt x="992" y="1822"/>
                  </a:lnTo>
                  <a:lnTo>
                    <a:pt x="1032" y="1782"/>
                  </a:lnTo>
                  <a:lnTo>
                    <a:pt x="1080" y="1740"/>
                  </a:lnTo>
                  <a:lnTo>
                    <a:pt x="1080" y="1740"/>
                  </a:lnTo>
                  <a:lnTo>
                    <a:pt x="1120" y="1708"/>
                  </a:lnTo>
                  <a:lnTo>
                    <a:pt x="1120" y="1708"/>
                  </a:lnTo>
                  <a:lnTo>
                    <a:pt x="1114" y="1822"/>
                  </a:lnTo>
                  <a:lnTo>
                    <a:pt x="1114" y="1822"/>
                  </a:lnTo>
                  <a:lnTo>
                    <a:pt x="1110" y="1924"/>
                  </a:lnTo>
                  <a:lnTo>
                    <a:pt x="1110" y="1950"/>
                  </a:lnTo>
                  <a:lnTo>
                    <a:pt x="1110" y="1950"/>
                  </a:lnTo>
                  <a:lnTo>
                    <a:pt x="1110" y="1986"/>
                  </a:lnTo>
                  <a:lnTo>
                    <a:pt x="1112" y="2022"/>
                  </a:lnTo>
                  <a:lnTo>
                    <a:pt x="1116" y="2058"/>
                  </a:lnTo>
                  <a:lnTo>
                    <a:pt x="1122" y="2092"/>
                  </a:lnTo>
                  <a:lnTo>
                    <a:pt x="1128" y="2126"/>
                  </a:lnTo>
                  <a:lnTo>
                    <a:pt x="1136" y="2158"/>
                  </a:lnTo>
                  <a:lnTo>
                    <a:pt x="1146" y="2190"/>
                  </a:lnTo>
                  <a:lnTo>
                    <a:pt x="1158" y="2220"/>
                  </a:lnTo>
                  <a:lnTo>
                    <a:pt x="1170" y="2250"/>
                  </a:lnTo>
                  <a:lnTo>
                    <a:pt x="1184" y="2278"/>
                  </a:lnTo>
                  <a:lnTo>
                    <a:pt x="1200" y="2306"/>
                  </a:lnTo>
                  <a:lnTo>
                    <a:pt x="1218" y="2332"/>
                  </a:lnTo>
                  <a:lnTo>
                    <a:pt x="1236" y="2358"/>
                  </a:lnTo>
                  <a:lnTo>
                    <a:pt x="1256" y="2382"/>
                  </a:lnTo>
                  <a:lnTo>
                    <a:pt x="1278" y="2406"/>
                  </a:lnTo>
                  <a:lnTo>
                    <a:pt x="1302" y="2428"/>
                  </a:lnTo>
                  <a:lnTo>
                    <a:pt x="1302" y="2428"/>
                  </a:lnTo>
                  <a:lnTo>
                    <a:pt x="1302" y="2430"/>
                  </a:lnTo>
                  <a:lnTo>
                    <a:pt x="1302" y="2430"/>
                  </a:lnTo>
                  <a:lnTo>
                    <a:pt x="1326" y="2450"/>
                  </a:lnTo>
                  <a:lnTo>
                    <a:pt x="1352" y="2468"/>
                  </a:lnTo>
                  <a:lnTo>
                    <a:pt x="1378" y="2486"/>
                  </a:lnTo>
                  <a:lnTo>
                    <a:pt x="1404" y="2502"/>
                  </a:lnTo>
                  <a:lnTo>
                    <a:pt x="1432" y="2518"/>
                  </a:lnTo>
                  <a:lnTo>
                    <a:pt x="1460" y="2532"/>
                  </a:lnTo>
                  <a:lnTo>
                    <a:pt x="1490" y="2544"/>
                  </a:lnTo>
                  <a:lnTo>
                    <a:pt x="1520" y="2556"/>
                  </a:lnTo>
                  <a:lnTo>
                    <a:pt x="1552" y="2566"/>
                  </a:lnTo>
                  <a:lnTo>
                    <a:pt x="1584" y="2574"/>
                  </a:lnTo>
                  <a:lnTo>
                    <a:pt x="1618" y="2582"/>
                  </a:lnTo>
                  <a:lnTo>
                    <a:pt x="1652" y="2588"/>
                  </a:lnTo>
                  <a:lnTo>
                    <a:pt x="1686" y="2592"/>
                  </a:lnTo>
                  <a:lnTo>
                    <a:pt x="1724" y="2596"/>
                  </a:lnTo>
                  <a:lnTo>
                    <a:pt x="1760" y="2598"/>
                  </a:lnTo>
                  <a:lnTo>
                    <a:pt x="1798" y="2598"/>
                  </a:lnTo>
                  <a:lnTo>
                    <a:pt x="1798" y="2598"/>
                  </a:lnTo>
                  <a:lnTo>
                    <a:pt x="1838" y="2596"/>
                  </a:lnTo>
                  <a:lnTo>
                    <a:pt x="1878" y="2594"/>
                  </a:lnTo>
                  <a:lnTo>
                    <a:pt x="1916" y="2588"/>
                  </a:lnTo>
                  <a:lnTo>
                    <a:pt x="1956" y="2582"/>
                  </a:lnTo>
                  <a:lnTo>
                    <a:pt x="1994" y="2572"/>
                  </a:lnTo>
                  <a:lnTo>
                    <a:pt x="2032" y="2562"/>
                  </a:lnTo>
                  <a:lnTo>
                    <a:pt x="2070" y="2548"/>
                  </a:lnTo>
                  <a:lnTo>
                    <a:pt x="2108" y="2534"/>
                  </a:lnTo>
                  <a:lnTo>
                    <a:pt x="2146" y="2516"/>
                  </a:lnTo>
                  <a:lnTo>
                    <a:pt x="2182" y="2498"/>
                  </a:lnTo>
                  <a:lnTo>
                    <a:pt x="2220" y="2476"/>
                  </a:lnTo>
                  <a:lnTo>
                    <a:pt x="2256" y="2454"/>
                  </a:lnTo>
                  <a:lnTo>
                    <a:pt x="2292" y="2428"/>
                  </a:lnTo>
                  <a:lnTo>
                    <a:pt x="2328" y="2402"/>
                  </a:lnTo>
                  <a:lnTo>
                    <a:pt x="2362" y="2372"/>
                  </a:lnTo>
                  <a:lnTo>
                    <a:pt x="2398" y="2342"/>
                  </a:lnTo>
                  <a:lnTo>
                    <a:pt x="2398" y="2342"/>
                  </a:lnTo>
                  <a:lnTo>
                    <a:pt x="2432" y="2308"/>
                  </a:lnTo>
                  <a:lnTo>
                    <a:pt x="2464" y="2276"/>
                  </a:lnTo>
                  <a:lnTo>
                    <a:pt x="2494" y="2242"/>
                  </a:lnTo>
                  <a:lnTo>
                    <a:pt x="2522" y="2206"/>
                  </a:lnTo>
                  <a:lnTo>
                    <a:pt x="2548" y="2172"/>
                  </a:lnTo>
                  <a:lnTo>
                    <a:pt x="2570" y="2136"/>
                  </a:lnTo>
                  <a:lnTo>
                    <a:pt x="2592" y="2100"/>
                  </a:lnTo>
                  <a:lnTo>
                    <a:pt x="2610" y="2064"/>
                  </a:lnTo>
                  <a:lnTo>
                    <a:pt x="2628" y="2026"/>
                  </a:lnTo>
                  <a:lnTo>
                    <a:pt x="2642" y="1990"/>
                  </a:lnTo>
                  <a:lnTo>
                    <a:pt x="2654" y="1952"/>
                  </a:lnTo>
                  <a:lnTo>
                    <a:pt x="2664" y="1912"/>
                  </a:lnTo>
                  <a:lnTo>
                    <a:pt x="2672" y="1874"/>
                  </a:lnTo>
                  <a:lnTo>
                    <a:pt x="2678" y="1834"/>
                  </a:lnTo>
                  <a:lnTo>
                    <a:pt x="2682" y="1794"/>
                  </a:lnTo>
                  <a:lnTo>
                    <a:pt x="2682" y="1754"/>
                  </a:lnTo>
                  <a:lnTo>
                    <a:pt x="2682" y="1754"/>
                  </a:lnTo>
                  <a:lnTo>
                    <a:pt x="2682" y="1718"/>
                  </a:lnTo>
                  <a:lnTo>
                    <a:pt x="2676" y="1684"/>
                  </a:lnTo>
                  <a:lnTo>
                    <a:pt x="2670" y="1652"/>
                  </a:lnTo>
                  <a:lnTo>
                    <a:pt x="2660" y="1618"/>
                  </a:lnTo>
                  <a:lnTo>
                    <a:pt x="2646" y="1588"/>
                  </a:lnTo>
                  <a:lnTo>
                    <a:pt x="2632" y="1558"/>
                  </a:lnTo>
                  <a:lnTo>
                    <a:pt x="2614" y="1530"/>
                  </a:lnTo>
                  <a:lnTo>
                    <a:pt x="2592" y="1504"/>
                  </a:lnTo>
                  <a:lnTo>
                    <a:pt x="2592" y="15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26"/>
            <p:cNvSpPr/>
            <p:nvPr/>
          </p:nvSpPr>
          <p:spPr>
            <a:xfrm>
              <a:off x="2061720" y="4155840"/>
              <a:ext cx="3997080" cy="3978360"/>
            </a:xfrm>
            <a:custGeom>
              <a:avLst/>
              <a:gdLst>
                <a:gd name="textAreaLeft" fmla="*/ 0 w 3997080"/>
                <a:gd name="textAreaRight" fmla="*/ 3997440 w 3997080"/>
                <a:gd name="textAreaTop" fmla="*/ 0 h 3978360"/>
                <a:gd name="textAreaBottom" fmla="*/ 3978720 h 3978360"/>
              </a:gdLst>
              <a:ahLst/>
              <a:rect l="textAreaLeft" t="textAreaTop" r="textAreaRight" b="textAreaBottom"/>
              <a:pathLst>
                <a:path w="2518" h="2506">
                  <a:moveTo>
                    <a:pt x="628" y="0"/>
                  </a:moveTo>
                  <a:lnTo>
                    <a:pt x="628" y="0"/>
                  </a:lnTo>
                  <a:lnTo>
                    <a:pt x="654" y="0"/>
                  </a:lnTo>
                  <a:lnTo>
                    <a:pt x="678" y="2"/>
                  </a:lnTo>
                  <a:lnTo>
                    <a:pt x="702" y="6"/>
                  </a:lnTo>
                  <a:lnTo>
                    <a:pt x="724" y="12"/>
                  </a:lnTo>
                  <a:lnTo>
                    <a:pt x="746" y="18"/>
                  </a:lnTo>
                  <a:lnTo>
                    <a:pt x="766" y="26"/>
                  </a:lnTo>
                  <a:lnTo>
                    <a:pt x="786" y="36"/>
                  </a:lnTo>
                  <a:lnTo>
                    <a:pt x="804" y="48"/>
                  </a:lnTo>
                  <a:lnTo>
                    <a:pt x="804" y="48"/>
                  </a:lnTo>
                  <a:lnTo>
                    <a:pt x="824" y="62"/>
                  </a:lnTo>
                  <a:lnTo>
                    <a:pt x="840" y="78"/>
                  </a:lnTo>
                  <a:lnTo>
                    <a:pt x="852" y="94"/>
                  </a:lnTo>
                  <a:lnTo>
                    <a:pt x="864" y="110"/>
                  </a:lnTo>
                  <a:lnTo>
                    <a:pt x="872" y="126"/>
                  </a:lnTo>
                  <a:lnTo>
                    <a:pt x="878" y="142"/>
                  </a:lnTo>
                  <a:lnTo>
                    <a:pt x="882" y="160"/>
                  </a:lnTo>
                  <a:lnTo>
                    <a:pt x="884" y="178"/>
                  </a:lnTo>
                  <a:lnTo>
                    <a:pt x="884" y="178"/>
                  </a:lnTo>
                  <a:lnTo>
                    <a:pt x="882" y="202"/>
                  </a:lnTo>
                  <a:lnTo>
                    <a:pt x="878" y="226"/>
                  </a:lnTo>
                  <a:lnTo>
                    <a:pt x="870" y="250"/>
                  </a:lnTo>
                  <a:lnTo>
                    <a:pt x="860" y="274"/>
                  </a:lnTo>
                  <a:lnTo>
                    <a:pt x="2242" y="274"/>
                  </a:lnTo>
                  <a:lnTo>
                    <a:pt x="2242" y="274"/>
                  </a:lnTo>
                  <a:lnTo>
                    <a:pt x="2266" y="274"/>
                  </a:lnTo>
                  <a:lnTo>
                    <a:pt x="2288" y="276"/>
                  </a:lnTo>
                  <a:lnTo>
                    <a:pt x="2308" y="280"/>
                  </a:lnTo>
                  <a:lnTo>
                    <a:pt x="2326" y="284"/>
                  </a:lnTo>
                  <a:lnTo>
                    <a:pt x="2342" y="290"/>
                  </a:lnTo>
                  <a:lnTo>
                    <a:pt x="2356" y="296"/>
                  </a:lnTo>
                  <a:lnTo>
                    <a:pt x="2366" y="304"/>
                  </a:lnTo>
                  <a:lnTo>
                    <a:pt x="2376" y="314"/>
                  </a:lnTo>
                  <a:lnTo>
                    <a:pt x="2376" y="314"/>
                  </a:lnTo>
                  <a:lnTo>
                    <a:pt x="2384" y="326"/>
                  </a:lnTo>
                  <a:lnTo>
                    <a:pt x="2392" y="338"/>
                  </a:lnTo>
                  <a:lnTo>
                    <a:pt x="2398" y="352"/>
                  </a:lnTo>
                  <a:lnTo>
                    <a:pt x="2402" y="368"/>
                  </a:lnTo>
                  <a:lnTo>
                    <a:pt x="2406" y="388"/>
                  </a:lnTo>
                  <a:lnTo>
                    <a:pt x="2410" y="408"/>
                  </a:lnTo>
                  <a:lnTo>
                    <a:pt x="2410" y="432"/>
                  </a:lnTo>
                  <a:lnTo>
                    <a:pt x="2412" y="456"/>
                  </a:lnTo>
                  <a:lnTo>
                    <a:pt x="2412" y="456"/>
                  </a:lnTo>
                  <a:lnTo>
                    <a:pt x="2410" y="498"/>
                  </a:lnTo>
                  <a:lnTo>
                    <a:pt x="2404" y="534"/>
                  </a:lnTo>
                  <a:lnTo>
                    <a:pt x="2400" y="548"/>
                  </a:lnTo>
                  <a:lnTo>
                    <a:pt x="2396" y="562"/>
                  </a:lnTo>
                  <a:lnTo>
                    <a:pt x="2390" y="576"/>
                  </a:lnTo>
                  <a:lnTo>
                    <a:pt x="2384" y="586"/>
                  </a:lnTo>
                  <a:lnTo>
                    <a:pt x="2384" y="586"/>
                  </a:lnTo>
                  <a:lnTo>
                    <a:pt x="2372" y="598"/>
                  </a:lnTo>
                  <a:lnTo>
                    <a:pt x="2360" y="608"/>
                  </a:lnTo>
                  <a:lnTo>
                    <a:pt x="2346" y="616"/>
                  </a:lnTo>
                  <a:lnTo>
                    <a:pt x="2328" y="624"/>
                  </a:lnTo>
                  <a:lnTo>
                    <a:pt x="2310" y="628"/>
                  </a:lnTo>
                  <a:lnTo>
                    <a:pt x="2290" y="632"/>
                  </a:lnTo>
                  <a:lnTo>
                    <a:pt x="2266" y="634"/>
                  </a:lnTo>
                  <a:lnTo>
                    <a:pt x="2242" y="636"/>
                  </a:lnTo>
                  <a:lnTo>
                    <a:pt x="1648" y="636"/>
                  </a:lnTo>
                  <a:lnTo>
                    <a:pt x="1648" y="890"/>
                  </a:lnTo>
                  <a:lnTo>
                    <a:pt x="2188" y="890"/>
                  </a:lnTo>
                  <a:lnTo>
                    <a:pt x="2188" y="890"/>
                  </a:lnTo>
                  <a:lnTo>
                    <a:pt x="2208" y="892"/>
                  </a:lnTo>
                  <a:lnTo>
                    <a:pt x="2226" y="894"/>
                  </a:lnTo>
                  <a:lnTo>
                    <a:pt x="2242" y="896"/>
                  </a:lnTo>
                  <a:lnTo>
                    <a:pt x="2258" y="902"/>
                  </a:lnTo>
                  <a:lnTo>
                    <a:pt x="2272" y="908"/>
                  </a:lnTo>
                  <a:lnTo>
                    <a:pt x="2286" y="914"/>
                  </a:lnTo>
                  <a:lnTo>
                    <a:pt x="2298" y="924"/>
                  </a:lnTo>
                  <a:lnTo>
                    <a:pt x="2308" y="932"/>
                  </a:lnTo>
                  <a:lnTo>
                    <a:pt x="2318" y="944"/>
                  </a:lnTo>
                  <a:lnTo>
                    <a:pt x="2326" y="956"/>
                  </a:lnTo>
                  <a:lnTo>
                    <a:pt x="2334" y="970"/>
                  </a:lnTo>
                  <a:lnTo>
                    <a:pt x="2338" y="986"/>
                  </a:lnTo>
                  <a:lnTo>
                    <a:pt x="2344" y="1002"/>
                  </a:lnTo>
                  <a:lnTo>
                    <a:pt x="2346" y="1020"/>
                  </a:lnTo>
                  <a:lnTo>
                    <a:pt x="2348" y="1038"/>
                  </a:lnTo>
                  <a:lnTo>
                    <a:pt x="2348" y="1060"/>
                  </a:lnTo>
                  <a:lnTo>
                    <a:pt x="2348" y="1060"/>
                  </a:lnTo>
                  <a:lnTo>
                    <a:pt x="2348" y="1082"/>
                  </a:lnTo>
                  <a:lnTo>
                    <a:pt x="2346" y="1102"/>
                  </a:lnTo>
                  <a:lnTo>
                    <a:pt x="2344" y="1122"/>
                  </a:lnTo>
                  <a:lnTo>
                    <a:pt x="2338" y="1138"/>
                  </a:lnTo>
                  <a:lnTo>
                    <a:pt x="2334" y="1156"/>
                  </a:lnTo>
                  <a:lnTo>
                    <a:pt x="2326" y="1170"/>
                  </a:lnTo>
                  <a:lnTo>
                    <a:pt x="2318" y="1184"/>
                  </a:lnTo>
                  <a:lnTo>
                    <a:pt x="2308" y="1196"/>
                  </a:lnTo>
                  <a:lnTo>
                    <a:pt x="2298" y="1206"/>
                  </a:lnTo>
                  <a:lnTo>
                    <a:pt x="2286" y="1216"/>
                  </a:lnTo>
                  <a:lnTo>
                    <a:pt x="2272" y="1224"/>
                  </a:lnTo>
                  <a:lnTo>
                    <a:pt x="2258" y="1230"/>
                  </a:lnTo>
                  <a:lnTo>
                    <a:pt x="2242" y="1236"/>
                  </a:lnTo>
                  <a:lnTo>
                    <a:pt x="2226" y="1238"/>
                  </a:lnTo>
                  <a:lnTo>
                    <a:pt x="2208" y="1240"/>
                  </a:lnTo>
                  <a:lnTo>
                    <a:pt x="2188" y="1242"/>
                  </a:lnTo>
                  <a:lnTo>
                    <a:pt x="1648" y="1242"/>
                  </a:lnTo>
                  <a:lnTo>
                    <a:pt x="1648" y="1560"/>
                  </a:lnTo>
                  <a:lnTo>
                    <a:pt x="2338" y="1560"/>
                  </a:lnTo>
                  <a:lnTo>
                    <a:pt x="2338" y="1560"/>
                  </a:lnTo>
                  <a:lnTo>
                    <a:pt x="2362" y="1560"/>
                  </a:lnTo>
                  <a:lnTo>
                    <a:pt x="2384" y="1562"/>
                  </a:lnTo>
                  <a:lnTo>
                    <a:pt x="2404" y="1566"/>
                  </a:lnTo>
                  <a:lnTo>
                    <a:pt x="2422" y="1570"/>
                  </a:lnTo>
                  <a:lnTo>
                    <a:pt x="2438" y="1576"/>
                  </a:lnTo>
                  <a:lnTo>
                    <a:pt x="2454" y="1582"/>
                  </a:lnTo>
                  <a:lnTo>
                    <a:pt x="2468" y="1590"/>
                  </a:lnTo>
                  <a:lnTo>
                    <a:pt x="2480" y="1600"/>
                  </a:lnTo>
                  <a:lnTo>
                    <a:pt x="2480" y="1600"/>
                  </a:lnTo>
                  <a:lnTo>
                    <a:pt x="2488" y="1610"/>
                  </a:lnTo>
                  <a:lnTo>
                    <a:pt x="2496" y="1622"/>
                  </a:lnTo>
                  <a:lnTo>
                    <a:pt x="2502" y="1636"/>
                  </a:lnTo>
                  <a:lnTo>
                    <a:pt x="2508" y="1652"/>
                  </a:lnTo>
                  <a:lnTo>
                    <a:pt x="2512" y="1670"/>
                  </a:lnTo>
                  <a:lnTo>
                    <a:pt x="2514" y="1692"/>
                  </a:lnTo>
                  <a:lnTo>
                    <a:pt x="2516" y="1714"/>
                  </a:lnTo>
                  <a:lnTo>
                    <a:pt x="2518" y="1738"/>
                  </a:lnTo>
                  <a:lnTo>
                    <a:pt x="2518" y="1738"/>
                  </a:lnTo>
                  <a:lnTo>
                    <a:pt x="2516" y="1778"/>
                  </a:lnTo>
                  <a:lnTo>
                    <a:pt x="2510" y="1812"/>
                  </a:lnTo>
                  <a:lnTo>
                    <a:pt x="2506" y="1828"/>
                  </a:lnTo>
                  <a:lnTo>
                    <a:pt x="2500" y="1840"/>
                  </a:lnTo>
                  <a:lnTo>
                    <a:pt x="2494" y="1854"/>
                  </a:lnTo>
                  <a:lnTo>
                    <a:pt x="2488" y="1864"/>
                  </a:lnTo>
                  <a:lnTo>
                    <a:pt x="2488" y="1864"/>
                  </a:lnTo>
                  <a:lnTo>
                    <a:pt x="2474" y="1878"/>
                  </a:lnTo>
                  <a:lnTo>
                    <a:pt x="2460" y="1888"/>
                  </a:lnTo>
                  <a:lnTo>
                    <a:pt x="2444" y="1898"/>
                  </a:lnTo>
                  <a:lnTo>
                    <a:pt x="2426" y="1906"/>
                  </a:lnTo>
                  <a:lnTo>
                    <a:pt x="2406" y="1912"/>
                  </a:lnTo>
                  <a:lnTo>
                    <a:pt x="2384" y="1918"/>
                  </a:lnTo>
                  <a:lnTo>
                    <a:pt x="2362" y="1920"/>
                  </a:lnTo>
                  <a:lnTo>
                    <a:pt x="2338" y="1920"/>
                  </a:lnTo>
                  <a:lnTo>
                    <a:pt x="1648" y="1920"/>
                  </a:lnTo>
                  <a:lnTo>
                    <a:pt x="1648" y="2294"/>
                  </a:lnTo>
                  <a:lnTo>
                    <a:pt x="1648" y="2294"/>
                  </a:lnTo>
                  <a:lnTo>
                    <a:pt x="1646" y="2320"/>
                  </a:lnTo>
                  <a:lnTo>
                    <a:pt x="1644" y="2346"/>
                  </a:lnTo>
                  <a:lnTo>
                    <a:pt x="1640" y="2368"/>
                  </a:lnTo>
                  <a:lnTo>
                    <a:pt x="1634" y="2388"/>
                  </a:lnTo>
                  <a:lnTo>
                    <a:pt x="1628" y="2408"/>
                  </a:lnTo>
                  <a:lnTo>
                    <a:pt x="1618" y="2424"/>
                  </a:lnTo>
                  <a:lnTo>
                    <a:pt x="1608" y="2438"/>
                  </a:lnTo>
                  <a:lnTo>
                    <a:pt x="1596" y="2452"/>
                  </a:lnTo>
                  <a:lnTo>
                    <a:pt x="1596" y="2452"/>
                  </a:lnTo>
                  <a:lnTo>
                    <a:pt x="1582" y="2464"/>
                  </a:lnTo>
                  <a:lnTo>
                    <a:pt x="1566" y="2474"/>
                  </a:lnTo>
                  <a:lnTo>
                    <a:pt x="1550" y="2484"/>
                  </a:lnTo>
                  <a:lnTo>
                    <a:pt x="1530" y="2492"/>
                  </a:lnTo>
                  <a:lnTo>
                    <a:pt x="1508" y="2498"/>
                  </a:lnTo>
                  <a:lnTo>
                    <a:pt x="1486" y="2502"/>
                  </a:lnTo>
                  <a:lnTo>
                    <a:pt x="1462" y="2504"/>
                  </a:lnTo>
                  <a:lnTo>
                    <a:pt x="1436" y="2506"/>
                  </a:lnTo>
                  <a:lnTo>
                    <a:pt x="1436" y="2506"/>
                  </a:lnTo>
                  <a:lnTo>
                    <a:pt x="1410" y="2504"/>
                  </a:lnTo>
                  <a:lnTo>
                    <a:pt x="1386" y="2502"/>
                  </a:lnTo>
                  <a:lnTo>
                    <a:pt x="1364" y="2498"/>
                  </a:lnTo>
                  <a:lnTo>
                    <a:pt x="1344" y="2492"/>
                  </a:lnTo>
                  <a:lnTo>
                    <a:pt x="1324" y="2484"/>
                  </a:lnTo>
                  <a:lnTo>
                    <a:pt x="1306" y="2474"/>
                  </a:lnTo>
                  <a:lnTo>
                    <a:pt x="1292" y="2464"/>
                  </a:lnTo>
                  <a:lnTo>
                    <a:pt x="1278" y="2452"/>
                  </a:lnTo>
                  <a:lnTo>
                    <a:pt x="1278" y="2452"/>
                  </a:lnTo>
                  <a:lnTo>
                    <a:pt x="1266" y="2438"/>
                  </a:lnTo>
                  <a:lnTo>
                    <a:pt x="1254" y="2424"/>
                  </a:lnTo>
                  <a:lnTo>
                    <a:pt x="1244" y="2408"/>
                  </a:lnTo>
                  <a:lnTo>
                    <a:pt x="1236" y="2388"/>
                  </a:lnTo>
                  <a:lnTo>
                    <a:pt x="1232" y="2368"/>
                  </a:lnTo>
                  <a:lnTo>
                    <a:pt x="1226" y="2346"/>
                  </a:lnTo>
                  <a:lnTo>
                    <a:pt x="1224" y="2320"/>
                  </a:lnTo>
                  <a:lnTo>
                    <a:pt x="1224" y="2294"/>
                  </a:lnTo>
                  <a:lnTo>
                    <a:pt x="1224" y="1920"/>
                  </a:lnTo>
                  <a:lnTo>
                    <a:pt x="194" y="1920"/>
                  </a:lnTo>
                  <a:lnTo>
                    <a:pt x="194" y="1920"/>
                  </a:lnTo>
                  <a:lnTo>
                    <a:pt x="172" y="1920"/>
                  </a:lnTo>
                  <a:lnTo>
                    <a:pt x="150" y="1918"/>
                  </a:lnTo>
                  <a:lnTo>
                    <a:pt x="132" y="1914"/>
                  </a:lnTo>
                  <a:lnTo>
                    <a:pt x="114" y="1910"/>
                  </a:lnTo>
                  <a:lnTo>
                    <a:pt x="96" y="1904"/>
                  </a:lnTo>
                  <a:lnTo>
                    <a:pt x="82" y="1896"/>
                  </a:lnTo>
                  <a:lnTo>
                    <a:pt x="68" y="1888"/>
                  </a:lnTo>
                  <a:lnTo>
                    <a:pt x="54" y="1878"/>
                  </a:lnTo>
                  <a:lnTo>
                    <a:pt x="54" y="1878"/>
                  </a:lnTo>
                  <a:lnTo>
                    <a:pt x="44" y="1868"/>
                  </a:lnTo>
                  <a:lnTo>
                    <a:pt x="36" y="1854"/>
                  </a:lnTo>
                  <a:lnTo>
                    <a:pt x="28" y="1840"/>
                  </a:lnTo>
                  <a:lnTo>
                    <a:pt x="22" y="1824"/>
                  </a:lnTo>
                  <a:lnTo>
                    <a:pt x="18" y="1806"/>
                  </a:lnTo>
                  <a:lnTo>
                    <a:pt x="14" y="1786"/>
                  </a:lnTo>
                  <a:lnTo>
                    <a:pt x="12" y="1764"/>
                  </a:lnTo>
                  <a:lnTo>
                    <a:pt x="12" y="1738"/>
                  </a:lnTo>
                  <a:lnTo>
                    <a:pt x="12" y="1738"/>
                  </a:lnTo>
                  <a:lnTo>
                    <a:pt x="12" y="1714"/>
                  </a:lnTo>
                  <a:lnTo>
                    <a:pt x="14" y="1692"/>
                  </a:lnTo>
                  <a:lnTo>
                    <a:pt x="18" y="1670"/>
                  </a:lnTo>
                  <a:lnTo>
                    <a:pt x="22" y="1652"/>
                  </a:lnTo>
                  <a:lnTo>
                    <a:pt x="28" y="1636"/>
                  </a:lnTo>
                  <a:lnTo>
                    <a:pt x="36" y="1622"/>
                  </a:lnTo>
                  <a:lnTo>
                    <a:pt x="44" y="1610"/>
                  </a:lnTo>
                  <a:lnTo>
                    <a:pt x="54" y="1600"/>
                  </a:lnTo>
                  <a:lnTo>
                    <a:pt x="54" y="1600"/>
                  </a:lnTo>
                  <a:lnTo>
                    <a:pt x="66" y="1590"/>
                  </a:lnTo>
                  <a:lnTo>
                    <a:pt x="80" y="1582"/>
                  </a:lnTo>
                  <a:lnTo>
                    <a:pt x="94" y="1576"/>
                  </a:lnTo>
                  <a:lnTo>
                    <a:pt x="110" y="1570"/>
                  </a:lnTo>
                  <a:lnTo>
                    <a:pt x="130" y="1566"/>
                  </a:lnTo>
                  <a:lnTo>
                    <a:pt x="148" y="1562"/>
                  </a:lnTo>
                  <a:lnTo>
                    <a:pt x="170" y="1560"/>
                  </a:lnTo>
                  <a:lnTo>
                    <a:pt x="194" y="1560"/>
                  </a:lnTo>
                  <a:lnTo>
                    <a:pt x="342" y="1560"/>
                  </a:lnTo>
                  <a:lnTo>
                    <a:pt x="342" y="1154"/>
                  </a:lnTo>
                  <a:lnTo>
                    <a:pt x="342" y="1154"/>
                  </a:lnTo>
                  <a:lnTo>
                    <a:pt x="344" y="1118"/>
                  </a:lnTo>
                  <a:lnTo>
                    <a:pt x="348" y="1082"/>
                  </a:lnTo>
                  <a:lnTo>
                    <a:pt x="348" y="1082"/>
                  </a:lnTo>
                  <a:lnTo>
                    <a:pt x="322" y="1090"/>
                  </a:lnTo>
                  <a:lnTo>
                    <a:pt x="294" y="1098"/>
                  </a:lnTo>
                  <a:lnTo>
                    <a:pt x="264" y="1102"/>
                  </a:lnTo>
                  <a:lnTo>
                    <a:pt x="234" y="1102"/>
                  </a:lnTo>
                  <a:lnTo>
                    <a:pt x="234" y="1102"/>
                  </a:lnTo>
                  <a:lnTo>
                    <a:pt x="210" y="1102"/>
                  </a:lnTo>
                  <a:lnTo>
                    <a:pt x="186" y="1098"/>
                  </a:lnTo>
                  <a:lnTo>
                    <a:pt x="162" y="1090"/>
                  </a:lnTo>
                  <a:lnTo>
                    <a:pt x="140" y="1082"/>
                  </a:lnTo>
                  <a:lnTo>
                    <a:pt x="118" y="1068"/>
                  </a:lnTo>
                  <a:lnTo>
                    <a:pt x="98" y="1054"/>
                  </a:lnTo>
                  <a:lnTo>
                    <a:pt x="78" y="1036"/>
                  </a:lnTo>
                  <a:lnTo>
                    <a:pt x="60" y="1016"/>
                  </a:lnTo>
                  <a:lnTo>
                    <a:pt x="60" y="1016"/>
                  </a:lnTo>
                  <a:lnTo>
                    <a:pt x="46" y="1000"/>
                  </a:lnTo>
                  <a:lnTo>
                    <a:pt x="34" y="982"/>
                  </a:lnTo>
                  <a:lnTo>
                    <a:pt x="24" y="966"/>
                  </a:lnTo>
                  <a:lnTo>
                    <a:pt x="16" y="950"/>
                  </a:lnTo>
                  <a:lnTo>
                    <a:pt x="8" y="932"/>
                  </a:lnTo>
                  <a:lnTo>
                    <a:pt x="4" y="914"/>
                  </a:lnTo>
                  <a:lnTo>
                    <a:pt x="2" y="898"/>
                  </a:lnTo>
                  <a:lnTo>
                    <a:pt x="0" y="880"/>
                  </a:lnTo>
                  <a:lnTo>
                    <a:pt x="0" y="880"/>
                  </a:lnTo>
                  <a:lnTo>
                    <a:pt x="2" y="866"/>
                  </a:lnTo>
                  <a:lnTo>
                    <a:pt x="4" y="854"/>
                  </a:lnTo>
                  <a:lnTo>
                    <a:pt x="8" y="842"/>
                  </a:lnTo>
                  <a:lnTo>
                    <a:pt x="14" y="828"/>
                  </a:lnTo>
                  <a:lnTo>
                    <a:pt x="22" y="818"/>
                  </a:lnTo>
                  <a:lnTo>
                    <a:pt x="30" y="806"/>
                  </a:lnTo>
                  <a:lnTo>
                    <a:pt x="42" y="796"/>
                  </a:lnTo>
                  <a:lnTo>
                    <a:pt x="54" y="784"/>
                  </a:lnTo>
                  <a:lnTo>
                    <a:pt x="54" y="784"/>
                  </a:lnTo>
                  <a:lnTo>
                    <a:pt x="122" y="690"/>
                  </a:lnTo>
                  <a:lnTo>
                    <a:pt x="186" y="598"/>
                  </a:lnTo>
                  <a:lnTo>
                    <a:pt x="246" y="506"/>
                  </a:lnTo>
                  <a:lnTo>
                    <a:pt x="304" y="416"/>
                  </a:lnTo>
                  <a:lnTo>
                    <a:pt x="356" y="326"/>
                  </a:lnTo>
                  <a:lnTo>
                    <a:pt x="404" y="236"/>
                  </a:lnTo>
                  <a:lnTo>
                    <a:pt x="448" y="148"/>
                  </a:lnTo>
                  <a:lnTo>
                    <a:pt x="490" y="62"/>
                  </a:lnTo>
                  <a:lnTo>
                    <a:pt x="490" y="62"/>
                  </a:lnTo>
                  <a:lnTo>
                    <a:pt x="508" y="48"/>
                  </a:lnTo>
                  <a:lnTo>
                    <a:pt x="526" y="34"/>
                  </a:lnTo>
                  <a:lnTo>
                    <a:pt x="544" y="24"/>
                  </a:lnTo>
                  <a:lnTo>
                    <a:pt x="560" y="14"/>
                  </a:lnTo>
                  <a:lnTo>
                    <a:pt x="578" y="8"/>
                  </a:lnTo>
                  <a:lnTo>
                    <a:pt x="594" y="4"/>
                  </a:lnTo>
                  <a:lnTo>
                    <a:pt x="612" y="0"/>
                  </a:lnTo>
                  <a:lnTo>
                    <a:pt x="628" y="0"/>
                  </a:lnTo>
                  <a:lnTo>
                    <a:pt x="628" y="0"/>
                  </a:lnTo>
                  <a:close/>
                  <a:moveTo>
                    <a:pt x="1224" y="890"/>
                  </a:moveTo>
                  <a:lnTo>
                    <a:pt x="1224" y="636"/>
                  </a:lnTo>
                  <a:lnTo>
                    <a:pt x="680" y="636"/>
                  </a:lnTo>
                  <a:lnTo>
                    <a:pt x="680" y="636"/>
                  </a:lnTo>
                  <a:lnTo>
                    <a:pt x="638" y="704"/>
                  </a:lnTo>
                  <a:lnTo>
                    <a:pt x="596" y="772"/>
                  </a:lnTo>
                  <a:lnTo>
                    <a:pt x="552" y="838"/>
                  </a:lnTo>
                  <a:lnTo>
                    <a:pt x="506" y="902"/>
                  </a:lnTo>
                  <a:lnTo>
                    <a:pt x="506" y="902"/>
                  </a:lnTo>
                  <a:lnTo>
                    <a:pt x="528" y="896"/>
                  </a:lnTo>
                  <a:lnTo>
                    <a:pt x="552" y="894"/>
                  </a:lnTo>
                  <a:lnTo>
                    <a:pt x="578" y="892"/>
                  </a:lnTo>
                  <a:lnTo>
                    <a:pt x="606" y="890"/>
                  </a:lnTo>
                  <a:lnTo>
                    <a:pt x="1224" y="890"/>
                  </a:lnTo>
                  <a:close/>
                  <a:moveTo>
                    <a:pt x="1224" y="1560"/>
                  </a:moveTo>
                  <a:lnTo>
                    <a:pt x="1224" y="1242"/>
                  </a:lnTo>
                  <a:lnTo>
                    <a:pt x="800" y="1242"/>
                  </a:lnTo>
                  <a:lnTo>
                    <a:pt x="800" y="1242"/>
                  </a:lnTo>
                  <a:lnTo>
                    <a:pt x="786" y="1242"/>
                  </a:lnTo>
                  <a:lnTo>
                    <a:pt x="776" y="1244"/>
                  </a:lnTo>
                  <a:lnTo>
                    <a:pt x="766" y="1248"/>
                  </a:lnTo>
                  <a:lnTo>
                    <a:pt x="758" y="1254"/>
                  </a:lnTo>
                  <a:lnTo>
                    <a:pt x="752" y="1262"/>
                  </a:lnTo>
                  <a:lnTo>
                    <a:pt x="748" y="1270"/>
                  </a:lnTo>
                  <a:lnTo>
                    <a:pt x="746" y="1280"/>
                  </a:lnTo>
                  <a:lnTo>
                    <a:pt x="744" y="1294"/>
                  </a:lnTo>
                  <a:lnTo>
                    <a:pt x="744" y="1560"/>
                  </a:lnTo>
                  <a:lnTo>
                    <a:pt x="1224" y="15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27"/>
            <p:cNvSpPr/>
            <p:nvPr/>
          </p:nvSpPr>
          <p:spPr>
            <a:xfrm>
              <a:off x="6329160" y="4155840"/>
              <a:ext cx="4079880" cy="392436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924360"/>
                <a:gd name="textAreaBottom" fmla="*/ 3924720 h 3924360"/>
              </a:gdLst>
              <a:ahLst/>
              <a:rect l="textAreaLeft" t="textAreaTop" r="textAreaRight" b="textAreaBottom"/>
              <a:pathLst>
                <a:path w="2570" h="2472">
                  <a:moveTo>
                    <a:pt x="234" y="262"/>
                  </a:moveTo>
                  <a:lnTo>
                    <a:pt x="414" y="262"/>
                  </a:lnTo>
                  <a:lnTo>
                    <a:pt x="414" y="146"/>
                  </a:lnTo>
                  <a:lnTo>
                    <a:pt x="414" y="146"/>
                  </a:lnTo>
                  <a:lnTo>
                    <a:pt x="414" y="130"/>
                  </a:lnTo>
                  <a:lnTo>
                    <a:pt x="416" y="116"/>
                  </a:lnTo>
                  <a:lnTo>
                    <a:pt x="422" y="100"/>
                  </a:lnTo>
                  <a:lnTo>
                    <a:pt x="426" y="86"/>
                  </a:lnTo>
                  <a:lnTo>
                    <a:pt x="434" y="72"/>
                  </a:lnTo>
                  <a:lnTo>
                    <a:pt x="442" y="58"/>
                  </a:lnTo>
                  <a:lnTo>
                    <a:pt x="454" y="44"/>
                  </a:lnTo>
                  <a:lnTo>
                    <a:pt x="466" y="32"/>
                  </a:lnTo>
                  <a:lnTo>
                    <a:pt x="466" y="32"/>
                  </a:lnTo>
                  <a:lnTo>
                    <a:pt x="476" y="24"/>
                  </a:lnTo>
                  <a:lnTo>
                    <a:pt x="488" y="18"/>
                  </a:lnTo>
                  <a:lnTo>
                    <a:pt x="502" y="12"/>
                  </a:lnTo>
                  <a:lnTo>
                    <a:pt x="518" y="8"/>
                  </a:lnTo>
                  <a:lnTo>
                    <a:pt x="534" y="4"/>
                  </a:lnTo>
                  <a:lnTo>
                    <a:pt x="554" y="2"/>
                  </a:lnTo>
                  <a:lnTo>
                    <a:pt x="596" y="0"/>
                  </a:lnTo>
                  <a:lnTo>
                    <a:pt x="596" y="0"/>
                  </a:lnTo>
                  <a:lnTo>
                    <a:pt x="638" y="2"/>
                  </a:lnTo>
                  <a:lnTo>
                    <a:pt x="656" y="4"/>
                  </a:lnTo>
                  <a:lnTo>
                    <a:pt x="672" y="8"/>
                  </a:lnTo>
                  <a:lnTo>
                    <a:pt x="688" y="12"/>
                  </a:lnTo>
                  <a:lnTo>
                    <a:pt x="702" y="18"/>
                  </a:lnTo>
                  <a:lnTo>
                    <a:pt x="714" y="24"/>
                  </a:lnTo>
                  <a:lnTo>
                    <a:pt x="724" y="32"/>
                  </a:lnTo>
                  <a:lnTo>
                    <a:pt x="724" y="32"/>
                  </a:lnTo>
                  <a:lnTo>
                    <a:pt x="736" y="44"/>
                  </a:lnTo>
                  <a:lnTo>
                    <a:pt x="746" y="56"/>
                  </a:lnTo>
                  <a:lnTo>
                    <a:pt x="756" y="68"/>
                  </a:lnTo>
                  <a:lnTo>
                    <a:pt x="762" y="82"/>
                  </a:lnTo>
                  <a:lnTo>
                    <a:pt x="768" y="96"/>
                  </a:lnTo>
                  <a:lnTo>
                    <a:pt x="772" y="112"/>
                  </a:lnTo>
                  <a:lnTo>
                    <a:pt x="774" y="128"/>
                  </a:lnTo>
                  <a:lnTo>
                    <a:pt x="776" y="146"/>
                  </a:lnTo>
                  <a:lnTo>
                    <a:pt x="776" y="262"/>
                  </a:lnTo>
                  <a:lnTo>
                    <a:pt x="954" y="262"/>
                  </a:lnTo>
                  <a:lnTo>
                    <a:pt x="954" y="262"/>
                  </a:lnTo>
                  <a:lnTo>
                    <a:pt x="992" y="266"/>
                  </a:lnTo>
                  <a:lnTo>
                    <a:pt x="1010" y="268"/>
                  </a:lnTo>
                  <a:lnTo>
                    <a:pt x="1026" y="272"/>
                  </a:lnTo>
                  <a:lnTo>
                    <a:pt x="1040" y="276"/>
                  </a:lnTo>
                  <a:lnTo>
                    <a:pt x="1052" y="282"/>
                  </a:lnTo>
                  <a:lnTo>
                    <a:pt x="1064" y="290"/>
                  </a:lnTo>
                  <a:lnTo>
                    <a:pt x="1074" y="298"/>
                  </a:lnTo>
                  <a:lnTo>
                    <a:pt x="1074" y="298"/>
                  </a:lnTo>
                  <a:lnTo>
                    <a:pt x="1084" y="306"/>
                  </a:lnTo>
                  <a:lnTo>
                    <a:pt x="1092" y="318"/>
                  </a:lnTo>
                  <a:lnTo>
                    <a:pt x="1100" y="332"/>
                  </a:lnTo>
                  <a:lnTo>
                    <a:pt x="1104" y="348"/>
                  </a:lnTo>
                  <a:lnTo>
                    <a:pt x="1110" y="366"/>
                  </a:lnTo>
                  <a:lnTo>
                    <a:pt x="1112" y="386"/>
                  </a:lnTo>
                  <a:lnTo>
                    <a:pt x="1114" y="408"/>
                  </a:lnTo>
                  <a:lnTo>
                    <a:pt x="1116" y="434"/>
                  </a:lnTo>
                  <a:lnTo>
                    <a:pt x="1116" y="434"/>
                  </a:lnTo>
                  <a:lnTo>
                    <a:pt x="1114" y="474"/>
                  </a:lnTo>
                  <a:lnTo>
                    <a:pt x="1108" y="506"/>
                  </a:lnTo>
                  <a:lnTo>
                    <a:pt x="1102" y="532"/>
                  </a:lnTo>
                  <a:lnTo>
                    <a:pt x="1096" y="542"/>
                  </a:lnTo>
                  <a:lnTo>
                    <a:pt x="1090" y="550"/>
                  </a:lnTo>
                  <a:lnTo>
                    <a:pt x="1090" y="550"/>
                  </a:lnTo>
                  <a:lnTo>
                    <a:pt x="1080" y="564"/>
                  </a:lnTo>
                  <a:lnTo>
                    <a:pt x="1066" y="574"/>
                  </a:lnTo>
                  <a:lnTo>
                    <a:pt x="1052" y="582"/>
                  </a:lnTo>
                  <a:lnTo>
                    <a:pt x="1036" y="590"/>
                  </a:lnTo>
                  <a:lnTo>
                    <a:pt x="1018" y="596"/>
                  </a:lnTo>
                  <a:lnTo>
                    <a:pt x="998" y="600"/>
                  </a:lnTo>
                  <a:lnTo>
                    <a:pt x="978" y="602"/>
                  </a:lnTo>
                  <a:lnTo>
                    <a:pt x="954" y="602"/>
                  </a:lnTo>
                  <a:lnTo>
                    <a:pt x="776" y="602"/>
                  </a:lnTo>
                  <a:lnTo>
                    <a:pt x="776" y="848"/>
                  </a:lnTo>
                  <a:lnTo>
                    <a:pt x="976" y="848"/>
                  </a:lnTo>
                  <a:lnTo>
                    <a:pt x="976" y="848"/>
                  </a:lnTo>
                  <a:lnTo>
                    <a:pt x="1014" y="850"/>
                  </a:lnTo>
                  <a:lnTo>
                    <a:pt x="1032" y="852"/>
                  </a:lnTo>
                  <a:lnTo>
                    <a:pt x="1046" y="856"/>
                  </a:lnTo>
                  <a:lnTo>
                    <a:pt x="1060" y="862"/>
                  </a:lnTo>
                  <a:lnTo>
                    <a:pt x="1072" y="868"/>
                  </a:lnTo>
                  <a:lnTo>
                    <a:pt x="1084" y="874"/>
                  </a:lnTo>
                  <a:lnTo>
                    <a:pt x="1094" y="882"/>
                  </a:lnTo>
                  <a:lnTo>
                    <a:pt x="1094" y="882"/>
                  </a:lnTo>
                  <a:lnTo>
                    <a:pt x="1104" y="892"/>
                  </a:lnTo>
                  <a:lnTo>
                    <a:pt x="1112" y="902"/>
                  </a:lnTo>
                  <a:lnTo>
                    <a:pt x="1120" y="916"/>
                  </a:lnTo>
                  <a:lnTo>
                    <a:pt x="1126" y="932"/>
                  </a:lnTo>
                  <a:lnTo>
                    <a:pt x="1130" y="950"/>
                  </a:lnTo>
                  <a:lnTo>
                    <a:pt x="1134" y="970"/>
                  </a:lnTo>
                  <a:lnTo>
                    <a:pt x="1136" y="994"/>
                  </a:lnTo>
                  <a:lnTo>
                    <a:pt x="1136" y="1018"/>
                  </a:lnTo>
                  <a:lnTo>
                    <a:pt x="1136" y="1018"/>
                  </a:lnTo>
                  <a:lnTo>
                    <a:pt x="1136" y="1058"/>
                  </a:lnTo>
                  <a:lnTo>
                    <a:pt x="1130" y="1090"/>
                  </a:lnTo>
                  <a:lnTo>
                    <a:pt x="1124" y="1116"/>
                  </a:lnTo>
                  <a:lnTo>
                    <a:pt x="1118" y="1126"/>
                  </a:lnTo>
                  <a:lnTo>
                    <a:pt x="1112" y="1136"/>
                  </a:lnTo>
                  <a:lnTo>
                    <a:pt x="1112" y="1136"/>
                  </a:lnTo>
                  <a:lnTo>
                    <a:pt x="1102" y="1148"/>
                  </a:lnTo>
                  <a:lnTo>
                    <a:pt x="1088" y="1158"/>
                  </a:lnTo>
                  <a:lnTo>
                    <a:pt x="1074" y="1166"/>
                  </a:lnTo>
                  <a:lnTo>
                    <a:pt x="1058" y="1174"/>
                  </a:lnTo>
                  <a:lnTo>
                    <a:pt x="1040" y="1180"/>
                  </a:lnTo>
                  <a:lnTo>
                    <a:pt x="1020" y="1184"/>
                  </a:lnTo>
                  <a:lnTo>
                    <a:pt x="1000" y="1186"/>
                  </a:lnTo>
                  <a:lnTo>
                    <a:pt x="976" y="1188"/>
                  </a:lnTo>
                  <a:lnTo>
                    <a:pt x="882" y="1188"/>
                  </a:lnTo>
                  <a:lnTo>
                    <a:pt x="882" y="1380"/>
                  </a:lnTo>
                  <a:lnTo>
                    <a:pt x="954" y="1380"/>
                  </a:lnTo>
                  <a:lnTo>
                    <a:pt x="954" y="1380"/>
                  </a:lnTo>
                  <a:lnTo>
                    <a:pt x="998" y="1382"/>
                  </a:lnTo>
                  <a:lnTo>
                    <a:pt x="1016" y="1384"/>
                  </a:lnTo>
                  <a:lnTo>
                    <a:pt x="1034" y="1388"/>
                  </a:lnTo>
                  <a:lnTo>
                    <a:pt x="1048" y="1392"/>
                  </a:lnTo>
                  <a:lnTo>
                    <a:pt x="1060" y="1398"/>
                  </a:lnTo>
                  <a:lnTo>
                    <a:pt x="1072" y="1406"/>
                  </a:lnTo>
                  <a:lnTo>
                    <a:pt x="1080" y="1412"/>
                  </a:lnTo>
                  <a:lnTo>
                    <a:pt x="1080" y="1412"/>
                  </a:lnTo>
                  <a:lnTo>
                    <a:pt x="1088" y="1422"/>
                  </a:lnTo>
                  <a:lnTo>
                    <a:pt x="1096" y="1434"/>
                  </a:lnTo>
                  <a:lnTo>
                    <a:pt x="1102" y="1446"/>
                  </a:lnTo>
                  <a:lnTo>
                    <a:pt x="1106" y="1462"/>
                  </a:lnTo>
                  <a:lnTo>
                    <a:pt x="1110" y="1478"/>
                  </a:lnTo>
                  <a:lnTo>
                    <a:pt x="1112" y="1496"/>
                  </a:lnTo>
                  <a:lnTo>
                    <a:pt x="1116" y="1538"/>
                  </a:lnTo>
                  <a:lnTo>
                    <a:pt x="1116" y="1538"/>
                  </a:lnTo>
                  <a:lnTo>
                    <a:pt x="1114" y="1578"/>
                  </a:lnTo>
                  <a:lnTo>
                    <a:pt x="1108" y="1612"/>
                  </a:lnTo>
                  <a:lnTo>
                    <a:pt x="1104" y="1626"/>
                  </a:lnTo>
                  <a:lnTo>
                    <a:pt x="1100" y="1640"/>
                  </a:lnTo>
                  <a:lnTo>
                    <a:pt x="1094" y="1652"/>
                  </a:lnTo>
                  <a:lnTo>
                    <a:pt x="1088" y="1662"/>
                  </a:lnTo>
                  <a:lnTo>
                    <a:pt x="1088" y="1662"/>
                  </a:lnTo>
                  <a:lnTo>
                    <a:pt x="1078" y="1674"/>
                  </a:lnTo>
                  <a:lnTo>
                    <a:pt x="1066" y="1682"/>
                  </a:lnTo>
                  <a:lnTo>
                    <a:pt x="1052" y="1690"/>
                  </a:lnTo>
                  <a:lnTo>
                    <a:pt x="1036" y="1698"/>
                  </a:lnTo>
                  <a:lnTo>
                    <a:pt x="1018" y="1702"/>
                  </a:lnTo>
                  <a:lnTo>
                    <a:pt x="998" y="1706"/>
                  </a:lnTo>
                  <a:lnTo>
                    <a:pt x="978" y="1708"/>
                  </a:lnTo>
                  <a:lnTo>
                    <a:pt x="954" y="1708"/>
                  </a:lnTo>
                  <a:lnTo>
                    <a:pt x="882" y="1708"/>
                  </a:lnTo>
                  <a:lnTo>
                    <a:pt x="882" y="2062"/>
                  </a:lnTo>
                  <a:lnTo>
                    <a:pt x="882" y="2062"/>
                  </a:lnTo>
                  <a:lnTo>
                    <a:pt x="926" y="2068"/>
                  </a:lnTo>
                  <a:lnTo>
                    <a:pt x="974" y="2074"/>
                  </a:lnTo>
                  <a:lnTo>
                    <a:pt x="1082" y="2082"/>
                  </a:lnTo>
                  <a:lnTo>
                    <a:pt x="1202" y="2088"/>
                  </a:lnTo>
                  <a:lnTo>
                    <a:pt x="1336" y="2090"/>
                  </a:lnTo>
                  <a:lnTo>
                    <a:pt x="1336" y="2090"/>
                  </a:lnTo>
                  <a:lnTo>
                    <a:pt x="1558" y="2088"/>
                  </a:lnTo>
                  <a:lnTo>
                    <a:pt x="1758" y="2086"/>
                  </a:lnTo>
                  <a:lnTo>
                    <a:pt x="1934" y="2080"/>
                  </a:lnTo>
                  <a:lnTo>
                    <a:pt x="2086" y="2074"/>
                  </a:lnTo>
                  <a:lnTo>
                    <a:pt x="2086" y="2074"/>
                  </a:lnTo>
                  <a:lnTo>
                    <a:pt x="2240" y="2064"/>
                  </a:lnTo>
                  <a:lnTo>
                    <a:pt x="2324" y="2060"/>
                  </a:lnTo>
                  <a:lnTo>
                    <a:pt x="2324" y="2060"/>
                  </a:lnTo>
                  <a:lnTo>
                    <a:pt x="2346" y="2060"/>
                  </a:lnTo>
                  <a:lnTo>
                    <a:pt x="2366" y="2062"/>
                  </a:lnTo>
                  <a:lnTo>
                    <a:pt x="2386" y="2066"/>
                  </a:lnTo>
                  <a:lnTo>
                    <a:pt x="2404" y="2072"/>
                  </a:lnTo>
                  <a:lnTo>
                    <a:pt x="2420" y="2078"/>
                  </a:lnTo>
                  <a:lnTo>
                    <a:pt x="2434" y="2086"/>
                  </a:lnTo>
                  <a:lnTo>
                    <a:pt x="2448" y="2096"/>
                  </a:lnTo>
                  <a:lnTo>
                    <a:pt x="2460" y="2106"/>
                  </a:lnTo>
                  <a:lnTo>
                    <a:pt x="2460" y="2106"/>
                  </a:lnTo>
                  <a:lnTo>
                    <a:pt x="2474" y="2118"/>
                  </a:lnTo>
                  <a:lnTo>
                    <a:pt x="2486" y="2134"/>
                  </a:lnTo>
                  <a:lnTo>
                    <a:pt x="2496" y="2150"/>
                  </a:lnTo>
                  <a:lnTo>
                    <a:pt x="2504" y="2166"/>
                  </a:lnTo>
                  <a:lnTo>
                    <a:pt x="2510" y="2186"/>
                  </a:lnTo>
                  <a:lnTo>
                    <a:pt x="2514" y="2206"/>
                  </a:lnTo>
                  <a:lnTo>
                    <a:pt x="2516" y="2226"/>
                  </a:lnTo>
                  <a:lnTo>
                    <a:pt x="2518" y="2250"/>
                  </a:lnTo>
                  <a:lnTo>
                    <a:pt x="2518" y="2250"/>
                  </a:lnTo>
                  <a:lnTo>
                    <a:pt x="2516" y="2284"/>
                  </a:lnTo>
                  <a:lnTo>
                    <a:pt x="2510" y="2318"/>
                  </a:lnTo>
                  <a:lnTo>
                    <a:pt x="2500" y="2348"/>
                  </a:lnTo>
                  <a:lnTo>
                    <a:pt x="2488" y="2378"/>
                  </a:lnTo>
                  <a:lnTo>
                    <a:pt x="2488" y="2378"/>
                  </a:lnTo>
                  <a:lnTo>
                    <a:pt x="2482" y="2390"/>
                  </a:lnTo>
                  <a:lnTo>
                    <a:pt x="2474" y="2400"/>
                  </a:lnTo>
                  <a:lnTo>
                    <a:pt x="2466" y="2410"/>
                  </a:lnTo>
                  <a:lnTo>
                    <a:pt x="2458" y="2420"/>
                  </a:lnTo>
                  <a:lnTo>
                    <a:pt x="2448" y="2428"/>
                  </a:lnTo>
                  <a:lnTo>
                    <a:pt x="2436" y="2436"/>
                  </a:lnTo>
                  <a:lnTo>
                    <a:pt x="2424" y="2442"/>
                  </a:lnTo>
                  <a:lnTo>
                    <a:pt x="2412" y="2448"/>
                  </a:lnTo>
                  <a:lnTo>
                    <a:pt x="2412" y="2448"/>
                  </a:lnTo>
                  <a:lnTo>
                    <a:pt x="2380" y="2454"/>
                  </a:lnTo>
                  <a:lnTo>
                    <a:pt x="2344" y="2458"/>
                  </a:lnTo>
                  <a:lnTo>
                    <a:pt x="2300" y="2462"/>
                  </a:lnTo>
                  <a:lnTo>
                    <a:pt x="2252" y="2462"/>
                  </a:lnTo>
                  <a:lnTo>
                    <a:pt x="1368" y="2462"/>
                  </a:lnTo>
                  <a:lnTo>
                    <a:pt x="1368" y="2462"/>
                  </a:lnTo>
                  <a:lnTo>
                    <a:pt x="1258" y="2460"/>
                  </a:lnTo>
                  <a:lnTo>
                    <a:pt x="1154" y="2458"/>
                  </a:lnTo>
                  <a:lnTo>
                    <a:pt x="1058" y="2452"/>
                  </a:lnTo>
                  <a:lnTo>
                    <a:pt x="966" y="2446"/>
                  </a:lnTo>
                  <a:lnTo>
                    <a:pt x="882" y="2436"/>
                  </a:lnTo>
                  <a:lnTo>
                    <a:pt x="804" y="2426"/>
                  </a:lnTo>
                  <a:lnTo>
                    <a:pt x="732" y="2412"/>
                  </a:lnTo>
                  <a:lnTo>
                    <a:pt x="666" y="2396"/>
                  </a:lnTo>
                  <a:lnTo>
                    <a:pt x="666" y="2396"/>
                  </a:lnTo>
                  <a:lnTo>
                    <a:pt x="632" y="2384"/>
                  </a:lnTo>
                  <a:lnTo>
                    <a:pt x="596" y="2370"/>
                  </a:lnTo>
                  <a:lnTo>
                    <a:pt x="560" y="2352"/>
                  </a:lnTo>
                  <a:lnTo>
                    <a:pt x="526" y="2332"/>
                  </a:lnTo>
                  <a:lnTo>
                    <a:pt x="490" y="2308"/>
                  </a:lnTo>
                  <a:lnTo>
                    <a:pt x="454" y="2282"/>
                  </a:lnTo>
                  <a:lnTo>
                    <a:pt x="420" y="2254"/>
                  </a:lnTo>
                  <a:lnTo>
                    <a:pt x="384" y="2222"/>
                  </a:lnTo>
                  <a:lnTo>
                    <a:pt x="384" y="2222"/>
                  </a:lnTo>
                  <a:lnTo>
                    <a:pt x="372" y="2284"/>
                  </a:lnTo>
                  <a:lnTo>
                    <a:pt x="360" y="2336"/>
                  </a:lnTo>
                  <a:lnTo>
                    <a:pt x="346" y="2378"/>
                  </a:lnTo>
                  <a:lnTo>
                    <a:pt x="338" y="2396"/>
                  </a:lnTo>
                  <a:lnTo>
                    <a:pt x="330" y="2410"/>
                  </a:lnTo>
                  <a:lnTo>
                    <a:pt x="330" y="2410"/>
                  </a:lnTo>
                  <a:lnTo>
                    <a:pt x="320" y="2424"/>
                  </a:lnTo>
                  <a:lnTo>
                    <a:pt x="308" y="2438"/>
                  </a:lnTo>
                  <a:lnTo>
                    <a:pt x="292" y="2448"/>
                  </a:lnTo>
                  <a:lnTo>
                    <a:pt x="274" y="2458"/>
                  </a:lnTo>
                  <a:lnTo>
                    <a:pt x="252" y="2464"/>
                  </a:lnTo>
                  <a:lnTo>
                    <a:pt x="228" y="2468"/>
                  </a:lnTo>
                  <a:lnTo>
                    <a:pt x="200" y="2472"/>
                  </a:lnTo>
                  <a:lnTo>
                    <a:pt x="170" y="2472"/>
                  </a:lnTo>
                  <a:lnTo>
                    <a:pt x="170" y="2472"/>
                  </a:lnTo>
                  <a:lnTo>
                    <a:pt x="148" y="2472"/>
                  </a:lnTo>
                  <a:lnTo>
                    <a:pt x="130" y="2470"/>
                  </a:lnTo>
                  <a:lnTo>
                    <a:pt x="112" y="2466"/>
                  </a:lnTo>
                  <a:lnTo>
                    <a:pt x="96" y="2462"/>
                  </a:lnTo>
                  <a:lnTo>
                    <a:pt x="82" y="2454"/>
                  </a:lnTo>
                  <a:lnTo>
                    <a:pt x="68" y="2446"/>
                  </a:lnTo>
                  <a:lnTo>
                    <a:pt x="58" y="2438"/>
                  </a:lnTo>
                  <a:lnTo>
                    <a:pt x="46" y="2426"/>
                  </a:lnTo>
                  <a:lnTo>
                    <a:pt x="46" y="2426"/>
                  </a:lnTo>
                  <a:lnTo>
                    <a:pt x="36" y="2418"/>
                  </a:lnTo>
                  <a:lnTo>
                    <a:pt x="26" y="2406"/>
                  </a:lnTo>
                  <a:lnTo>
                    <a:pt x="18" y="2394"/>
                  </a:lnTo>
                  <a:lnTo>
                    <a:pt x="12" y="2380"/>
                  </a:lnTo>
                  <a:lnTo>
                    <a:pt x="8" y="2362"/>
                  </a:lnTo>
                  <a:lnTo>
                    <a:pt x="4" y="2344"/>
                  </a:lnTo>
                  <a:lnTo>
                    <a:pt x="2" y="2324"/>
                  </a:lnTo>
                  <a:lnTo>
                    <a:pt x="0" y="2302"/>
                  </a:lnTo>
                  <a:lnTo>
                    <a:pt x="0" y="2302"/>
                  </a:lnTo>
                  <a:lnTo>
                    <a:pt x="2" y="2288"/>
                  </a:lnTo>
                  <a:lnTo>
                    <a:pt x="6" y="2274"/>
                  </a:lnTo>
                  <a:lnTo>
                    <a:pt x="16" y="2242"/>
                  </a:lnTo>
                  <a:lnTo>
                    <a:pt x="16" y="2242"/>
                  </a:lnTo>
                  <a:lnTo>
                    <a:pt x="36" y="2178"/>
                  </a:lnTo>
                  <a:lnTo>
                    <a:pt x="54" y="2112"/>
                  </a:lnTo>
                  <a:lnTo>
                    <a:pt x="68" y="2046"/>
                  </a:lnTo>
                  <a:lnTo>
                    <a:pt x="80" y="1980"/>
                  </a:lnTo>
                  <a:lnTo>
                    <a:pt x="90" y="1914"/>
                  </a:lnTo>
                  <a:lnTo>
                    <a:pt x="98" y="1848"/>
                  </a:lnTo>
                  <a:lnTo>
                    <a:pt x="104" y="1782"/>
                  </a:lnTo>
                  <a:lnTo>
                    <a:pt x="106" y="1714"/>
                  </a:lnTo>
                  <a:lnTo>
                    <a:pt x="106" y="1400"/>
                  </a:lnTo>
                  <a:lnTo>
                    <a:pt x="106" y="1400"/>
                  </a:lnTo>
                  <a:lnTo>
                    <a:pt x="108" y="1386"/>
                  </a:lnTo>
                  <a:lnTo>
                    <a:pt x="110" y="1374"/>
                  </a:lnTo>
                  <a:lnTo>
                    <a:pt x="114" y="1362"/>
                  </a:lnTo>
                  <a:lnTo>
                    <a:pt x="118" y="1350"/>
                  </a:lnTo>
                  <a:lnTo>
                    <a:pt x="124" y="1340"/>
                  </a:lnTo>
                  <a:lnTo>
                    <a:pt x="132" y="1330"/>
                  </a:lnTo>
                  <a:lnTo>
                    <a:pt x="140" y="1320"/>
                  </a:lnTo>
                  <a:lnTo>
                    <a:pt x="150" y="1312"/>
                  </a:lnTo>
                  <a:lnTo>
                    <a:pt x="150" y="1312"/>
                  </a:lnTo>
                  <a:lnTo>
                    <a:pt x="160" y="1306"/>
                  </a:lnTo>
                  <a:lnTo>
                    <a:pt x="170" y="1300"/>
                  </a:lnTo>
                  <a:lnTo>
                    <a:pt x="182" y="1294"/>
                  </a:lnTo>
                  <a:lnTo>
                    <a:pt x="196" y="1290"/>
                  </a:lnTo>
                  <a:lnTo>
                    <a:pt x="228" y="1284"/>
                  </a:lnTo>
                  <a:lnTo>
                    <a:pt x="264" y="1282"/>
                  </a:lnTo>
                  <a:lnTo>
                    <a:pt x="264" y="1282"/>
                  </a:lnTo>
                  <a:lnTo>
                    <a:pt x="296" y="1284"/>
                  </a:lnTo>
                  <a:lnTo>
                    <a:pt x="326" y="1290"/>
                  </a:lnTo>
                  <a:lnTo>
                    <a:pt x="352" y="1300"/>
                  </a:lnTo>
                  <a:lnTo>
                    <a:pt x="376" y="1312"/>
                  </a:lnTo>
                  <a:lnTo>
                    <a:pt x="376" y="1312"/>
                  </a:lnTo>
                  <a:lnTo>
                    <a:pt x="386" y="1322"/>
                  </a:lnTo>
                  <a:lnTo>
                    <a:pt x="396" y="1334"/>
                  </a:lnTo>
                  <a:lnTo>
                    <a:pt x="404" y="1346"/>
                  </a:lnTo>
                  <a:lnTo>
                    <a:pt x="412" y="1358"/>
                  </a:lnTo>
                  <a:lnTo>
                    <a:pt x="416" y="1372"/>
                  </a:lnTo>
                  <a:lnTo>
                    <a:pt x="420" y="1388"/>
                  </a:lnTo>
                  <a:lnTo>
                    <a:pt x="424" y="1404"/>
                  </a:lnTo>
                  <a:lnTo>
                    <a:pt x="424" y="1420"/>
                  </a:lnTo>
                  <a:lnTo>
                    <a:pt x="424" y="1658"/>
                  </a:lnTo>
                  <a:lnTo>
                    <a:pt x="424" y="1658"/>
                  </a:lnTo>
                  <a:lnTo>
                    <a:pt x="424" y="1760"/>
                  </a:lnTo>
                  <a:lnTo>
                    <a:pt x="424" y="1760"/>
                  </a:lnTo>
                  <a:lnTo>
                    <a:pt x="480" y="1824"/>
                  </a:lnTo>
                  <a:lnTo>
                    <a:pt x="530" y="1878"/>
                  </a:lnTo>
                  <a:lnTo>
                    <a:pt x="530" y="1188"/>
                  </a:lnTo>
                  <a:lnTo>
                    <a:pt x="190" y="1188"/>
                  </a:lnTo>
                  <a:lnTo>
                    <a:pt x="190" y="1188"/>
                  </a:lnTo>
                  <a:lnTo>
                    <a:pt x="174" y="1186"/>
                  </a:lnTo>
                  <a:lnTo>
                    <a:pt x="158" y="1184"/>
                  </a:lnTo>
                  <a:lnTo>
                    <a:pt x="142" y="1182"/>
                  </a:lnTo>
                  <a:lnTo>
                    <a:pt x="126" y="1178"/>
                  </a:lnTo>
                  <a:lnTo>
                    <a:pt x="114" y="1172"/>
                  </a:lnTo>
                  <a:lnTo>
                    <a:pt x="100" y="1166"/>
                  </a:lnTo>
                  <a:lnTo>
                    <a:pt x="88" y="1158"/>
                  </a:lnTo>
                  <a:lnTo>
                    <a:pt x="76" y="1148"/>
                  </a:lnTo>
                  <a:lnTo>
                    <a:pt x="76" y="1148"/>
                  </a:lnTo>
                  <a:lnTo>
                    <a:pt x="66" y="1140"/>
                  </a:lnTo>
                  <a:lnTo>
                    <a:pt x="56" y="1128"/>
                  </a:lnTo>
                  <a:lnTo>
                    <a:pt x="48" y="1114"/>
                  </a:lnTo>
                  <a:lnTo>
                    <a:pt x="42" y="1098"/>
                  </a:lnTo>
                  <a:lnTo>
                    <a:pt x="36" y="1082"/>
                  </a:lnTo>
                  <a:lnTo>
                    <a:pt x="34" y="1062"/>
                  </a:lnTo>
                  <a:lnTo>
                    <a:pt x="32" y="1042"/>
                  </a:lnTo>
                  <a:lnTo>
                    <a:pt x="30" y="1018"/>
                  </a:lnTo>
                  <a:lnTo>
                    <a:pt x="30" y="1018"/>
                  </a:lnTo>
                  <a:lnTo>
                    <a:pt x="32" y="994"/>
                  </a:lnTo>
                  <a:lnTo>
                    <a:pt x="34" y="972"/>
                  </a:lnTo>
                  <a:lnTo>
                    <a:pt x="36" y="952"/>
                  </a:lnTo>
                  <a:lnTo>
                    <a:pt x="42" y="934"/>
                  </a:lnTo>
                  <a:lnTo>
                    <a:pt x="48" y="918"/>
                  </a:lnTo>
                  <a:lnTo>
                    <a:pt x="56" y="902"/>
                  </a:lnTo>
                  <a:lnTo>
                    <a:pt x="66" y="890"/>
                  </a:lnTo>
                  <a:lnTo>
                    <a:pt x="76" y="880"/>
                  </a:lnTo>
                  <a:lnTo>
                    <a:pt x="76" y="880"/>
                  </a:lnTo>
                  <a:lnTo>
                    <a:pt x="86" y="872"/>
                  </a:lnTo>
                  <a:lnTo>
                    <a:pt x="96" y="866"/>
                  </a:lnTo>
                  <a:lnTo>
                    <a:pt x="108" y="860"/>
                  </a:lnTo>
                  <a:lnTo>
                    <a:pt x="122" y="856"/>
                  </a:lnTo>
                  <a:lnTo>
                    <a:pt x="136" y="852"/>
                  </a:lnTo>
                  <a:lnTo>
                    <a:pt x="154" y="850"/>
                  </a:lnTo>
                  <a:lnTo>
                    <a:pt x="190" y="848"/>
                  </a:lnTo>
                  <a:lnTo>
                    <a:pt x="414" y="848"/>
                  </a:lnTo>
                  <a:lnTo>
                    <a:pt x="414" y="602"/>
                  </a:lnTo>
                  <a:lnTo>
                    <a:pt x="234" y="602"/>
                  </a:lnTo>
                  <a:lnTo>
                    <a:pt x="234" y="602"/>
                  </a:lnTo>
                  <a:lnTo>
                    <a:pt x="216" y="602"/>
                  </a:lnTo>
                  <a:lnTo>
                    <a:pt x="200" y="600"/>
                  </a:lnTo>
                  <a:lnTo>
                    <a:pt x="184" y="598"/>
                  </a:lnTo>
                  <a:lnTo>
                    <a:pt x="170" y="594"/>
                  </a:lnTo>
                  <a:lnTo>
                    <a:pt x="156" y="588"/>
                  </a:lnTo>
                  <a:lnTo>
                    <a:pt x="142" y="582"/>
                  </a:lnTo>
                  <a:lnTo>
                    <a:pt x="130" y="574"/>
                  </a:lnTo>
                  <a:lnTo>
                    <a:pt x="120" y="564"/>
                  </a:lnTo>
                  <a:lnTo>
                    <a:pt x="120" y="564"/>
                  </a:lnTo>
                  <a:lnTo>
                    <a:pt x="110" y="554"/>
                  </a:lnTo>
                  <a:lnTo>
                    <a:pt x="100" y="544"/>
                  </a:lnTo>
                  <a:lnTo>
                    <a:pt x="92" y="530"/>
                  </a:lnTo>
                  <a:lnTo>
                    <a:pt x="86" y="514"/>
                  </a:lnTo>
                  <a:lnTo>
                    <a:pt x="80" y="498"/>
                  </a:lnTo>
                  <a:lnTo>
                    <a:pt x="76" y="478"/>
                  </a:lnTo>
                  <a:lnTo>
                    <a:pt x="74" y="456"/>
                  </a:lnTo>
                  <a:lnTo>
                    <a:pt x="74" y="434"/>
                  </a:lnTo>
                  <a:lnTo>
                    <a:pt x="74" y="434"/>
                  </a:lnTo>
                  <a:lnTo>
                    <a:pt x="74" y="410"/>
                  </a:lnTo>
                  <a:lnTo>
                    <a:pt x="76" y="388"/>
                  </a:lnTo>
                  <a:lnTo>
                    <a:pt x="80" y="368"/>
                  </a:lnTo>
                  <a:lnTo>
                    <a:pt x="86" y="350"/>
                  </a:lnTo>
                  <a:lnTo>
                    <a:pt x="92" y="332"/>
                  </a:lnTo>
                  <a:lnTo>
                    <a:pt x="100" y="318"/>
                  </a:lnTo>
                  <a:lnTo>
                    <a:pt x="110" y="306"/>
                  </a:lnTo>
                  <a:lnTo>
                    <a:pt x="120" y="296"/>
                  </a:lnTo>
                  <a:lnTo>
                    <a:pt x="120" y="296"/>
                  </a:lnTo>
                  <a:lnTo>
                    <a:pt x="130" y="288"/>
                  </a:lnTo>
                  <a:lnTo>
                    <a:pt x="140" y="282"/>
                  </a:lnTo>
                  <a:lnTo>
                    <a:pt x="152" y="276"/>
                  </a:lnTo>
                  <a:lnTo>
                    <a:pt x="166" y="270"/>
                  </a:lnTo>
                  <a:lnTo>
                    <a:pt x="180" y="268"/>
                  </a:lnTo>
                  <a:lnTo>
                    <a:pt x="196" y="264"/>
                  </a:lnTo>
                  <a:lnTo>
                    <a:pt x="234" y="262"/>
                  </a:lnTo>
                  <a:lnTo>
                    <a:pt x="234" y="262"/>
                  </a:lnTo>
                  <a:close/>
                  <a:moveTo>
                    <a:pt x="2346" y="380"/>
                  </a:moveTo>
                  <a:lnTo>
                    <a:pt x="2346" y="380"/>
                  </a:lnTo>
                  <a:lnTo>
                    <a:pt x="2368" y="380"/>
                  </a:lnTo>
                  <a:lnTo>
                    <a:pt x="2386" y="382"/>
                  </a:lnTo>
                  <a:lnTo>
                    <a:pt x="2404" y="386"/>
                  </a:lnTo>
                  <a:lnTo>
                    <a:pt x="2422" y="392"/>
                  </a:lnTo>
                  <a:lnTo>
                    <a:pt x="2436" y="398"/>
                  </a:lnTo>
                  <a:lnTo>
                    <a:pt x="2450" y="406"/>
                  </a:lnTo>
                  <a:lnTo>
                    <a:pt x="2464" y="414"/>
                  </a:lnTo>
                  <a:lnTo>
                    <a:pt x="2474" y="426"/>
                  </a:lnTo>
                  <a:lnTo>
                    <a:pt x="2484" y="438"/>
                  </a:lnTo>
                  <a:lnTo>
                    <a:pt x="2494" y="450"/>
                  </a:lnTo>
                  <a:lnTo>
                    <a:pt x="2500" y="466"/>
                  </a:lnTo>
                  <a:lnTo>
                    <a:pt x="2508" y="482"/>
                  </a:lnTo>
                  <a:lnTo>
                    <a:pt x="2512" y="500"/>
                  </a:lnTo>
                  <a:lnTo>
                    <a:pt x="2516" y="520"/>
                  </a:lnTo>
                  <a:lnTo>
                    <a:pt x="2518" y="540"/>
                  </a:lnTo>
                  <a:lnTo>
                    <a:pt x="2518" y="562"/>
                  </a:lnTo>
                  <a:lnTo>
                    <a:pt x="2518" y="562"/>
                  </a:lnTo>
                  <a:lnTo>
                    <a:pt x="2518" y="584"/>
                  </a:lnTo>
                  <a:lnTo>
                    <a:pt x="2516" y="604"/>
                  </a:lnTo>
                  <a:lnTo>
                    <a:pt x="2512" y="622"/>
                  </a:lnTo>
                  <a:lnTo>
                    <a:pt x="2508" y="640"/>
                  </a:lnTo>
                  <a:lnTo>
                    <a:pt x="2500" y="656"/>
                  </a:lnTo>
                  <a:lnTo>
                    <a:pt x="2494" y="672"/>
                  </a:lnTo>
                  <a:lnTo>
                    <a:pt x="2484" y="684"/>
                  </a:lnTo>
                  <a:lnTo>
                    <a:pt x="2474" y="696"/>
                  </a:lnTo>
                  <a:lnTo>
                    <a:pt x="2464" y="706"/>
                  </a:lnTo>
                  <a:lnTo>
                    <a:pt x="2450" y="716"/>
                  </a:lnTo>
                  <a:lnTo>
                    <a:pt x="2436" y="724"/>
                  </a:lnTo>
                  <a:lnTo>
                    <a:pt x="2422" y="730"/>
                  </a:lnTo>
                  <a:lnTo>
                    <a:pt x="2404" y="734"/>
                  </a:lnTo>
                  <a:lnTo>
                    <a:pt x="2386" y="738"/>
                  </a:lnTo>
                  <a:lnTo>
                    <a:pt x="2368" y="740"/>
                  </a:lnTo>
                  <a:lnTo>
                    <a:pt x="2346" y="742"/>
                  </a:lnTo>
                  <a:lnTo>
                    <a:pt x="2028" y="742"/>
                  </a:lnTo>
                  <a:lnTo>
                    <a:pt x="2028" y="742"/>
                  </a:lnTo>
                  <a:lnTo>
                    <a:pt x="2038" y="836"/>
                  </a:lnTo>
                  <a:lnTo>
                    <a:pt x="2054" y="942"/>
                  </a:lnTo>
                  <a:lnTo>
                    <a:pt x="2072" y="1054"/>
                  </a:lnTo>
                  <a:lnTo>
                    <a:pt x="2096" y="1176"/>
                  </a:lnTo>
                  <a:lnTo>
                    <a:pt x="2096" y="1176"/>
                  </a:lnTo>
                  <a:lnTo>
                    <a:pt x="2098" y="1184"/>
                  </a:lnTo>
                  <a:lnTo>
                    <a:pt x="2100" y="1192"/>
                  </a:lnTo>
                  <a:lnTo>
                    <a:pt x="2100" y="1192"/>
                  </a:lnTo>
                  <a:lnTo>
                    <a:pt x="2134" y="1126"/>
                  </a:lnTo>
                  <a:lnTo>
                    <a:pt x="2164" y="1068"/>
                  </a:lnTo>
                  <a:lnTo>
                    <a:pt x="2186" y="1018"/>
                  </a:lnTo>
                  <a:lnTo>
                    <a:pt x="2200" y="976"/>
                  </a:lnTo>
                  <a:lnTo>
                    <a:pt x="2200" y="976"/>
                  </a:lnTo>
                  <a:lnTo>
                    <a:pt x="2210" y="948"/>
                  </a:lnTo>
                  <a:lnTo>
                    <a:pt x="2220" y="926"/>
                  </a:lnTo>
                  <a:lnTo>
                    <a:pt x="2232" y="906"/>
                  </a:lnTo>
                  <a:lnTo>
                    <a:pt x="2244" y="890"/>
                  </a:lnTo>
                  <a:lnTo>
                    <a:pt x="2258" y="878"/>
                  </a:lnTo>
                  <a:lnTo>
                    <a:pt x="2272" y="868"/>
                  </a:lnTo>
                  <a:lnTo>
                    <a:pt x="2288" y="862"/>
                  </a:lnTo>
                  <a:lnTo>
                    <a:pt x="2306" y="858"/>
                  </a:lnTo>
                  <a:lnTo>
                    <a:pt x="2306" y="858"/>
                  </a:lnTo>
                  <a:lnTo>
                    <a:pt x="2344" y="860"/>
                  </a:lnTo>
                  <a:lnTo>
                    <a:pt x="2382" y="866"/>
                  </a:lnTo>
                  <a:lnTo>
                    <a:pt x="2420" y="878"/>
                  </a:lnTo>
                  <a:lnTo>
                    <a:pt x="2456" y="894"/>
                  </a:lnTo>
                  <a:lnTo>
                    <a:pt x="2456" y="894"/>
                  </a:lnTo>
                  <a:lnTo>
                    <a:pt x="2470" y="906"/>
                  </a:lnTo>
                  <a:lnTo>
                    <a:pt x="2482" y="918"/>
                  </a:lnTo>
                  <a:lnTo>
                    <a:pt x="2494" y="934"/>
                  </a:lnTo>
                  <a:lnTo>
                    <a:pt x="2502" y="950"/>
                  </a:lnTo>
                  <a:lnTo>
                    <a:pt x="2508" y="966"/>
                  </a:lnTo>
                  <a:lnTo>
                    <a:pt x="2514" y="986"/>
                  </a:lnTo>
                  <a:lnTo>
                    <a:pt x="2516" y="1008"/>
                  </a:lnTo>
                  <a:lnTo>
                    <a:pt x="2518" y="1030"/>
                  </a:lnTo>
                  <a:lnTo>
                    <a:pt x="2518" y="1030"/>
                  </a:lnTo>
                  <a:lnTo>
                    <a:pt x="2516" y="1052"/>
                  </a:lnTo>
                  <a:lnTo>
                    <a:pt x="2510" y="1076"/>
                  </a:lnTo>
                  <a:lnTo>
                    <a:pt x="2500" y="1102"/>
                  </a:lnTo>
                  <a:lnTo>
                    <a:pt x="2488" y="1132"/>
                  </a:lnTo>
                  <a:lnTo>
                    <a:pt x="2488" y="1132"/>
                  </a:lnTo>
                  <a:lnTo>
                    <a:pt x="2462" y="1188"/>
                  </a:lnTo>
                  <a:lnTo>
                    <a:pt x="2434" y="1242"/>
                  </a:lnTo>
                  <a:lnTo>
                    <a:pt x="2404" y="1296"/>
                  </a:lnTo>
                  <a:lnTo>
                    <a:pt x="2374" y="1350"/>
                  </a:lnTo>
                  <a:lnTo>
                    <a:pt x="2340" y="1404"/>
                  </a:lnTo>
                  <a:lnTo>
                    <a:pt x="2306" y="1456"/>
                  </a:lnTo>
                  <a:lnTo>
                    <a:pt x="2270" y="1510"/>
                  </a:lnTo>
                  <a:lnTo>
                    <a:pt x="2232" y="1562"/>
                  </a:lnTo>
                  <a:lnTo>
                    <a:pt x="2232" y="1562"/>
                  </a:lnTo>
                  <a:lnTo>
                    <a:pt x="2236" y="1568"/>
                  </a:lnTo>
                  <a:lnTo>
                    <a:pt x="2236" y="1568"/>
                  </a:lnTo>
                  <a:lnTo>
                    <a:pt x="2256" y="1592"/>
                  </a:lnTo>
                  <a:lnTo>
                    <a:pt x="2276" y="1608"/>
                  </a:lnTo>
                  <a:lnTo>
                    <a:pt x="2292" y="1618"/>
                  </a:lnTo>
                  <a:lnTo>
                    <a:pt x="2300" y="1622"/>
                  </a:lnTo>
                  <a:lnTo>
                    <a:pt x="2306" y="1622"/>
                  </a:lnTo>
                  <a:lnTo>
                    <a:pt x="2306" y="1622"/>
                  </a:lnTo>
                  <a:lnTo>
                    <a:pt x="2312" y="1620"/>
                  </a:lnTo>
                  <a:lnTo>
                    <a:pt x="2318" y="1618"/>
                  </a:lnTo>
                  <a:lnTo>
                    <a:pt x="2326" y="1612"/>
                  </a:lnTo>
                  <a:lnTo>
                    <a:pt x="2332" y="1604"/>
                  </a:lnTo>
                  <a:lnTo>
                    <a:pt x="2348" y="1582"/>
                  </a:lnTo>
                  <a:lnTo>
                    <a:pt x="2366" y="1552"/>
                  </a:lnTo>
                  <a:lnTo>
                    <a:pt x="2366" y="1552"/>
                  </a:lnTo>
                  <a:lnTo>
                    <a:pt x="2380" y="1526"/>
                  </a:lnTo>
                  <a:lnTo>
                    <a:pt x="2394" y="1508"/>
                  </a:lnTo>
                  <a:lnTo>
                    <a:pt x="2402" y="1502"/>
                  </a:lnTo>
                  <a:lnTo>
                    <a:pt x="2408" y="1498"/>
                  </a:lnTo>
                  <a:lnTo>
                    <a:pt x="2416" y="1496"/>
                  </a:lnTo>
                  <a:lnTo>
                    <a:pt x="2422" y="1494"/>
                  </a:lnTo>
                  <a:lnTo>
                    <a:pt x="2422" y="1494"/>
                  </a:lnTo>
                  <a:lnTo>
                    <a:pt x="2436" y="1494"/>
                  </a:lnTo>
                  <a:lnTo>
                    <a:pt x="2448" y="1498"/>
                  </a:lnTo>
                  <a:lnTo>
                    <a:pt x="2462" y="1500"/>
                  </a:lnTo>
                  <a:lnTo>
                    <a:pt x="2472" y="1506"/>
                  </a:lnTo>
                  <a:lnTo>
                    <a:pt x="2484" y="1512"/>
                  </a:lnTo>
                  <a:lnTo>
                    <a:pt x="2494" y="1520"/>
                  </a:lnTo>
                  <a:lnTo>
                    <a:pt x="2506" y="1530"/>
                  </a:lnTo>
                  <a:lnTo>
                    <a:pt x="2516" y="1540"/>
                  </a:lnTo>
                  <a:lnTo>
                    <a:pt x="2516" y="1540"/>
                  </a:lnTo>
                  <a:lnTo>
                    <a:pt x="2528" y="1554"/>
                  </a:lnTo>
                  <a:lnTo>
                    <a:pt x="2538" y="1570"/>
                  </a:lnTo>
                  <a:lnTo>
                    <a:pt x="2548" y="1588"/>
                  </a:lnTo>
                  <a:lnTo>
                    <a:pt x="2556" y="1610"/>
                  </a:lnTo>
                  <a:lnTo>
                    <a:pt x="2562" y="1634"/>
                  </a:lnTo>
                  <a:lnTo>
                    <a:pt x="2566" y="1660"/>
                  </a:lnTo>
                  <a:lnTo>
                    <a:pt x="2568" y="1688"/>
                  </a:lnTo>
                  <a:lnTo>
                    <a:pt x="2570" y="1720"/>
                  </a:lnTo>
                  <a:lnTo>
                    <a:pt x="2570" y="1720"/>
                  </a:lnTo>
                  <a:lnTo>
                    <a:pt x="2568" y="1740"/>
                  </a:lnTo>
                  <a:lnTo>
                    <a:pt x="2566" y="1760"/>
                  </a:lnTo>
                  <a:lnTo>
                    <a:pt x="2562" y="1780"/>
                  </a:lnTo>
                  <a:lnTo>
                    <a:pt x="2558" y="1798"/>
                  </a:lnTo>
                  <a:lnTo>
                    <a:pt x="2552" y="1816"/>
                  </a:lnTo>
                  <a:lnTo>
                    <a:pt x="2544" y="1834"/>
                  </a:lnTo>
                  <a:lnTo>
                    <a:pt x="2534" y="1850"/>
                  </a:lnTo>
                  <a:lnTo>
                    <a:pt x="2524" y="1866"/>
                  </a:lnTo>
                  <a:lnTo>
                    <a:pt x="2524" y="1866"/>
                  </a:lnTo>
                  <a:lnTo>
                    <a:pt x="2492" y="1906"/>
                  </a:lnTo>
                  <a:lnTo>
                    <a:pt x="2460" y="1938"/>
                  </a:lnTo>
                  <a:lnTo>
                    <a:pt x="2430" y="1962"/>
                  </a:lnTo>
                  <a:lnTo>
                    <a:pt x="2416" y="1972"/>
                  </a:lnTo>
                  <a:lnTo>
                    <a:pt x="2400" y="1980"/>
                  </a:lnTo>
                  <a:lnTo>
                    <a:pt x="2400" y="1980"/>
                  </a:lnTo>
                  <a:lnTo>
                    <a:pt x="2378" y="1992"/>
                  </a:lnTo>
                  <a:lnTo>
                    <a:pt x="2352" y="2000"/>
                  </a:lnTo>
                  <a:lnTo>
                    <a:pt x="2324" y="2004"/>
                  </a:lnTo>
                  <a:lnTo>
                    <a:pt x="2294" y="2006"/>
                  </a:lnTo>
                  <a:lnTo>
                    <a:pt x="2294" y="2006"/>
                  </a:lnTo>
                  <a:lnTo>
                    <a:pt x="2264" y="2004"/>
                  </a:lnTo>
                  <a:lnTo>
                    <a:pt x="2236" y="1998"/>
                  </a:lnTo>
                  <a:lnTo>
                    <a:pt x="2206" y="1990"/>
                  </a:lnTo>
                  <a:lnTo>
                    <a:pt x="2178" y="1978"/>
                  </a:lnTo>
                  <a:lnTo>
                    <a:pt x="2152" y="1964"/>
                  </a:lnTo>
                  <a:lnTo>
                    <a:pt x="2126" y="1946"/>
                  </a:lnTo>
                  <a:lnTo>
                    <a:pt x="2100" y="1924"/>
                  </a:lnTo>
                  <a:lnTo>
                    <a:pt x="2074" y="1900"/>
                  </a:lnTo>
                  <a:lnTo>
                    <a:pt x="2074" y="1900"/>
                  </a:lnTo>
                  <a:lnTo>
                    <a:pt x="2042" y="1864"/>
                  </a:lnTo>
                  <a:lnTo>
                    <a:pt x="2012" y="1826"/>
                  </a:lnTo>
                  <a:lnTo>
                    <a:pt x="2012" y="1826"/>
                  </a:lnTo>
                  <a:lnTo>
                    <a:pt x="1970" y="1870"/>
                  </a:lnTo>
                  <a:lnTo>
                    <a:pt x="1928" y="1912"/>
                  </a:lnTo>
                  <a:lnTo>
                    <a:pt x="1840" y="1994"/>
                  </a:lnTo>
                  <a:lnTo>
                    <a:pt x="1840" y="1994"/>
                  </a:lnTo>
                  <a:lnTo>
                    <a:pt x="1818" y="2008"/>
                  </a:lnTo>
                  <a:lnTo>
                    <a:pt x="1796" y="2018"/>
                  </a:lnTo>
                  <a:lnTo>
                    <a:pt x="1774" y="2024"/>
                  </a:lnTo>
                  <a:lnTo>
                    <a:pt x="1752" y="2028"/>
                  </a:lnTo>
                  <a:lnTo>
                    <a:pt x="1752" y="2028"/>
                  </a:lnTo>
                  <a:lnTo>
                    <a:pt x="1730" y="2026"/>
                  </a:lnTo>
                  <a:lnTo>
                    <a:pt x="1710" y="2024"/>
                  </a:lnTo>
                  <a:lnTo>
                    <a:pt x="1690" y="2020"/>
                  </a:lnTo>
                  <a:lnTo>
                    <a:pt x="1672" y="2014"/>
                  </a:lnTo>
                  <a:lnTo>
                    <a:pt x="1658" y="2006"/>
                  </a:lnTo>
                  <a:lnTo>
                    <a:pt x="1642" y="1998"/>
                  </a:lnTo>
                  <a:lnTo>
                    <a:pt x="1630" y="1988"/>
                  </a:lnTo>
                  <a:lnTo>
                    <a:pt x="1618" y="1976"/>
                  </a:lnTo>
                  <a:lnTo>
                    <a:pt x="1618" y="1976"/>
                  </a:lnTo>
                  <a:lnTo>
                    <a:pt x="1608" y="1964"/>
                  </a:lnTo>
                  <a:lnTo>
                    <a:pt x="1598" y="1952"/>
                  </a:lnTo>
                  <a:lnTo>
                    <a:pt x="1592" y="1938"/>
                  </a:lnTo>
                  <a:lnTo>
                    <a:pt x="1584" y="1924"/>
                  </a:lnTo>
                  <a:lnTo>
                    <a:pt x="1580" y="1908"/>
                  </a:lnTo>
                  <a:lnTo>
                    <a:pt x="1576" y="1892"/>
                  </a:lnTo>
                  <a:lnTo>
                    <a:pt x="1574" y="1874"/>
                  </a:lnTo>
                  <a:lnTo>
                    <a:pt x="1572" y="1856"/>
                  </a:lnTo>
                  <a:lnTo>
                    <a:pt x="1572" y="1856"/>
                  </a:lnTo>
                  <a:lnTo>
                    <a:pt x="1574" y="1842"/>
                  </a:lnTo>
                  <a:lnTo>
                    <a:pt x="1578" y="1830"/>
                  </a:lnTo>
                  <a:lnTo>
                    <a:pt x="1582" y="1816"/>
                  </a:lnTo>
                  <a:lnTo>
                    <a:pt x="1588" y="1804"/>
                  </a:lnTo>
                  <a:lnTo>
                    <a:pt x="1588" y="1804"/>
                  </a:lnTo>
                  <a:lnTo>
                    <a:pt x="1514" y="1844"/>
                  </a:lnTo>
                  <a:lnTo>
                    <a:pt x="1436" y="1884"/>
                  </a:lnTo>
                  <a:lnTo>
                    <a:pt x="1354" y="1924"/>
                  </a:lnTo>
                  <a:lnTo>
                    <a:pt x="1268" y="1962"/>
                  </a:lnTo>
                  <a:lnTo>
                    <a:pt x="1268" y="1962"/>
                  </a:lnTo>
                  <a:lnTo>
                    <a:pt x="1248" y="1970"/>
                  </a:lnTo>
                  <a:lnTo>
                    <a:pt x="1228" y="1976"/>
                  </a:lnTo>
                  <a:lnTo>
                    <a:pt x="1208" y="1982"/>
                  </a:lnTo>
                  <a:lnTo>
                    <a:pt x="1188" y="1984"/>
                  </a:lnTo>
                  <a:lnTo>
                    <a:pt x="1188" y="1984"/>
                  </a:lnTo>
                  <a:lnTo>
                    <a:pt x="1170" y="1982"/>
                  </a:lnTo>
                  <a:lnTo>
                    <a:pt x="1152" y="1980"/>
                  </a:lnTo>
                  <a:lnTo>
                    <a:pt x="1134" y="1974"/>
                  </a:lnTo>
                  <a:lnTo>
                    <a:pt x="1120" y="1966"/>
                  </a:lnTo>
                  <a:lnTo>
                    <a:pt x="1104" y="1956"/>
                  </a:lnTo>
                  <a:lnTo>
                    <a:pt x="1092" y="1944"/>
                  </a:lnTo>
                  <a:lnTo>
                    <a:pt x="1080" y="1930"/>
                  </a:lnTo>
                  <a:lnTo>
                    <a:pt x="1068" y="1912"/>
                  </a:lnTo>
                  <a:lnTo>
                    <a:pt x="1068" y="1912"/>
                  </a:lnTo>
                  <a:lnTo>
                    <a:pt x="1052" y="1880"/>
                  </a:lnTo>
                  <a:lnTo>
                    <a:pt x="1040" y="1848"/>
                  </a:lnTo>
                  <a:lnTo>
                    <a:pt x="1034" y="1814"/>
                  </a:lnTo>
                  <a:lnTo>
                    <a:pt x="1030" y="1782"/>
                  </a:lnTo>
                  <a:lnTo>
                    <a:pt x="1030" y="1782"/>
                  </a:lnTo>
                  <a:lnTo>
                    <a:pt x="1032" y="1766"/>
                  </a:lnTo>
                  <a:lnTo>
                    <a:pt x="1034" y="1748"/>
                  </a:lnTo>
                  <a:lnTo>
                    <a:pt x="1040" y="1732"/>
                  </a:lnTo>
                  <a:lnTo>
                    <a:pt x="1046" y="1718"/>
                  </a:lnTo>
                  <a:lnTo>
                    <a:pt x="1056" y="1704"/>
                  </a:lnTo>
                  <a:lnTo>
                    <a:pt x="1066" y="1690"/>
                  </a:lnTo>
                  <a:lnTo>
                    <a:pt x="1078" y="1678"/>
                  </a:lnTo>
                  <a:lnTo>
                    <a:pt x="1094" y="1666"/>
                  </a:lnTo>
                  <a:lnTo>
                    <a:pt x="1094" y="1666"/>
                  </a:lnTo>
                  <a:lnTo>
                    <a:pt x="1178" y="1622"/>
                  </a:lnTo>
                  <a:lnTo>
                    <a:pt x="1178" y="678"/>
                  </a:lnTo>
                  <a:lnTo>
                    <a:pt x="1178" y="678"/>
                  </a:lnTo>
                  <a:lnTo>
                    <a:pt x="1178" y="642"/>
                  </a:lnTo>
                  <a:lnTo>
                    <a:pt x="1182" y="608"/>
                  </a:lnTo>
                  <a:lnTo>
                    <a:pt x="1188" y="578"/>
                  </a:lnTo>
                  <a:lnTo>
                    <a:pt x="1196" y="548"/>
                  </a:lnTo>
                  <a:lnTo>
                    <a:pt x="1206" y="522"/>
                  </a:lnTo>
                  <a:lnTo>
                    <a:pt x="1220" y="496"/>
                  </a:lnTo>
                  <a:lnTo>
                    <a:pt x="1234" y="474"/>
                  </a:lnTo>
                  <a:lnTo>
                    <a:pt x="1252" y="454"/>
                  </a:lnTo>
                  <a:lnTo>
                    <a:pt x="1272" y="436"/>
                  </a:lnTo>
                  <a:lnTo>
                    <a:pt x="1294" y="422"/>
                  </a:lnTo>
                  <a:lnTo>
                    <a:pt x="1318" y="408"/>
                  </a:lnTo>
                  <a:lnTo>
                    <a:pt x="1346" y="398"/>
                  </a:lnTo>
                  <a:lnTo>
                    <a:pt x="1374" y="390"/>
                  </a:lnTo>
                  <a:lnTo>
                    <a:pt x="1406" y="384"/>
                  </a:lnTo>
                  <a:lnTo>
                    <a:pt x="1440" y="380"/>
                  </a:lnTo>
                  <a:lnTo>
                    <a:pt x="1476" y="380"/>
                  </a:lnTo>
                  <a:lnTo>
                    <a:pt x="1680" y="380"/>
                  </a:lnTo>
                  <a:lnTo>
                    <a:pt x="1680" y="380"/>
                  </a:lnTo>
                  <a:lnTo>
                    <a:pt x="1678" y="286"/>
                  </a:lnTo>
                  <a:lnTo>
                    <a:pt x="1678" y="190"/>
                  </a:lnTo>
                  <a:lnTo>
                    <a:pt x="1678" y="190"/>
                  </a:lnTo>
                  <a:lnTo>
                    <a:pt x="1678" y="168"/>
                  </a:lnTo>
                  <a:lnTo>
                    <a:pt x="1680" y="146"/>
                  </a:lnTo>
                  <a:lnTo>
                    <a:pt x="1684" y="128"/>
                  </a:lnTo>
                  <a:lnTo>
                    <a:pt x="1688" y="110"/>
                  </a:lnTo>
                  <a:lnTo>
                    <a:pt x="1694" y="94"/>
                  </a:lnTo>
                  <a:lnTo>
                    <a:pt x="1700" y="80"/>
                  </a:lnTo>
                  <a:lnTo>
                    <a:pt x="1708" y="68"/>
                  </a:lnTo>
                  <a:lnTo>
                    <a:pt x="1718" y="56"/>
                  </a:lnTo>
                  <a:lnTo>
                    <a:pt x="1718" y="56"/>
                  </a:lnTo>
                  <a:lnTo>
                    <a:pt x="1728" y="48"/>
                  </a:lnTo>
                  <a:lnTo>
                    <a:pt x="1740" y="40"/>
                  </a:lnTo>
                  <a:lnTo>
                    <a:pt x="1754" y="34"/>
                  </a:lnTo>
                  <a:lnTo>
                    <a:pt x="1770" y="28"/>
                  </a:lnTo>
                  <a:lnTo>
                    <a:pt x="1788" y="24"/>
                  </a:lnTo>
                  <a:lnTo>
                    <a:pt x="1806" y="20"/>
                  </a:lnTo>
                  <a:lnTo>
                    <a:pt x="1826" y="18"/>
                  </a:lnTo>
                  <a:lnTo>
                    <a:pt x="1850" y="18"/>
                  </a:lnTo>
                  <a:lnTo>
                    <a:pt x="1850" y="18"/>
                  </a:lnTo>
                  <a:lnTo>
                    <a:pt x="1886" y="20"/>
                  </a:lnTo>
                  <a:lnTo>
                    <a:pt x="1916" y="26"/>
                  </a:lnTo>
                  <a:lnTo>
                    <a:pt x="1932" y="30"/>
                  </a:lnTo>
                  <a:lnTo>
                    <a:pt x="1944" y="36"/>
                  </a:lnTo>
                  <a:lnTo>
                    <a:pt x="1958" y="42"/>
                  </a:lnTo>
                  <a:lnTo>
                    <a:pt x="1968" y="48"/>
                  </a:lnTo>
                  <a:lnTo>
                    <a:pt x="1968" y="48"/>
                  </a:lnTo>
                  <a:lnTo>
                    <a:pt x="1980" y="60"/>
                  </a:lnTo>
                  <a:lnTo>
                    <a:pt x="1990" y="72"/>
                  </a:lnTo>
                  <a:lnTo>
                    <a:pt x="1998" y="86"/>
                  </a:lnTo>
                  <a:lnTo>
                    <a:pt x="2006" y="102"/>
                  </a:lnTo>
                  <a:lnTo>
                    <a:pt x="2010" y="120"/>
                  </a:lnTo>
                  <a:lnTo>
                    <a:pt x="2014" y="138"/>
                  </a:lnTo>
                  <a:lnTo>
                    <a:pt x="2016" y="158"/>
                  </a:lnTo>
                  <a:lnTo>
                    <a:pt x="2018" y="178"/>
                  </a:lnTo>
                  <a:lnTo>
                    <a:pt x="2020" y="380"/>
                  </a:lnTo>
                  <a:lnTo>
                    <a:pt x="2346" y="380"/>
                  </a:lnTo>
                  <a:close/>
                  <a:moveTo>
                    <a:pt x="1572" y="1420"/>
                  </a:moveTo>
                  <a:lnTo>
                    <a:pt x="1572" y="1420"/>
                  </a:lnTo>
                  <a:lnTo>
                    <a:pt x="1616" y="1400"/>
                  </a:lnTo>
                  <a:lnTo>
                    <a:pt x="1616" y="1400"/>
                  </a:lnTo>
                  <a:lnTo>
                    <a:pt x="1642" y="1400"/>
                  </a:lnTo>
                  <a:lnTo>
                    <a:pt x="1666" y="1404"/>
                  </a:lnTo>
                  <a:lnTo>
                    <a:pt x="1690" y="1410"/>
                  </a:lnTo>
                  <a:lnTo>
                    <a:pt x="1712" y="1418"/>
                  </a:lnTo>
                  <a:lnTo>
                    <a:pt x="1730" y="1428"/>
                  </a:lnTo>
                  <a:lnTo>
                    <a:pt x="1750" y="1442"/>
                  </a:lnTo>
                  <a:lnTo>
                    <a:pt x="1766" y="1458"/>
                  </a:lnTo>
                  <a:lnTo>
                    <a:pt x="1782" y="1476"/>
                  </a:lnTo>
                  <a:lnTo>
                    <a:pt x="1782" y="1476"/>
                  </a:lnTo>
                  <a:lnTo>
                    <a:pt x="1796" y="1498"/>
                  </a:lnTo>
                  <a:lnTo>
                    <a:pt x="1808" y="1524"/>
                  </a:lnTo>
                  <a:lnTo>
                    <a:pt x="1818" y="1550"/>
                  </a:lnTo>
                  <a:lnTo>
                    <a:pt x="1824" y="1578"/>
                  </a:lnTo>
                  <a:lnTo>
                    <a:pt x="1824" y="1578"/>
                  </a:lnTo>
                  <a:lnTo>
                    <a:pt x="1862" y="1534"/>
                  </a:lnTo>
                  <a:lnTo>
                    <a:pt x="1862" y="1534"/>
                  </a:lnTo>
                  <a:lnTo>
                    <a:pt x="1840" y="1466"/>
                  </a:lnTo>
                  <a:lnTo>
                    <a:pt x="1818" y="1398"/>
                  </a:lnTo>
                  <a:lnTo>
                    <a:pt x="1798" y="1326"/>
                  </a:lnTo>
                  <a:lnTo>
                    <a:pt x="1780" y="1256"/>
                  </a:lnTo>
                  <a:lnTo>
                    <a:pt x="1764" y="1184"/>
                  </a:lnTo>
                  <a:lnTo>
                    <a:pt x="1750" y="1110"/>
                  </a:lnTo>
                  <a:lnTo>
                    <a:pt x="1738" y="1036"/>
                  </a:lnTo>
                  <a:lnTo>
                    <a:pt x="1726" y="962"/>
                  </a:lnTo>
                  <a:lnTo>
                    <a:pt x="1726" y="962"/>
                  </a:lnTo>
                  <a:lnTo>
                    <a:pt x="1712" y="854"/>
                  </a:lnTo>
                  <a:lnTo>
                    <a:pt x="1700" y="742"/>
                  </a:lnTo>
                  <a:lnTo>
                    <a:pt x="1634" y="742"/>
                  </a:lnTo>
                  <a:lnTo>
                    <a:pt x="1634" y="742"/>
                  </a:lnTo>
                  <a:lnTo>
                    <a:pt x="1620" y="742"/>
                  </a:lnTo>
                  <a:lnTo>
                    <a:pt x="1606" y="746"/>
                  </a:lnTo>
                  <a:lnTo>
                    <a:pt x="1596" y="750"/>
                  </a:lnTo>
                  <a:lnTo>
                    <a:pt x="1588" y="758"/>
                  </a:lnTo>
                  <a:lnTo>
                    <a:pt x="1580" y="766"/>
                  </a:lnTo>
                  <a:lnTo>
                    <a:pt x="1576" y="778"/>
                  </a:lnTo>
                  <a:lnTo>
                    <a:pt x="1572" y="792"/>
                  </a:lnTo>
                  <a:lnTo>
                    <a:pt x="1572" y="806"/>
                  </a:lnTo>
                  <a:lnTo>
                    <a:pt x="1572" y="1420"/>
                  </a:lnTo>
                  <a:close/>
                  <a:moveTo>
                    <a:pt x="2274" y="8"/>
                  </a:moveTo>
                  <a:lnTo>
                    <a:pt x="2274" y="8"/>
                  </a:lnTo>
                  <a:lnTo>
                    <a:pt x="2294" y="8"/>
                  </a:lnTo>
                  <a:lnTo>
                    <a:pt x="2314" y="10"/>
                  </a:lnTo>
                  <a:lnTo>
                    <a:pt x="2332" y="14"/>
                  </a:lnTo>
                  <a:lnTo>
                    <a:pt x="2348" y="20"/>
                  </a:lnTo>
                  <a:lnTo>
                    <a:pt x="2364" y="28"/>
                  </a:lnTo>
                  <a:lnTo>
                    <a:pt x="2378" y="38"/>
                  </a:lnTo>
                  <a:lnTo>
                    <a:pt x="2390" y="48"/>
                  </a:lnTo>
                  <a:lnTo>
                    <a:pt x="2400" y="62"/>
                  </a:lnTo>
                  <a:lnTo>
                    <a:pt x="2400" y="62"/>
                  </a:lnTo>
                  <a:lnTo>
                    <a:pt x="2410" y="76"/>
                  </a:lnTo>
                  <a:lnTo>
                    <a:pt x="2418" y="94"/>
                  </a:lnTo>
                  <a:lnTo>
                    <a:pt x="2428" y="118"/>
                  </a:lnTo>
                  <a:lnTo>
                    <a:pt x="2438" y="146"/>
                  </a:lnTo>
                  <a:lnTo>
                    <a:pt x="2438" y="146"/>
                  </a:lnTo>
                  <a:lnTo>
                    <a:pt x="2444" y="164"/>
                  </a:lnTo>
                  <a:lnTo>
                    <a:pt x="2450" y="182"/>
                  </a:lnTo>
                  <a:lnTo>
                    <a:pt x="2452" y="196"/>
                  </a:lnTo>
                  <a:lnTo>
                    <a:pt x="2452" y="212"/>
                  </a:lnTo>
                  <a:lnTo>
                    <a:pt x="2452" y="212"/>
                  </a:lnTo>
                  <a:lnTo>
                    <a:pt x="2450" y="240"/>
                  </a:lnTo>
                  <a:lnTo>
                    <a:pt x="2448" y="252"/>
                  </a:lnTo>
                  <a:lnTo>
                    <a:pt x="2444" y="264"/>
                  </a:lnTo>
                  <a:lnTo>
                    <a:pt x="2440" y="274"/>
                  </a:lnTo>
                  <a:lnTo>
                    <a:pt x="2434" y="284"/>
                  </a:lnTo>
                  <a:lnTo>
                    <a:pt x="2428" y="292"/>
                  </a:lnTo>
                  <a:lnTo>
                    <a:pt x="2420" y="300"/>
                  </a:lnTo>
                  <a:lnTo>
                    <a:pt x="2420" y="300"/>
                  </a:lnTo>
                  <a:lnTo>
                    <a:pt x="2410" y="312"/>
                  </a:lnTo>
                  <a:lnTo>
                    <a:pt x="2398" y="322"/>
                  </a:lnTo>
                  <a:lnTo>
                    <a:pt x="2384" y="330"/>
                  </a:lnTo>
                  <a:lnTo>
                    <a:pt x="2370" y="336"/>
                  </a:lnTo>
                  <a:lnTo>
                    <a:pt x="2356" y="342"/>
                  </a:lnTo>
                  <a:lnTo>
                    <a:pt x="2340" y="346"/>
                  </a:lnTo>
                  <a:lnTo>
                    <a:pt x="2324" y="348"/>
                  </a:lnTo>
                  <a:lnTo>
                    <a:pt x="2306" y="350"/>
                  </a:lnTo>
                  <a:lnTo>
                    <a:pt x="2306" y="350"/>
                  </a:lnTo>
                  <a:lnTo>
                    <a:pt x="2274" y="348"/>
                  </a:lnTo>
                  <a:lnTo>
                    <a:pt x="2248" y="344"/>
                  </a:lnTo>
                  <a:lnTo>
                    <a:pt x="2226" y="338"/>
                  </a:lnTo>
                  <a:lnTo>
                    <a:pt x="2208" y="328"/>
                  </a:lnTo>
                  <a:lnTo>
                    <a:pt x="2208" y="328"/>
                  </a:lnTo>
                  <a:lnTo>
                    <a:pt x="2196" y="320"/>
                  </a:lnTo>
                  <a:lnTo>
                    <a:pt x="2188" y="310"/>
                  </a:lnTo>
                  <a:lnTo>
                    <a:pt x="2182" y="298"/>
                  </a:lnTo>
                  <a:lnTo>
                    <a:pt x="2178" y="284"/>
                  </a:lnTo>
                  <a:lnTo>
                    <a:pt x="2178" y="284"/>
                  </a:lnTo>
                  <a:lnTo>
                    <a:pt x="2152" y="228"/>
                  </a:lnTo>
                  <a:lnTo>
                    <a:pt x="2116" y="156"/>
                  </a:lnTo>
                  <a:lnTo>
                    <a:pt x="2116" y="156"/>
                  </a:lnTo>
                  <a:lnTo>
                    <a:pt x="2114" y="152"/>
                  </a:lnTo>
                  <a:lnTo>
                    <a:pt x="2112" y="146"/>
                  </a:lnTo>
                  <a:lnTo>
                    <a:pt x="2112" y="146"/>
                  </a:lnTo>
                  <a:lnTo>
                    <a:pt x="2114" y="134"/>
                  </a:lnTo>
                  <a:lnTo>
                    <a:pt x="2116" y="120"/>
                  </a:lnTo>
                  <a:lnTo>
                    <a:pt x="2120" y="104"/>
                  </a:lnTo>
                  <a:lnTo>
                    <a:pt x="2126" y="88"/>
                  </a:lnTo>
                  <a:lnTo>
                    <a:pt x="2126" y="88"/>
                  </a:lnTo>
                  <a:lnTo>
                    <a:pt x="2140" y="70"/>
                  </a:lnTo>
                  <a:lnTo>
                    <a:pt x="2156" y="52"/>
                  </a:lnTo>
                  <a:lnTo>
                    <a:pt x="2178" y="36"/>
                  </a:lnTo>
                  <a:lnTo>
                    <a:pt x="2202" y="24"/>
                  </a:lnTo>
                  <a:lnTo>
                    <a:pt x="2202" y="24"/>
                  </a:lnTo>
                  <a:lnTo>
                    <a:pt x="2220" y="16"/>
                  </a:lnTo>
                  <a:lnTo>
                    <a:pt x="2238" y="12"/>
                  </a:lnTo>
                  <a:lnTo>
                    <a:pt x="2256" y="8"/>
                  </a:lnTo>
                  <a:lnTo>
                    <a:pt x="2274" y="8"/>
                  </a:lnTo>
                  <a:lnTo>
                    <a:pt x="227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28"/>
            <p:cNvSpPr/>
            <p:nvPr/>
          </p:nvSpPr>
          <p:spPr>
            <a:xfrm>
              <a:off x="11323440" y="4384440"/>
              <a:ext cx="3044880" cy="3502080"/>
            </a:xfrm>
            <a:custGeom>
              <a:avLst/>
              <a:gdLst>
                <a:gd name="textAreaLeft" fmla="*/ 0 w 3044880"/>
                <a:gd name="textAreaRight" fmla="*/ 3045240 w 3044880"/>
                <a:gd name="textAreaTop" fmla="*/ 0 h 3502080"/>
                <a:gd name="textAreaBottom" fmla="*/ 3502440 h 3502080"/>
              </a:gdLst>
              <a:ahLst/>
              <a:rect l="textAreaLeft" t="textAreaTop" r="textAreaRight" b="textAreaBottom"/>
              <a:pathLst>
                <a:path w="1918" h="2206">
                  <a:moveTo>
                    <a:pt x="1918" y="1260"/>
                  </a:moveTo>
                  <a:lnTo>
                    <a:pt x="1918" y="1260"/>
                  </a:lnTo>
                  <a:lnTo>
                    <a:pt x="1916" y="1284"/>
                  </a:lnTo>
                  <a:lnTo>
                    <a:pt x="1912" y="1308"/>
                  </a:lnTo>
                  <a:lnTo>
                    <a:pt x="1902" y="1332"/>
                  </a:lnTo>
                  <a:lnTo>
                    <a:pt x="1888" y="1358"/>
                  </a:lnTo>
                  <a:lnTo>
                    <a:pt x="1888" y="1358"/>
                  </a:lnTo>
                  <a:lnTo>
                    <a:pt x="1790" y="1512"/>
                  </a:lnTo>
                  <a:lnTo>
                    <a:pt x="1708" y="1640"/>
                  </a:lnTo>
                  <a:lnTo>
                    <a:pt x="1640" y="1738"/>
                  </a:lnTo>
                  <a:lnTo>
                    <a:pt x="1588" y="1806"/>
                  </a:lnTo>
                  <a:lnTo>
                    <a:pt x="1588" y="1806"/>
                  </a:lnTo>
                  <a:lnTo>
                    <a:pt x="1546" y="1856"/>
                  </a:lnTo>
                  <a:lnTo>
                    <a:pt x="1504" y="1900"/>
                  </a:lnTo>
                  <a:lnTo>
                    <a:pt x="1460" y="1942"/>
                  </a:lnTo>
                  <a:lnTo>
                    <a:pt x="1418" y="1980"/>
                  </a:lnTo>
                  <a:lnTo>
                    <a:pt x="1372" y="2016"/>
                  </a:lnTo>
                  <a:lnTo>
                    <a:pt x="1328" y="2048"/>
                  </a:lnTo>
                  <a:lnTo>
                    <a:pt x="1280" y="2076"/>
                  </a:lnTo>
                  <a:lnTo>
                    <a:pt x="1234" y="2100"/>
                  </a:lnTo>
                  <a:lnTo>
                    <a:pt x="1234" y="2100"/>
                  </a:lnTo>
                  <a:lnTo>
                    <a:pt x="1178" y="2126"/>
                  </a:lnTo>
                  <a:lnTo>
                    <a:pt x="1118" y="2146"/>
                  </a:lnTo>
                  <a:lnTo>
                    <a:pt x="1054" y="2166"/>
                  </a:lnTo>
                  <a:lnTo>
                    <a:pt x="988" y="2180"/>
                  </a:lnTo>
                  <a:lnTo>
                    <a:pt x="918" y="2192"/>
                  </a:lnTo>
                  <a:lnTo>
                    <a:pt x="846" y="2200"/>
                  </a:lnTo>
                  <a:lnTo>
                    <a:pt x="770" y="2204"/>
                  </a:lnTo>
                  <a:lnTo>
                    <a:pt x="690" y="2206"/>
                  </a:lnTo>
                  <a:lnTo>
                    <a:pt x="690" y="2206"/>
                  </a:lnTo>
                  <a:lnTo>
                    <a:pt x="646" y="2206"/>
                  </a:lnTo>
                  <a:lnTo>
                    <a:pt x="602" y="2204"/>
                  </a:lnTo>
                  <a:lnTo>
                    <a:pt x="560" y="2198"/>
                  </a:lnTo>
                  <a:lnTo>
                    <a:pt x="520" y="2192"/>
                  </a:lnTo>
                  <a:lnTo>
                    <a:pt x="482" y="2184"/>
                  </a:lnTo>
                  <a:lnTo>
                    <a:pt x="444" y="2176"/>
                  </a:lnTo>
                  <a:lnTo>
                    <a:pt x="408" y="2164"/>
                  </a:lnTo>
                  <a:lnTo>
                    <a:pt x="374" y="2152"/>
                  </a:lnTo>
                  <a:lnTo>
                    <a:pt x="340" y="2136"/>
                  </a:lnTo>
                  <a:lnTo>
                    <a:pt x="310" y="2120"/>
                  </a:lnTo>
                  <a:lnTo>
                    <a:pt x="280" y="2102"/>
                  </a:lnTo>
                  <a:lnTo>
                    <a:pt x="250" y="2082"/>
                  </a:lnTo>
                  <a:lnTo>
                    <a:pt x="222" y="2062"/>
                  </a:lnTo>
                  <a:lnTo>
                    <a:pt x="196" y="2038"/>
                  </a:lnTo>
                  <a:lnTo>
                    <a:pt x="172" y="2012"/>
                  </a:lnTo>
                  <a:lnTo>
                    <a:pt x="150" y="1986"/>
                  </a:lnTo>
                  <a:lnTo>
                    <a:pt x="150" y="1986"/>
                  </a:lnTo>
                  <a:lnTo>
                    <a:pt x="132" y="1962"/>
                  </a:lnTo>
                  <a:lnTo>
                    <a:pt x="114" y="1938"/>
                  </a:lnTo>
                  <a:lnTo>
                    <a:pt x="98" y="1912"/>
                  </a:lnTo>
                  <a:lnTo>
                    <a:pt x="84" y="1884"/>
                  </a:lnTo>
                  <a:lnTo>
                    <a:pt x="70" y="1856"/>
                  </a:lnTo>
                  <a:lnTo>
                    <a:pt x="58" y="1828"/>
                  </a:lnTo>
                  <a:lnTo>
                    <a:pt x="46" y="1798"/>
                  </a:lnTo>
                  <a:lnTo>
                    <a:pt x="38" y="1766"/>
                  </a:lnTo>
                  <a:lnTo>
                    <a:pt x="28" y="1734"/>
                  </a:lnTo>
                  <a:lnTo>
                    <a:pt x="20" y="1702"/>
                  </a:lnTo>
                  <a:lnTo>
                    <a:pt x="14" y="1668"/>
                  </a:lnTo>
                  <a:lnTo>
                    <a:pt x="8" y="1634"/>
                  </a:lnTo>
                  <a:lnTo>
                    <a:pt x="4" y="1598"/>
                  </a:lnTo>
                  <a:lnTo>
                    <a:pt x="2" y="1560"/>
                  </a:lnTo>
                  <a:lnTo>
                    <a:pt x="0" y="1484"/>
                  </a:lnTo>
                  <a:lnTo>
                    <a:pt x="0" y="1484"/>
                  </a:lnTo>
                  <a:lnTo>
                    <a:pt x="2" y="1290"/>
                  </a:lnTo>
                  <a:lnTo>
                    <a:pt x="10" y="1010"/>
                  </a:lnTo>
                  <a:lnTo>
                    <a:pt x="22" y="644"/>
                  </a:lnTo>
                  <a:lnTo>
                    <a:pt x="40" y="190"/>
                  </a:lnTo>
                  <a:lnTo>
                    <a:pt x="40" y="190"/>
                  </a:lnTo>
                  <a:lnTo>
                    <a:pt x="42" y="168"/>
                  </a:lnTo>
                  <a:lnTo>
                    <a:pt x="46" y="146"/>
                  </a:lnTo>
                  <a:lnTo>
                    <a:pt x="50" y="126"/>
                  </a:lnTo>
                  <a:lnTo>
                    <a:pt x="58" y="106"/>
                  </a:lnTo>
                  <a:lnTo>
                    <a:pt x="68" y="88"/>
                  </a:lnTo>
                  <a:lnTo>
                    <a:pt x="78" y="72"/>
                  </a:lnTo>
                  <a:lnTo>
                    <a:pt x="90" y="56"/>
                  </a:lnTo>
                  <a:lnTo>
                    <a:pt x="106" y="42"/>
                  </a:lnTo>
                  <a:lnTo>
                    <a:pt x="106" y="42"/>
                  </a:lnTo>
                  <a:lnTo>
                    <a:pt x="120" y="32"/>
                  </a:lnTo>
                  <a:lnTo>
                    <a:pt x="136" y="22"/>
                  </a:lnTo>
                  <a:lnTo>
                    <a:pt x="152" y="14"/>
                  </a:lnTo>
                  <a:lnTo>
                    <a:pt x="168" y="8"/>
                  </a:lnTo>
                  <a:lnTo>
                    <a:pt x="186" y="4"/>
                  </a:lnTo>
                  <a:lnTo>
                    <a:pt x="204" y="0"/>
                  </a:lnTo>
                  <a:lnTo>
                    <a:pt x="222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262" y="2"/>
                  </a:lnTo>
                  <a:lnTo>
                    <a:pt x="280" y="4"/>
                  </a:lnTo>
                  <a:lnTo>
                    <a:pt x="298" y="10"/>
                  </a:lnTo>
                  <a:lnTo>
                    <a:pt x="316" y="14"/>
                  </a:lnTo>
                  <a:lnTo>
                    <a:pt x="332" y="22"/>
                  </a:lnTo>
                  <a:lnTo>
                    <a:pt x="348" y="30"/>
                  </a:lnTo>
                  <a:lnTo>
                    <a:pt x="364" y="40"/>
                  </a:lnTo>
                  <a:lnTo>
                    <a:pt x="378" y="50"/>
                  </a:lnTo>
                  <a:lnTo>
                    <a:pt x="378" y="50"/>
                  </a:lnTo>
                  <a:lnTo>
                    <a:pt x="392" y="66"/>
                  </a:lnTo>
                  <a:lnTo>
                    <a:pt x="404" y="82"/>
                  </a:lnTo>
                  <a:lnTo>
                    <a:pt x="414" y="100"/>
                  </a:lnTo>
                  <a:lnTo>
                    <a:pt x="422" y="118"/>
                  </a:lnTo>
                  <a:lnTo>
                    <a:pt x="428" y="138"/>
                  </a:lnTo>
                  <a:lnTo>
                    <a:pt x="432" y="160"/>
                  </a:lnTo>
                  <a:lnTo>
                    <a:pt x="434" y="182"/>
                  </a:lnTo>
                  <a:lnTo>
                    <a:pt x="434" y="206"/>
                  </a:lnTo>
                  <a:lnTo>
                    <a:pt x="434" y="206"/>
                  </a:lnTo>
                  <a:lnTo>
                    <a:pt x="416" y="654"/>
                  </a:lnTo>
                  <a:lnTo>
                    <a:pt x="402" y="1016"/>
                  </a:lnTo>
                  <a:lnTo>
                    <a:pt x="394" y="1292"/>
                  </a:lnTo>
                  <a:lnTo>
                    <a:pt x="392" y="1484"/>
                  </a:lnTo>
                  <a:lnTo>
                    <a:pt x="392" y="1484"/>
                  </a:lnTo>
                  <a:lnTo>
                    <a:pt x="392" y="1528"/>
                  </a:lnTo>
                  <a:lnTo>
                    <a:pt x="396" y="1570"/>
                  </a:lnTo>
                  <a:lnTo>
                    <a:pt x="402" y="1610"/>
                  </a:lnTo>
                  <a:lnTo>
                    <a:pt x="408" y="1644"/>
                  </a:lnTo>
                  <a:lnTo>
                    <a:pt x="418" y="1676"/>
                  </a:lnTo>
                  <a:lnTo>
                    <a:pt x="430" y="1706"/>
                  </a:lnTo>
                  <a:lnTo>
                    <a:pt x="446" y="1730"/>
                  </a:lnTo>
                  <a:lnTo>
                    <a:pt x="462" y="1752"/>
                  </a:lnTo>
                  <a:lnTo>
                    <a:pt x="462" y="1752"/>
                  </a:lnTo>
                  <a:lnTo>
                    <a:pt x="480" y="1772"/>
                  </a:lnTo>
                  <a:lnTo>
                    <a:pt x="502" y="1788"/>
                  </a:lnTo>
                  <a:lnTo>
                    <a:pt x="526" y="1802"/>
                  </a:lnTo>
                  <a:lnTo>
                    <a:pt x="552" y="1814"/>
                  </a:lnTo>
                  <a:lnTo>
                    <a:pt x="582" y="1822"/>
                  </a:lnTo>
                  <a:lnTo>
                    <a:pt x="616" y="1828"/>
                  </a:lnTo>
                  <a:lnTo>
                    <a:pt x="652" y="1832"/>
                  </a:lnTo>
                  <a:lnTo>
                    <a:pt x="690" y="1834"/>
                  </a:lnTo>
                  <a:lnTo>
                    <a:pt x="690" y="1834"/>
                  </a:lnTo>
                  <a:lnTo>
                    <a:pt x="728" y="1834"/>
                  </a:lnTo>
                  <a:lnTo>
                    <a:pt x="766" y="1832"/>
                  </a:lnTo>
                  <a:lnTo>
                    <a:pt x="804" y="1828"/>
                  </a:lnTo>
                  <a:lnTo>
                    <a:pt x="838" y="1824"/>
                  </a:lnTo>
                  <a:lnTo>
                    <a:pt x="872" y="1820"/>
                  </a:lnTo>
                  <a:lnTo>
                    <a:pt x="906" y="1812"/>
                  </a:lnTo>
                  <a:lnTo>
                    <a:pt x="938" y="1804"/>
                  </a:lnTo>
                  <a:lnTo>
                    <a:pt x="968" y="1796"/>
                  </a:lnTo>
                  <a:lnTo>
                    <a:pt x="998" y="1786"/>
                  </a:lnTo>
                  <a:lnTo>
                    <a:pt x="1026" y="1774"/>
                  </a:lnTo>
                  <a:lnTo>
                    <a:pt x="1054" y="1762"/>
                  </a:lnTo>
                  <a:lnTo>
                    <a:pt x="1080" y="1748"/>
                  </a:lnTo>
                  <a:lnTo>
                    <a:pt x="1106" y="1734"/>
                  </a:lnTo>
                  <a:lnTo>
                    <a:pt x="1130" y="1718"/>
                  </a:lnTo>
                  <a:lnTo>
                    <a:pt x="1152" y="1700"/>
                  </a:lnTo>
                  <a:lnTo>
                    <a:pt x="1174" y="1682"/>
                  </a:lnTo>
                  <a:lnTo>
                    <a:pt x="1174" y="1682"/>
                  </a:lnTo>
                  <a:lnTo>
                    <a:pt x="1202" y="1652"/>
                  </a:lnTo>
                  <a:lnTo>
                    <a:pt x="1236" y="1612"/>
                  </a:lnTo>
                  <a:lnTo>
                    <a:pt x="1276" y="1562"/>
                  </a:lnTo>
                  <a:lnTo>
                    <a:pt x="1320" y="1502"/>
                  </a:lnTo>
                  <a:lnTo>
                    <a:pt x="1370" y="1430"/>
                  </a:lnTo>
                  <a:lnTo>
                    <a:pt x="1426" y="1346"/>
                  </a:lnTo>
                  <a:lnTo>
                    <a:pt x="1486" y="1254"/>
                  </a:lnTo>
                  <a:lnTo>
                    <a:pt x="1552" y="1150"/>
                  </a:lnTo>
                  <a:lnTo>
                    <a:pt x="1552" y="1150"/>
                  </a:lnTo>
                  <a:lnTo>
                    <a:pt x="1568" y="1128"/>
                  </a:lnTo>
                  <a:lnTo>
                    <a:pt x="1586" y="1108"/>
                  </a:lnTo>
                  <a:lnTo>
                    <a:pt x="1604" y="1092"/>
                  </a:lnTo>
                  <a:lnTo>
                    <a:pt x="1626" y="1080"/>
                  </a:lnTo>
                  <a:lnTo>
                    <a:pt x="1646" y="1070"/>
                  </a:lnTo>
                  <a:lnTo>
                    <a:pt x="1670" y="1062"/>
                  </a:lnTo>
                  <a:lnTo>
                    <a:pt x="1694" y="1058"/>
                  </a:lnTo>
                  <a:lnTo>
                    <a:pt x="1720" y="1056"/>
                  </a:lnTo>
                  <a:lnTo>
                    <a:pt x="1720" y="1056"/>
                  </a:lnTo>
                  <a:lnTo>
                    <a:pt x="1740" y="1058"/>
                  </a:lnTo>
                  <a:lnTo>
                    <a:pt x="1760" y="1060"/>
                  </a:lnTo>
                  <a:lnTo>
                    <a:pt x="1780" y="1066"/>
                  </a:lnTo>
                  <a:lnTo>
                    <a:pt x="1798" y="1072"/>
                  </a:lnTo>
                  <a:lnTo>
                    <a:pt x="1816" y="1080"/>
                  </a:lnTo>
                  <a:lnTo>
                    <a:pt x="1832" y="1090"/>
                  </a:lnTo>
                  <a:lnTo>
                    <a:pt x="1846" y="1102"/>
                  </a:lnTo>
                  <a:lnTo>
                    <a:pt x="1862" y="1116"/>
                  </a:lnTo>
                  <a:lnTo>
                    <a:pt x="1862" y="1116"/>
                  </a:lnTo>
                  <a:lnTo>
                    <a:pt x="1876" y="1132"/>
                  </a:lnTo>
                  <a:lnTo>
                    <a:pt x="1886" y="1148"/>
                  </a:lnTo>
                  <a:lnTo>
                    <a:pt x="1896" y="1164"/>
                  </a:lnTo>
                  <a:lnTo>
                    <a:pt x="1904" y="1182"/>
                  </a:lnTo>
                  <a:lnTo>
                    <a:pt x="1910" y="1200"/>
                  </a:lnTo>
                  <a:lnTo>
                    <a:pt x="1916" y="1220"/>
                  </a:lnTo>
                  <a:lnTo>
                    <a:pt x="1918" y="1240"/>
                  </a:lnTo>
                  <a:lnTo>
                    <a:pt x="1918" y="1260"/>
                  </a:lnTo>
                  <a:lnTo>
                    <a:pt x="1918" y="1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9"/>
            <p:cNvSpPr/>
            <p:nvPr/>
          </p:nvSpPr>
          <p:spPr>
            <a:xfrm>
              <a:off x="15587640" y="4339800"/>
              <a:ext cx="2790720" cy="3686400"/>
            </a:xfrm>
            <a:custGeom>
              <a:avLst/>
              <a:gdLst>
                <a:gd name="textAreaLeft" fmla="*/ 0 w 2790720"/>
                <a:gd name="textAreaRight" fmla="*/ 2790720 w 2790720"/>
                <a:gd name="textAreaTop" fmla="*/ 0 h 3686400"/>
                <a:gd name="textAreaBottom" fmla="*/ 3686760 h 3686400"/>
              </a:gdLst>
              <a:ahLst/>
              <a:rect l="textAreaLeft" t="textAreaTop" r="textAreaRight" b="textAreaBottom"/>
              <a:pathLst>
                <a:path w="1758" h="2322">
                  <a:moveTo>
                    <a:pt x="1758" y="1242"/>
                  </a:moveTo>
                  <a:lnTo>
                    <a:pt x="1758" y="1242"/>
                  </a:lnTo>
                  <a:lnTo>
                    <a:pt x="1756" y="1322"/>
                  </a:lnTo>
                  <a:lnTo>
                    <a:pt x="1752" y="1398"/>
                  </a:lnTo>
                  <a:lnTo>
                    <a:pt x="1744" y="1472"/>
                  </a:lnTo>
                  <a:lnTo>
                    <a:pt x="1732" y="1542"/>
                  </a:lnTo>
                  <a:lnTo>
                    <a:pt x="1718" y="1610"/>
                  </a:lnTo>
                  <a:lnTo>
                    <a:pt x="1702" y="1672"/>
                  </a:lnTo>
                  <a:lnTo>
                    <a:pt x="1682" y="1734"/>
                  </a:lnTo>
                  <a:lnTo>
                    <a:pt x="1658" y="1790"/>
                  </a:lnTo>
                  <a:lnTo>
                    <a:pt x="1630" y="1844"/>
                  </a:lnTo>
                  <a:lnTo>
                    <a:pt x="1600" y="1894"/>
                  </a:lnTo>
                  <a:lnTo>
                    <a:pt x="1568" y="1942"/>
                  </a:lnTo>
                  <a:lnTo>
                    <a:pt x="1532" y="1986"/>
                  </a:lnTo>
                  <a:lnTo>
                    <a:pt x="1492" y="2026"/>
                  </a:lnTo>
                  <a:lnTo>
                    <a:pt x="1450" y="2064"/>
                  </a:lnTo>
                  <a:lnTo>
                    <a:pt x="1404" y="2098"/>
                  </a:lnTo>
                  <a:lnTo>
                    <a:pt x="1356" y="2128"/>
                  </a:lnTo>
                  <a:lnTo>
                    <a:pt x="1356" y="2128"/>
                  </a:lnTo>
                  <a:lnTo>
                    <a:pt x="1318" y="2150"/>
                  </a:lnTo>
                  <a:lnTo>
                    <a:pt x="1276" y="2170"/>
                  </a:lnTo>
                  <a:lnTo>
                    <a:pt x="1236" y="2190"/>
                  </a:lnTo>
                  <a:lnTo>
                    <a:pt x="1192" y="2208"/>
                  </a:lnTo>
                  <a:lnTo>
                    <a:pt x="1148" y="2226"/>
                  </a:lnTo>
                  <a:lnTo>
                    <a:pt x="1102" y="2242"/>
                  </a:lnTo>
                  <a:lnTo>
                    <a:pt x="1056" y="2256"/>
                  </a:lnTo>
                  <a:lnTo>
                    <a:pt x="1008" y="2270"/>
                  </a:lnTo>
                  <a:lnTo>
                    <a:pt x="1008" y="2270"/>
                  </a:lnTo>
                  <a:lnTo>
                    <a:pt x="960" y="2282"/>
                  </a:lnTo>
                  <a:lnTo>
                    <a:pt x="912" y="2292"/>
                  </a:lnTo>
                  <a:lnTo>
                    <a:pt x="868" y="2302"/>
                  </a:lnTo>
                  <a:lnTo>
                    <a:pt x="822" y="2308"/>
                  </a:lnTo>
                  <a:lnTo>
                    <a:pt x="780" y="2314"/>
                  </a:lnTo>
                  <a:lnTo>
                    <a:pt x="738" y="2318"/>
                  </a:lnTo>
                  <a:lnTo>
                    <a:pt x="698" y="2320"/>
                  </a:lnTo>
                  <a:lnTo>
                    <a:pt x="660" y="2322"/>
                  </a:lnTo>
                  <a:lnTo>
                    <a:pt x="660" y="2322"/>
                  </a:lnTo>
                  <a:lnTo>
                    <a:pt x="630" y="2320"/>
                  </a:lnTo>
                  <a:lnTo>
                    <a:pt x="604" y="2318"/>
                  </a:lnTo>
                  <a:lnTo>
                    <a:pt x="578" y="2312"/>
                  </a:lnTo>
                  <a:lnTo>
                    <a:pt x="554" y="2306"/>
                  </a:lnTo>
                  <a:lnTo>
                    <a:pt x="532" y="2298"/>
                  </a:lnTo>
                  <a:lnTo>
                    <a:pt x="512" y="2286"/>
                  </a:lnTo>
                  <a:lnTo>
                    <a:pt x="494" y="2274"/>
                  </a:lnTo>
                  <a:lnTo>
                    <a:pt x="478" y="2258"/>
                  </a:lnTo>
                  <a:lnTo>
                    <a:pt x="478" y="2258"/>
                  </a:lnTo>
                  <a:lnTo>
                    <a:pt x="462" y="2242"/>
                  </a:lnTo>
                  <a:lnTo>
                    <a:pt x="450" y="2224"/>
                  </a:lnTo>
                  <a:lnTo>
                    <a:pt x="438" y="2206"/>
                  </a:lnTo>
                  <a:lnTo>
                    <a:pt x="428" y="2186"/>
                  </a:lnTo>
                  <a:lnTo>
                    <a:pt x="422" y="2166"/>
                  </a:lnTo>
                  <a:lnTo>
                    <a:pt x="416" y="2146"/>
                  </a:lnTo>
                  <a:lnTo>
                    <a:pt x="414" y="2124"/>
                  </a:lnTo>
                  <a:lnTo>
                    <a:pt x="412" y="2102"/>
                  </a:lnTo>
                  <a:lnTo>
                    <a:pt x="412" y="2102"/>
                  </a:lnTo>
                  <a:lnTo>
                    <a:pt x="414" y="2090"/>
                  </a:lnTo>
                  <a:lnTo>
                    <a:pt x="416" y="2078"/>
                  </a:lnTo>
                  <a:lnTo>
                    <a:pt x="420" y="2066"/>
                  </a:lnTo>
                  <a:lnTo>
                    <a:pt x="424" y="2054"/>
                  </a:lnTo>
                  <a:lnTo>
                    <a:pt x="430" y="2042"/>
                  </a:lnTo>
                  <a:lnTo>
                    <a:pt x="438" y="2030"/>
                  </a:lnTo>
                  <a:lnTo>
                    <a:pt x="458" y="2008"/>
                  </a:lnTo>
                  <a:lnTo>
                    <a:pt x="458" y="2008"/>
                  </a:lnTo>
                  <a:lnTo>
                    <a:pt x="470" y="1998"/>
                  </a:lnTo>
                  <a:lnTo>
                    <a:pt x="484" y="1990"/>
                  </a:lnTo>
                  <a:lnTo>
                    <a:pt x="498" y="1982"/>
                  </a:lnTo>
                  <a:lnTo>
                    <a:pt x="514" y="1976"/>
                  </a:lnTo>
                  <a:lnTo>
                    <a:pt x="530" y="1972"/>
                  </a:lnTo>
                  <a:lnTo>
                    <a:pt x="546" y="1968"/>
                  </a:lnTo>
                  <a:lnTo>
                    <a:pt x="564" y="1966"/>
                  </a:lnTo>
                  <a:lnTo>
                    <a:pt x="584" y="1966"/>
                  </a:lnTo>
                  <a:lnTo>
                    <a:pt x="584" y="1966"/>
                  </a:lnTo>
                  <a:lnTo>
                    <a:pt x="666" y="1964"/>
                  </a:lnTo>
                  <a:lnTo>
                    <a:pt x="704" y="1960"/>
                  </a:lnTo>
                  <a:lnTo>
                    <a:pt x="742" y="1956"/>
                  </a:lnTo>
                  <a:lnTo>
                    <a:pt x="780" y="1952"/>
                  </a:lnTo>
                  <a:lnTo>
                    <a:pt x="816" y="1944"/>
                  </a:lnTo>
                  <a:lnTo>
                    <a:pt x="850" y="1938"/>
                  </a:lnTo>
                  <a:lnTo>
                    <a:pt x="884" y="1928"/>
                  </a:lnTo>
                  <a:lnTo>
                    <a:pt x="916" y="1918"/>
                  </a:lnTo>
                  <a:lnTo>
                    <a:pt x="948" y="1908"/>
                  </a:lnTo>
                  <a:lnTo>
                    <a:pt x="980" y="1896"/>
                  </a:lnTo>
                  <a:lnTo>
                    <a:pt x="1008" y="1882"/>
                  </a:lnTo>
                  <a:lnTo>
                    <a:pt x="1038" y="1868"/>
                  </a:lnTo>
                  <a:lnTo>
                    <a:pt x="1064" y="1852"/>
                  </a:lnTo>
                  <a:lnTo>
                    <a:pt x="1092" y="1836"/>
                  </a:lnTo>
                  <a:lnTo>
                    <a:pt x="1116" y="1818"/>
                  </a:lnTo>
                  <a:lnTo>
                    <a:pt x="1116" y="1818"/>
                  </a:lnTo>
                  <a:lnTo>
                    <a:pt x="1146" y="1796"/>
                  </a:lnTo>
                  <a:lnTo>
                    <a:pt x="1172" y="1770"/>
                  </a:lnTo>
                  <a:lnTo>
                    <a:pt x="1198" y="1744"/>
                  </a:lnTo>
                  <a:lnTo>
                    <a:pt x="1222" y="1716"/>
                  </a:lnTo>
                  <a:lnTo>
                    <a:pt x="1242" y="1686"/>
                  </a:lnTo>
                  <a:lnTo>
                    <a:pt x="1262" y="1654"/>
                  </a:lnTo>
                  <a:lnTo>
                    <a:pt x="1280" y="1622"/>
                  </a:lnTo>
                  <a:lnTo>
                    <a:pt x="1296" y="1586"/>
                  </a:lnTo>
                  <a:lnTo>
                    <a:pt x="1310" y="1550"/>
                  </a:lnTo>
                  <a:lnTo>
                    <a:pt x="1322" y="1514"/>
                  </a:lnTo>
                  <a:lnTo>
                    <a:pt x="1332" y="1474"/>
                  </a:lnTo>
                  <a:lnTo>
                    <a:pt x="1340" y="1434"/>
                  </a:lnTo>
                  <a:lnTo>
                    <a:pt x="1348" y="1392"/>
                  </a:lnTo>
                  <a:lnTo>
                    <a:pt x="1352" y="1348"/>
                  </a:lnTo>
                  <a:lnTo>
                    <a:pt x="1354" y="1302"/>
                  </a:lnTo>
                  <a:lnTo>
                    <a:pt x="1356" y="1256"/>
                  </a:lnTo>
                  <a:lnTo>
                    <a:pt x="1356" y="1256"/>
                  </a:lnTo>
                  <a:lnTo>
                    <a:pt x="1354" y="1226"/>
                  </a:lnTo>
                  <a:lnTo>
                    <a:pt x="1350" y="1196"/>
                  </a:lnTo>
                  <a:lnTo>
                    <a:pt x="1342" y="1170"/>
                  </a:lnTo>
                  <a:lnTo>
                    <a:pt x="1330" y="1144"/>
                  </a:lnTo>
                  <a:lnTo>
                    <a:pt x="1316" y="1120"/>
                  </a:lnTo>
                  <a:lnTo>
                    <a:pt x="1300" y="1098"/>
                  </a:lnTo>
                  <a:lnTo>
                    <a:pt x="1278" y="1078"/>
                  </a:lnTo>
                  <a:lnTo>
                    <a:pt x="1256" y="1060"/>
                  </a:lnTo>
                  <a:lnTo>
                    <a:pt x="1256" y="1060"/>
                  </a:lnTo>
                  <a:lnTo>
                    <a:pt x="1232" y="1046"/>
                  </a:lnTo>
                  <a:lnTo>
                    <a:pt x="1210" y="1032"/>
                  </a:lnTo>
                  <a:lnTo>
                    <a:pt x="1186" y="1022"/>
                  </a:lnTo>
                  <a:lnTo>
                    <a:pt x="1164" y="1014"/>
                  </a:lnTo>
                  <a:lnTo>
                    <a:pt x="1140" y="1006"/>
                  </a:lnTo>
                  <a:lnTo>
                    <a:pt x="1116" y="1002"/>
                  </a:lnTo>
                  <a:lnTo>
                    <a:pt x="1092" y="998"/>
                  </a:lnTo>
                  <a:lnTo>
                    <a:pt x="1068" y="998"/>
                  </a:lnTo>
                  <a:lnTo>
                    <a:pt x="1068" y="998"/>
                  </a:lnTo>
                  <a:lnTo>
                    <a:pt x="1004" y="998"/>
                  </a:lnTo>
                  <a:lnTo>
                    <a:pt x="940" y="1002"/>
                  </a:lnTo>
                  <a:lnTo>
                    <a:pt x="878" y="1006"/>
                  </a:lnTo>
                  <a:lnTo>
                    <a:pt x="818" y="1012"/>
                  </a:lnTo>
                  <a:lnTo>
                    <a:pt x="758" y="1022"/>
                  </a:lnTo>
                  <a:lnTo>
                    <a:pt x="700" y="1032"/>
                  </a:lnTo>
                  <a:lnTo>
                    <a:pt x="642" y="1044"/>
                  </a:lnTo>
                  <a:lnTo>
                    <a:pt x="586" y="1058"/>
                  </a:lnTo>
                  <a:lnTo>
                    <a:pt x="586" y="1058"/>
                  </a:lnTo>
                  <a:lnTo>
                    <a:pt x="486" y="1090"/>
                  </a:lnTo>
                  <a:lnTo>
                    <a:pt x="382" y="1120"/>
                  </a:lnTo>
                  <a:lnTo>
                    <a:pt x="382" y="1120"/>
                  </a:lnTo>
                  <a:lnTo>
                    <a:pt x="320" y="1138"/>
                  </a:lnTo>
                  <a:lnTo>
                    <a:pt x="266" y="1150"/>
                  </a:lnTo>
                  <a:lnTo>
                    <a:pt x="220" y="1158"/>
                  </a:lnTo>
                  <a:lnTo>
                    <a:pt x="182" y="1160"/>
                  </a:lnTo>
                  <a:lnTo>
                    <a:pt x="182" y="1160"/>
                  </a:lnTo>
                  <a:lnTo>
                    <a:pt x="162" y="1160"/>
                  </a:lnTo>
                  <a:lnTo>
                    <a:pt x="142" y="1158"/>
                  </a:lnTo>
                  <a:lnTo>
                    <a:pt x="124" y="1154"/>
                  </a:lnTo>
                  <a:lnTo>
                    <a:pt x="108" y="1148"/>
                  </a:lnTo>
                  <a:lnTo>
                    <a:pt x="92" y="1142"/>
                  </a:lnTo>
                  <a:lnTo>
                    <a:pt x="78" y="1134"/>
                  </a:lnTo>
                  <a:lnTo>
                    <a:pt x="64" y="1124"/>
                  </a:lnTo>
                  <a:lnTo>
                    <a:pt x="50" y="1112"/>
                  </a:lnTo>
                  <a:lnTo>
                    <a:pt x="50" y="1112"/>
                  </a:lnTo>
                  <a:lnTo>
                    <a:pt x="38" y="1100"/>
                  </a:lnTo>
                  <a:lnTo>
                    <a:pt x="28" y="1086"/>
                  </a:lnTo>
                  <a:lnTo>
                    <a:pt x="20" y="1072"/>
                  </a:lnTo>
                  <a:lnTo>
                    <a:pt x="12" y="1056"/>
                  </a:lnTo>
                  <a:lnTo>
                    <a:pt x="6" y="1042"/>
                  </a:lnTo>
                  <a:lnTo>
                    <a:pt x="2" y="1024"/>
                  </a:lnTo>
                  <a:lnTo>
                    <a:pt x="0" y="1008"/>
                  </a:lnTo>
                  <a:lnTo>
                    <a:pt x="0" y="990"/>
                  </a:lnTo>
                  <a:lnTo>
                    <a:pt x="0" y="990"/>
                  </a:lnTo>
                  <a:lnTo>
                    <a:pt x="2" y="958"/>
                  </a:lnTo>
                  <a:lnTo>
                    <a:pt x="8" y="930"/>
                  </a:lnTo>
                  <a:lnTo>
                    <a:pt x="18" y="906"/>
                  </a:lnTo>
                  <a:lnTo>
                    <a:pt x="32" y="882"/>
                  </a:lnTo>
                  <a:lnTo>
                    <a:pt x="50" y="862"/>
                  </a:lnTo>
                  <a:lnTo>
                    <a:pt x="72" y="844"/>
                  </a:lnTo>
                  <a:lnTo>
                    <a:pt x="98" y="828"/>
                  </a:lnTo>
                  <a:lnTo>
                    <a:pt x="128" y="816"/>
                  </a:lnTo>
                  <a:lnTo>
                    <a:pt x="128" y="816"/>
                  </a:lnTo>
                  <a:lnTo>
                    <a:pt x="184" y="796"/>
                  </a:lnTo>
                  <a:lnTo>
                    <a:pt x="240" y="778"/>
                  </a:lnTo>
                  <a:lnTo>
                    <a:pt x="298" y="762"/>
                  </a:lnTo>
                  <a:lnTo>
                    <a:pt x="356" y="746"/>
                  </a:lnTo>
                  <a:lnTo>
                    <a:pt x="416" y="732"/>
                  </a:lnTo>
                  <a:lnTo>
                    <a:pt x="476" y="720"/>
                  </a:lnTo>
                  <a:lnTo>
                    <a:pt x="538" y="708"/>
                  </a:lnTo>
                  <a:lnTo>
                    <a:pt x="600" y="698"/>
                  </a:lnTo>
                  <a:lnTo>
                    <a:pt x="662" y="688"/>
                  </a:lnTo>
                  <a:lnTo>
                    <a:pt x="726" y="680"/>
                  </a:lnTo>
                  <a:lnTo>
                    <a:pt x="790" y="674"/>
                  </a:lnTo>
                  <a:lnTo>
                    <a:pt x="856" y="668"/>
                  </a:lnTo>
                  <a:lnTo>
                    <a:pt x="922" y="664"/>
                  </a:lnTo>
                  <a:lnTo>
                    <a:pt x="988" y="660"/>
                  </a:lnTo>
                  <a:lnTo>
                    <a:pt x="1056" y="658"/>
                  </a:lnTo>
                  <a:lnTo>
                    <a:pt x="1124" y="658"/>
                  </a:lnTo>
                  <a:lnTo>
                    <a:pt x="1124" y="658"/>
                  </a:lnTo>
                  <a:lnTo>
                    <a:pt x="1194" y="660"/>
                  </a:lnTo>
                  <a:lnTo>
                    <a:pt x="1226" y="664"/>
                  </a:lnTo>
                  <a:lnTo>
                    <a:pt x="1260" y="668"/>
                  </a:lnTo>
                  <a:lnTo>
                    <a:pt x="1290" y="672"/>
                  </a:lnTo>
                  <a:lnTo>
                    <a:pt x="1322" y="678"/>
                  </a:lnTo>
                  <a:lnTo>
                    <a:pt x="1350" y="686"/>
                  </a:lnTo>
                  <a:lnTo>
                    <a:pt x="1380" y="696"/>
                  </a:lnTo>
                  <a:lnTo>
                    <a:pt x="1408" y="706"/>
                  </a:lnTo>
                  <a:lnTo>
                    <a:pt x="1434" y="716"/>
                  </a:lnTo>
                  <a:lnTo>
                    <a:pt x="1460" y="728"/>
                  </a:lnTo>
                  <a:lnTo>
                    <a:pt x="1486" y="742"/>
                  </a:lnTo>
                  <a:lnTo>
                    <a:pt x="1510" y="756"/>
                  </a:lnTo>
                  <a:lnTo>
                    <a:pt x="1534" y="772"/>
                  </a:lnTo>
                  <a:lnTo>
                    <a:pt x="1556" y="790"/>
                  </a:lnTo>
                  <a:lnTo>
                    <a:pt x="1578" y="808"/>
                  </a:lnTo>
                  <a:lnTo>
                    <a:pt x="1578" y="808"/>
                  </a:lnTo>
                  <a:lnTo>
                    <a:pt x="1600" y="828"/>
                  </a:lnTo>
                  <a:lnTo>
                    <a:pt x="1620" y="850"/>
                  </a:lnTo>
                  <a:lnTo>
                    <a:pt x="1640" y="872"/>
                  </a:lnTo>
                  <a:lnTo>
                    <a:pt x="1658" y="896"/>
                  </a:lnTo>
                  <a:lnTo>
                    <a:pt x="1674" y="920"/>
                  </a:lnTo>
                  <a:lnTo>
                    <a:pt x="1688" y="946"/>
                  </a:lnTo>
                  <a:lnTo>
                    <a:pt x="1702" y="970"/>
                  </a:lnTo>
                  <a:lnTo>
                    <a:pt x="1714" y="998"/>
                  </a:lnTo>
                  <a:lnTo>
                    <a:pt x="1724" y="1026"/>
                  </a:lnTo>
                  <a:lnTo>
                    <a:pt x="1732" y="1054"/>
                  </a:lnTo>
                  <a:lnTo>
                    <a:pt x="1740" y="1084"/>
                  </a:lnTo>
                  <a:lnTo>
                    <a:pt x="1746" y="1114"/>
                  </a:lnTo>
                  <a:lnTo>
                    <a:pt x="1752" y="1144"/>
                  </a:lnTo>
                  <a:lnTo>
                    <a:pt x="1756" y="1176"/>
                  </a:lnTo>
                  <a:lnTo>
                    <a:pt x="1758" y="1208"/>
                  </a:lnTo>
                  <a:lnTo>
                    <a:pt x="1758" y="1242"/>
                  </a:lnTo>
                  <a:lnTo>
                    <a:pt x="1758" y="1242"/>
                  </a:lnTo>
                  <a:close/>
                  <a:moveTo>
                    <a:pt x="1464" y="266"/>
                  </a:moveTo>
                  <a:lnTo>
                    <a:pt x="1464" y="266"/>
                  </a:lnTo>
                  <a:lnTo>
                    <a:pt x="1464" y="284"/>
                  </a:lnTo>
                  <a:lnTo>
                    <a:pt x="1460" y="302"/>
                  </a:lnTo>
                  <a:lnTo>
                    <a:pt x="1456" y="320"/>
                  </a:lnTo>
                  <a:lnTo>
                    <a:pt x="1450" y="338"/>
                  </a:lnTo>
                  <a:lnTo>
                    <a:pt x="1442" y="354"/>
                  </a:lnTo>
                  <a:lnTo>
                    <a:pt x="1430" y="370"/>
                  </a:lnTo>
                  <a:lnTo>
                    <a:pt x="1418" y="386"/>
                  </a:lnTo>
                  <a:lnTo>
                    <a:pt x="1404" y="402"/>
                  </a:lnTo>
                  <a:lnTo>
                    <a:pt x="1404" y="402"/>
                  </a:lnTo>
                  <a:lnTo>
                    <a:pt x="1390" y="416"/>
                  </a:lnTo>
                  <a:lnTo>
                    <a:pt x="1372" y="428"/>
                  </a:lnTo>
                  <a:lnTo>
                    <a:pt x="1356" y="438"/>
                  </a:lnTo>
                  <a:lnTo>
                    <a:pt x="1336" y="448"/>
                  </a:lnTo>
                  <a:lnTo>
                    <a:pt x="1318" y="454"/>
                  </a:lnTo>
                  <a:lnTo>
                    <a:pt x="1296" y="458"/>
                  </a:lnTo>
                  <a:lnTo>
                    <a:pt x="1276" y="462"/>
                  </a:lnTo>
                  <a:lnTo>
                    <a:pt x="1252" y="462"/>
                  </a:lnTo>
                  <a:lnTo>
                    <a:pt x="1252" y="462"/>
                  </a:lnTo>
                  <a:lnTo>
                    <a:pt x="1228" y="462"/>
                  </a:lnTo>
                  <a:lnTo>
                    <a:pt x="1198" y="458"/>
                  </a:lnTo>
                  <a:lnTo>
                    <a:pt x="1114" y="446"/>
                  </a:lnTo>
                  <a:lnTo>
                    <a:pt x="1114" y="446"/>
                  </a:lnTo>
                  <a:lnTo>
                    <a:pt x="954" y="430"/>
                  </a:lnTo>
                  <a:lnTo>
                    <a:pt x="798" y="414"/>
                  </a:lnTo>
                  <a:lnTo>
                    <a:pt x="798" y="414"/>
                  </a:lnTo>
                  <a:lnTo>
                    <a:pt x="704" y="400"/>
                  </a:lnTo>
                  <a:lnTo>
                    <a:pt x="622" y="384"/>
                  </a:lnTo>
                  <a:lnTo>
                    <a:pt x="586" y="376"/>
                  </a:lnTo>
                  <a:lnTo>
                    <a:pt x="552" y="368"/>
                  </a:lnTo>
                  <a:lnTo>
                    <a:pt x="522" y="358"/>
                  </a:lnTo>
                  <a:lnTo>
                    <a:pt x="494" y="348"/>
                  </a:lnTo>
                  <a:lnTo>
                    <a:pt x="494" y="348"/>
                  </a:lnTo>
                  <a:lnTo>
                    <a:pt x="462" y="334"/>
                  </a:lnTo>
                  <a:lnTo>
                    <a:pt x="436" y="318"/>
                  </a:lnTo>
                  <a:lnTo>
                    <a:pt x="412" y="304"/>
                  </a:lnTo>
                  <a:lnTo>
                    <a:pt x="394" y="286"/>
                  </a:lnTo>
                  <a:lnTo>
                    <a:pt x="380" y="268"/>
                  </a:lnTo>
                  <a:lnTo>
                    <a:pt x="370" y="250"/>
                  </a:lnTo>
                  <a:lnTo>
                    <a:pt x="362" y="230"/>
                  </a:lnTo>
                  <a:lnTo>
                    <a:pt x="360" y="210"/>
                  </a:lnTo>
                  <a:lnTo>
                    <a:pt x="360" y="210"/>
                  </a:lnTo>
                  <a:lnTo>
                    <a:pt x="362" y="188"/>
                  </a:lnTo>
                  <a:lnTo>
                    <a:pt x="364" y="166"/>
                  </a:lnTo>
                  <a:lnTo>
                    <a:pt x="368" y="146"/>
                  </a:lnTo>
                  <a:lnTo>
                    <a:pt x="374" y="128"/>
                  </a:lnTo>
                  <a:lnTo>
                    <a:pt x="382" y="110"/>
                  </a:lnTo>
                  <a:lnTo>
                    <a:pt x="392" y="94"/>
                  </a:lnTo>
                  <a:lnTo>
                    <a:pt x="402" y="78"/>
                  </a:lnTo>
                  <a:lnTo>
                    <a:pt x="416" y="62"/>
                  </a:lnTo>
                  <a:lnTo>
                    <a:pt x="416" y="62"/>
                  </a:lnTo>
                  <a:lnTo>
                    <a:pt x="428" y="48"/>
                  </a:lnTo>
                  <a:lnTo>
                    <a:pt x="444" y="36"/>
                  </a:lnTo>
                  <a:lnTo>
                    <a:pt x="460" y="24"/>
                  </a:lnTo>
                  <a:lnTo>
                    <a:pt x="478" y="16"/>
                  </a:lnTo>
                  <a:lnTo>
                    <a:pt x="498" y="8"/>
                  </a:lnTo>
                  <a:lnTo>
                    <a:pt x="518" y="4"/>
                  </a:lnTo>
                  <a:lnTo>
                    <a:pt x="540" y="2"/>
                  </a:lnTo>
                  <a:lnTo>
                    <a:pt x="564" y="0"/>
                  </a:lnTo>
                  <a:lnTo>
                    <a:pt x="564" y="0"/>
                  </a:lnTo>
                  <a:lnTo>
                    <a:pt x="608" y="2"/>
                  </a:lnTo>
                  <a:lnTo>
                    <a:pt x="682" y="12"/>
                  </a:lnTo>
                  <a:lnTo>
                    <a:pt x="932" y="46"/>
                  </a:lnTo>
                  <a:lnTo>
                    <a:pt x="1158" y="82"/>
                  </a:lnTo>
                  <a:lnTo>
                    <a:pt x="1158" y="82"/>
                  </a:lnTo>
                  <a:lnTo>
                    <a:pt x="1250" y="94"/>
                  </a:lnTo>
                  <a:lnTo>
                    <a:pt x="1280" y="96"/>
                  </a:lnTo>
                  <a:lnTo>
                    <a:pt x="1302" y="98"/>
                  </a:lnTo>
                  <a:lnTo>
                    <a:pt x="1302" y="98"/>
                  </a:lnTo>
                  <a:lnTo>
                    <a:pt x="1318" y="98"/>
                  </a:lnTo>
                  <a:lnTo>
                    <a:pt x="1332" y="102"/>
                  </a:lnTo>
                  <a:lnTo>
                    <a:pt x="1348" y="106"/>
                  </a:lnTo>
                  <a:lnTo>
                    <a:pt x="1362" y="112"/>
                  </a:lnTo>
                  <a:lnTo>
                    <a:pt x="1376" y="120"/>
                  </a:lnTo>
                  <a:lnTo>
                    <a:pt x="1388" y="130"/>
                  </a:lnTo>
                  <a:lnTo>
                    <a:pt x="1400" y="142"/>
                  </a:lnTo>
                  <a:lnTo>
                    <a:pt x="1412" y="154"/>
                  </a:lnTo>
                  <a:lnTo>
                    <a:pt x="1412" y="154"/>
                  </a:lnTo>
                  <a:lnTo>
                    <a:pt x="1424" y="170"/>
                  </a:lnTo>
                  <a:lnTo>
                    <a:pt x="1436" y="184"/>
                  </a:lnTo>
                  <a:lnTo>
                    <a:pt x="1444" y="198"/>
                  </a:lnTo>
                  <a:lnTo>
                    <a:pt x="1452" y="212"/>
                  </a:lnTo>
                  <a:lnTo>
                    <a:pt x="1458" y="226"/>
                  </a:lnTo>
                  <a:lnTo>
                    <a:pt x="1462" y="240"/>
                  </a:lnTo>
                  <a:lnTo>
                    <a:pt x="1464" y="252"/>
                  </a:lnTo>
                  <a:lnTo>
                    <a:pt x="1464" y="266"/>
                  </a:lnTo>
                  <a:lnTo>
                    <a:pt x="1464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30"/>
            <p:cNvSpPr/>
            <p:nvPr/>
          </p:nvSpPr>
          <p:spPr>
            <a:xfrm>
              <a:off x="19804320" y="4076280"/>
              <a:ext cx="3556080" cy="3768840"/>
            </a:xfrm>
            <a:custGeom>
              <a:avLst/>
              <a:gdLst>
                <a:gd name="textAreaLeft" fmla="*/ 0 w 3556080"/>
                <a:gd name="textAreaRight" fmla="*/ 3556440 w 3556080"/>
                <a:gd name="textAreaTop" fmla="*/ 0 h 3768840"/>
                <a:gd name="textAreaBottom" fmla="*/ 3769200 h 3768840"/>
              </a:gdLst>
              <a:ahLst/>
              <a:rect l="textAreaLeft" t="textAreaTop" r="textAreaRight" b="textAreaBottom"/>
              <a:pathLst>
                <a:path w="2240" h="2374">
                  <a:moveTo>
                    <a:pt x="1924" y="2134"/>
                  </a:moveTo>
                  <a:lnTo>
                    <a:pt x="1924" y="2134"/>
                  </a:lnTo>
                  <a:lnTo>
                    <a:pt x="1922" y="2152"/>
                  </a:lnTo>
                  <a:lnTo>
                    <a:pt x="1920" y="2168"/>
                  </a:lnTo>
                  <a:lnTo>
                    <a:pt x="1916" y="2182"/>
                  </a:lnTo>
                  <a:lnTo>
                    <a:pt x="1912" y="2196"/>
                  </a:lnTo>
                  <a:lnTo>
                    <a:pt x="1906" y="2210"/>
                  </a:lnTo>
                  <a:lnTo>
                    <a:pt x="1898" y="2222"/>
                  </a:lnTo>
                  <a:lnTo>
                    <a:pt x="1890" y="2234"/>
                  </a:lnTo>
                  <a:lnTo>
                    <a:pt x="1880" y="2246"/>
                  </a:lnTo>
                  <a:lnTo>
                    <a:pt x="1868" y="2256"/>
                  </a:lnTo>
                  <a:lnTo>
                    <a:pt x="1856" y="2264"/>
                  </a:lnTo>
                  <a:lnTo>
                    <a:pt x="1842" y="2274"/>
                  </a:lnTo>
                  <a:lnTo>
                    <a:pt x="1828" y="2280"/>
                  </a:lnTo>
                  <a:lnTo>
                    <a:pt x="1812" y="2288"/>
                  </a:lnTo>
                  <a:lnTo>
                    <a:pt x="1794" y="2294"/>
                  </a:lnTo>
                  <a:lnTo>
                    <a:pt x="1756" y="2302"/>
                  </a:lnTo>
                  <a:lnTo>
                    <a:pt x="1756" y="2302"/>
                  </a:lnTo>
                  <a:lnTo>
                    <a:pt x="1658" y="2320"/>
                  </a:lnTo>
                  <a:lnTo>
                    <a:pt x="1562" y="2334"/>
                  </a:lnTo>
                  <a:lnTo>
                    <a:pt x="1462" y="2346"/>
                  </a:lnTo>
                  <a:lnTo>
                    <a:pt x="1364" y="2356"/>
                  </a:lnTo>
                  <a:lnTo>
                    <a:pt x="1262" y="2364"/>
                  </a:lnTo>
                  <a:lnTo>
                    <a:pt x="1160" y="2368"/>
                  </a:lnTo>
                  <a:lnTo>
                    <a:pt x="1058" y="2372"/>
                  </a:lnTo>
                  <a:lnTo>
                    <a:pt x="954" y="2374"/>
                  </a:lnTo>
                  <a:lnTo>
                    <a:pt x="954" y="2374"/>
                  </a:lnTo>
                  <a:lnTo>
                    <a:pt x="858" y="2372"/>
                  </a:lnTo>
                  <a:lnTo>
                    <a:pt x="768" y="2366"/>
                  </a:lnTo>
                  <a:lnTo>
                    <a:pt x="680" y="2356"/>
                  </a:lnTo>
                  <a:lnTo>
                    <a:pt x="598" y="2342"/>
                  </a:lnTo>
                  <a:lnTo>
                    <a:pt x="520" y="2324"/>
                  </a:lnTo>
                  <a:lnTo>
                    <a:pt x="482" y="2314"/>
                  </a:lnTo>
                  <a:lnTo>
                    <a:pt x="446" y="2302"/>
                  </a:lnTo>
                  <a:lnTo>
                    <a:pt x="410" y="2290"/>
                  </a:lnTo>
                  <a:lnTo>
                    <a:pt x="374" y="2278"/>
                  </a:lnTo>
                  <a:lnTo>
                    <a:pt x="342" y="2264"/>
                  </a:lnTo>
                  <a:lnTo>
                    <a:pt x="310" y="2248"/>
                  </a:lnTo>
                  <a:lnTo>
                    <a:pt x="310" y="2248"/>
                  </a:lnTo>
                  <a:lnTo>
                    <a:pt x="272" y="2228"/>
                  </a:lnTo>
                  <a:lnTo>
                    <a:pt x="236" y="2208"/>
                  </a:lnTo>
                  <a:lnTo>
                    <a:pt x="204" y="2186"/>
                  </a:lnTo>
                  <a:lnTo>
                    <a:pt x="174" y="2162"/>
                  </a:lnTo>
                  <a:lnTo>
                    <a:pt x="146" y="2138"/>
                  </a:lnTo>
                  <a:lnTo>
                    <a:pt x="120" y="2114"/>
                  </a:lnTo>
                  <a:lnTo>
                    <a:pt x="98" y="2086"/>
                  </a:lnTo>
                  <a:lnTo>
                    <a:pt x="76" y="2060"/>
                  </a:lnTo>
                  <a:lnTo>
                    <a:pt x="58" y="2030"/>
                  </a:lnTo>
                  <a:lnTo>
                    <a:pt x="42" y="2000"/>
                  </a:lnTo>
                  <a:lnTo>
                    <a:pt x="30" y="1970"/>
                  </a:lnTo>
                  <a:lnTo>
                    <a:pt x="18" y="1938"/>
                  </a:lnTo>
                  <a:lnTo>
                    <a:pt x="10" y="1904"/>
                  </a:lnTo>
                  <a:lnTo>
                    <a:pt x="4" y="1870"/>
                  </a:lnTo>
                  <a:lnTo>
                    <a:pt x="0" y="1834"/>
                  </a:lnTo>
                  <a:lnTo>
                    <a:pt x="0" y="1798"/>
                  </a:lnTo>
                  <a:lnTo>
                    <a:pt x="0" y="1798"/>
                  </a:lnTo>
                  <a:lnTo>
                    <a:pt x="0" y="1768"/>
                  </a:lnTo>
                  <a:lnTo>
                    <a:pt x="2" y="1742"/>
                  </a:lnTo>
                  <a:lnTo>
                    <a:pt x="4" y="1714"/>
                  </a:lnTo>
                  <a:lnTo>
                    <a:pt x="8" y="1686"/>
                  </a:lnTo>
                  <a:lnTo>
                    <a:pt x="14" y="1660"/>
                  </a:lnTo>
                  <a:lnTo>
                    <a:pt x="20" y="1632"/>
                  </a:lnTo>
                  <a:lnTo>
                    <a:pt x="28" y="1606"/>
                  </a:lnTo>
                  <a:lnTo>
                    <a:pt x="38" y="1580"/>
                  </a:lnTo>
                  <a:lnTo>
                    <a:pt x="48" y="1554"/>
                  </a:lnTo>
                  <a:lnTo>
                    <a:pt x="60" y="1530"/>
                  </a:lnTo>
                  <a:lnTo>
                    <a:pt x="86" y="1478"/>
                  </a:lnTo>
                  <a:lnTo>
                    <a:pt x="116" y="1430"/>
                  </a:lnTo>
                  <a:lnTo>
                    <a:pt x="152" y="1382"/>
                  </a:lnTo>
                  <a:lnTo>
                    <a:pt x="194" y="1334"/>
                  </a:lnTo>
                  <a:lnTo>
                    <a:pt x="240" y="1290"/>
                  </a:lnTo>
                  <a:lnTo>
                    <a:pt x="290" y="1244"/>
                  </a:lnTo>
                  <a:lnTo>
                    <a:pt x="344" y="1202"/>
                  </a:lnTo>
                  <a:lnTo>
                    <a:pt x="404" y="1158"/>
                  </a:lnTo>
                  <a:lnTo>
                    <a:pt x="470" y="1118"/>
                  </a:lnTo>
                  <a:lnTo>
                    <a:pt x="540" y="1078"/>
                  </a:lnTo>
                  <a:lnTo>
                    <a:pt x="614" y="1038"/>
                  </a:lnTo>
                  <a:lnTo>
                    <a:pt x="470" y="362"/>
                  </a:lnTo>
                  <a:lnTo>
                    <a:pt x="470" y="362"/>
                  </a:lnTo>
                  <a:lnTo>
                    <a:pt x="468" y="340"/>
                  </a:lnTo>
                  <a:lnTo>
                    <a:pt x="466" y="316"/>
                  </a:lnTo>
                  <a:lnTo>
                    <a:pt x="466" y="316"/>
                  </a:lnTo>
                  <a:lnTo>
                    <a:pt x="468" y="296"/>
                  </a:lnTo>
                  <a:lnTo>
                    <a:pt x="470" y="276"/>
                  </a:lnTo>
                  <a:lnTo>
                    <a:pt x="474" y="258"/>
                  </a:lnTo>
                  <a:lnTo>
                    <a:pt x="480" y="242"/>
                  </a:lnTo>
                  <a:lnTo>
                    <a:pt x="488" y="226"/>
                  </a:lnTo>
                  <a:lnTo>
                    <a:pt x="498" y="210"/>
                  </a:lnTo>
                  <a:lnTo>
                    <a:pt x="510" y="196"/>
                  </a:lnTo>
                  <a:lnTo>
                    <a:pt x="524" y="182"/>
                  </a:lnTo>
                  <a:lnTo>
                    <a:pt x="524" y="182"/>
                  </a:lnTo>
                  <a:lnTo>
                    <a:pt x="538" y="170"/>
                  </a:lnTo>
                  <a:lnTo>
                    <a:pt x="554" y="158"/>
                  </a:lnTo>
                  <a:lnTo>
                    <a:pt x="568" y="150"/>
                  </a:lnTo>
                  <a:lnTo>
                    <a:pt x="584" y="142"/>
                  </a:lnTo>
                  <a:lnTo>
                    <a:pt x="602" y="136"/>
                  </a:lnTo>
                  <a:lnTo>
                    <a:pt x="618" y="132"/>
                  </a:lnTo>
                  <a:lnTo>
                    <a:pt x="636" y="128"/>
                  </a:lnTo>
                  <a:lnTo>
                    <a:pt x="654" y="128"/>
                  </a:lnTo>
                  <a:lnTo>
                    <a:pt x="654" y="128"/>
                  </a:lnTo>
                  <a:lnTo>
                    <a:pt x="676" y="128"/>
                  </a:lnTo>
                  <a:lnTo>
                    <a:pt x="698" y="130"/>
                  </a:lnTo>
                  <a:lnTo>
                    <a:pt x="718" y="134"/>
                  </a:lnTo>
                  <a:lnTo>
                    <a:pt x="736" y="138"/>
                  </a:lnTo>
                  <a:lnTo>
                    <a:pt x="754" y="144"/>
                  </a:lnTo>
                  <a:lnTo>
                    <a:pt x="772" y="150"/>
                  </a:lnTo>
                  <a:lnTo>
                    <a:pt x="786" y="158"/>
                  </a:lnTo>
                  <a:lnTo>
                    <a:pt x="800" y="166"/>
                  </a:lnTo>
                  <a:lnTo>
                    <a:pt x="814" y="178"/>
                  </a:lnTo>
                  <a:lnTo>
                    <a:pt x="824" y="188"/>
                  </a:lnTo>
                  <a:lnTo>
                    <a:pt x="836" y="202"/>
                  </a:lnTo>
                  <a:lnTo>
                    <a:pt x="844" y="216"/>
                  </a:lnTo>
                  <a:lnTo>
                    <a:pt x="852" y="230"/>
                  </a:lnTo>
                  <a:lnTo>
                    <a:pt x="860" y="246"/>
                  </a:lnTo>
                  <a:lnTo>
                    <a:pt x="864" y="264"/>
                  </a:lnTo>
                  <a:lnTo>
                    <a:pt x="868" y="282"/>
                  </a:lnTo>
                  <a:lnTo>
                    <a:pt x="1002" y="886"/>
                  </a:lnTo>
                  <a:lnTo>
                    <a:pt x="1002" y="886"/>
                  </a:lnTo>
                  <a:lnTo>
                    <a:pt x="1082" y="860"/>
                  </a:lnTo>
                  <a:lnTo>
                    <a:pt x="1214" y="818"/>
                  </a:lnTo>
                  <a:lnTo>
                    <a:pt x="1404" y="762"/>
                  </a:lnTo>
                  <a:lnTo>
                    <a:pt x="1646" y="694"/>
                  </a:lnTo>
                  <a:lnTo>
                    <a:pt x="1646" y="694"/>
                  </a:lnTo>
                  <a:lnTo>
                    <a:pt x="1678" y="688"/>
                  </a:lnTo>
                  <a:lnTo>
                    <a:pt x="1704" y="686"/>
                  </a:lnTo>
                  <a:lnTo>
                    <a:pt x="1704" y="686"/>
                  </a:lnTo>
                  <a:lnTo>
                    <a:pt x="1724" y="686"/>
                  </a:lnTo>
                  <a:lnTo>
                    <a:pt x="1744" y="688"/>
                  </a:lnTo>
                  <a:lnTo>
                    <a:pt x="1762" y="694"/>
                  </a:lnTo>
                  <a:lnTo>
                    <a:pt x="1780" y="700"/>
                  </a:lnTo>
                  <a:lnTo>
                    <a:pt x="1798" y="708"/>
                  </a:lnTo>
                  <a:lnTo>
                    <a:pt x="1814" y="718"/>
                  </a:lnTo>
                  <a:lnTo>
                    <a:pt x="1828" y="732"/>
                  </a:lnTo>
                  <a:lnTo>
                    <a:pt x="1842" y="746"/>
                  </a:lnTo>
                  <a:lnTo>
                    <a:pt x="1842" y="746"/>
                  </a:lnTo>
                  <a:lnTo>
                    <a:pt x="1854" y="760"/>
                  </a:lnTo>
                  <a:lnTo>
                    <a:pt x="1866" y="776"/>
                  </a:lnTo>
                  <a:lnTo>
                    <a:pt x="1876" y="792"/>
                  </a:lnTo>
                  <a:lnTo>
                    <a:pt x="1882" y="810"/>
                  </a:lnTo>
                  <a:lnTo>
                    <a:pt x="1888" y="828"/>
                  </a:lnTo>
                  <a:lnTo>
                    <a:pt x="1894" y="846"/>
                  </a:lnTo>
                  <a:lnTo>
                    <a:pt x="1896" y="866"/>
                  </a:lnTo>
                  <a:lnTo>
                    <a:pt x="1896" y="886"/>
                  </a:lnTo>
                  <a:lnTo>
                    <a:pt x="1896" y="886"/>
                  </a:lnTo>
                  <a:lnTo>
                    <a:pt x="1894" y="920"/>
                  </a:lnTo>
                  <a:lnTo>
                    <a:pt x="1892" y="936"/>
                  </a:lnTo>
                  <a:lnTo>
                    <a:pt x="1888" y="950"/>
                  </a:lnTo>
                  <a:lnTo>
                    <a:pt x="1882" y="964"/>
                  </a:lnTo>
                  <a:lnTo>
                    <a:pt x="1876" y="978"/>
                  </a:lnTo>
                  <a:lnTo>
                    <a:pt x="1870" y="990"/>
                  </a:lnTo>
                  <a:lnTo>
                    <a:pt x="1862" y="1002"/>
                  </a:lnTo>
                  <a:lnTo>
                    <a:pt x="1852" y="1012"/>
                  </a:lnTo>
                  <a:lnTo>
                    <a:pt x="1842" y="1022"/>
                  </a:lnTo>
                  <a:lnTo>
                    <a:pt x="1830" y="1032"/>
                  </a:lnTo>
                  <a:lnTo>
                    <a:pt x="1816" y="1040"/>
                  </a:lnTo>
                  <a:lnTo>
                    <a:pt x="1804" y="1048"/>
                  </a:lnTo>
                  <a:lnTo>
                    <a:pt x="1788" y="1054"/>
                  </a:lnTo>
                  <a:lnTo>
                    <a:pt x="1756" y="1066"/>
                  </a:lnTo>
                  <a:lnTo>
                    <a:pt x="1756" y="1066"/>
                  </a:lnTo>
                  <a:lnTo>
                    <a:pt x="1512" y="1130"/>
                  </a:lnTo>
                  <a:lnTo>
                    <a:pt x="1268" y="1196"/>
                  </a:lnTo>
                  <a:lnTo>
                    <a:pt x="1268" y="1196"/>
                  </a:lnTo>
                  <a:lnTo>
                    <a:pt x="1178" y="1224"/>
                  </a:lnTo>
                  <a:lnTo>
                    <a:pt x="1092" y="1252"/>
                  </a:lnTo>
                  <a:lnTo>
                    <a:pt x="1012" y="1282"/>
                  </a:lnTo>
                  <a:lnTo>
                    <a:pt x="938" y="1310"/>
                  </a:lnTo>
                  <a:lnTo>
                    <a:pt x="868" y="1338"/>
                  </a:lnTo>
                  <a:lnTo>
                    <a:pt x="804" y="1368"/>
                  </a:lnTo>
                  <a:lnTo>
                    <a:pt x="744" y="1398"/>
                  </a:lnTo>
                  <a:lnTo>
                    <a:pt x="690" y="1428"/>
                  </a:lnTo>
                  <a:lnTo>
                    <a:pt x="690" y="1428"/>
                  </a:lnTo>
                  <a:lnTo>
                    <a:pt x="656" y="1448"/>
                  </a:lnTo>
                  <a:lnTo>
                    <a:pt x="624" y="1470"/>
                  </a:lnTo>
                  <a:lnTo>
                    <a:pt x="594" y="1490"/>
                  </a:lnTo>
                  <a:lnTo>
                    <a:pt x="566" y="1512"/>
                  </a:lnTo>
                  <a:lnTo>
                    <a:pt x="540" y="1534"/>
                  </a:lnTo>
                  <a:lnTo>
                    <a:pt x="518" y="1556"/>
                  </a:lnTo>
                  <a:lnTo>
                    <a:pt x="496" y="1578"/>
                  </a:lnTo>
                  <a:lnTo>
                    <a:pt x="478" y="1600"/>
                  </a:lnTo>
                  <a:lnTo>
                    <a:pt x="460" y="1624"/>
                  </a:lnTo>
                  <a:lnTo>
                    <a:pt x="446" y="1646"/>
                  </a:lnTo>
                  <a:lnTo>
                    <a:pt x="434" y="1670"/>
                  </a:lnTo>
                  <a:lnTo>
                    <a:pt x="424" y="1692"/>
                  </a:lnTo>
                  <a:lnTo>
                    <a:pt x="416" y="1716"/>
                  </a:lnTo>
                  <a:lnTo>
                    <a:pt x="412" y="1740"/>
                  </a:lnTo>
                  <a:lnTo>
                    <a:pt x="408" y="1764"/>
                  </a:lnTo>
                  <a:lnTo>
                    <a:pt x="406" y="1788"/>
                  </a:lnTo>
                  <a:lnTo>
                    <a:pt x="406" y="1788"/>
                  </a:lnTo>
                  <a:lnTo>
                    <a:pt x="408" y="1802"/>
                  </a:lnTo>
                  <a:lnTo>
                    <a:pt x="410" y="1816"/>
                  </a:lnTo>
                  <a:lnTo>
                    <a:pt x="416" y="1828"/>
                  </a:lnTo>
                  <a:lnTo>
                    <a:pt x="422" y="1840"/>
                  </a:lnTo>
                  <a:lnTo>
                    <a:pt x="430" y="1852"/>
                  </a:lnTo>
                  <a:lnTo>
                    <a:pt x="440" y="1862"/>
                  </a:lnTo>
                  <a:lnTo>
                    <a:pt x="452" y="1874"/>
                  </a:lnTo>
                  <a:lnTo>
                    <a:pt x="466" y="1884"/>
                  </a:lnTo>
                  <a:lnTo>
                    <a:pt x="480" y="1894"/>
                  </a:lnTo>
                  <a:lnTo>
                    <a:pt x="498" y="1902"/>
                  </a:lnTo>
                  <a:lnTo>
                    <a:pt x="538" y="1920"/>
                  </a:lnTo>
                  <a:lnTo>
                    <a:pt x="586" y="1936"/>
                  </a:lnTo>
                  <a:lnTo>
                    <a:pt x="640" y="1950"/>
                  </a:lnTo>
                  <a:lnTo>
                    <a:pt x="640" y="1950"/>
                  </a:lnTo>
                  <a:lnTo>
                    <a:pt x="682" y="1958"/>
                  </a:lnTo>
                  <a:lnTo>
                    <a:pt x="724" y="1968"/>
                  </a:lnTo>
                  <a:lnTo>
                    <a:pt x="768" y="1974"/>
                  </a:lnTo>
                  <a:lnTo>
                    <a:pt x="812" y="1980"/>
                  </a:lnTo>
                  <a:lnTo>
                    <a:pt x="858" y="1984"/>
                  </a:lnTo>
                  <a:lnTo>
                    <a:pt x="906" y="1988"/>
                  </a:lnTo>
                  <a:lnTo>
                    <a:pt x="954" y="1990"/>
                  </a:lnTo>
                  <a:lnTo>
                    <a:pt x="1002" y="1990"/>
                  </a:lnTo>
                  <a:lnTo>
                    <a:pt x="1002" y="1990"/>
                  </a:lnTo>
                  <a:lnTo>
                    <a:pt x="1100" y="1988"/>
                  </a:lnTo>
                  <a:lnTo>
                    <a:pt x="1208" y="1982"/>
                  </a:lnTo>
                  <a:lnTo>
                    <a:pt x="1328" y="1970"/>
                  </a:lnTo>
                  <a:lnTo>
                    <a:pt x="1462" y="1954"/>
                  </a:lnTo>
                  <a:lnTo>
                    <a:pt x="1462" y="1954"/>
                  </a:lnTo>
                  <a:lnTo>
                    <a:pt x="1668" y="1928"/>
                  </a:lnTo>
                  <a:lnTo>
                    <a:pt x="1714" y="1922"/>
                  </a:lnTo>
                  <a:lnTo>
                    <a:pt x="1726" y="1920"/>
                  </a:lnTo>
                  <a:lnTo>
                    <a:pt x="1726" y="1920"/>
                  </a:lnTo>
                  <a:lnTo>
                    <a:pt x="1748" y="1920"/>
                  </a:lnTo>
                  <a:lnTo>
                    <a:pt x="1768" y="1924"/>
                  </a:lnTo>
                  <a:lnTo>
                    <a:pt x="1788" y="1928"/>
                  </a:lnTo>
                  <a:lnTo>
                    <a:pt x="1806" y="1936"/>
                  </a:lnTo>
                  <a:lnTo>
                    <a:pt x="1824" y="1946"/>
                  </a:lnTo>
                  <a:lnTo>
                    <a:pt x="1840" y="1958"/>
                  </a:lnTo>
                  <a:lnTo>
                    <a:pt x="1856" y="1972"/>
                  </a:lnTo>
                  <a:lnTo>
                    <a:pt x="1870" y="1988"/>
                  </a:lnTo>
                  <a:lnTo>
                    <a:pt x="1870" y="1988"/>
                  </a:lnTo>
                  <a:lnTo>
                    <a:pt x="1882" y="2004"/>
                  </a:lnTo>
                  <a:lnTo>
                    <a:pt x="1894" y="2020"/>
                  </a:lnTo>
                  <a:lnTo>
                    <a:pt x="1902" y="2038"/>
                  </a:lnTo>
                  <a:lnTo>
                    <a:pt x="1910" y="2056"/>
                  </a:lnTo>
                  <a:lnTo>
                    <a:pt x="1916" y="2076"/>
                  </a:lnTo>
                  <a:lnTo>
                    <a:pt x="1920" y="2094"/>
                  </a:lnTo>
                  <a:lnTo>
                    <a:pt x="1922" y="2114"/>
                  </a:lnTo>
                  <a:lnTo>
                    <a:pt x="1924" y="2134"/>
                  </a:lnTo>
                  <a:lnTo>
                    <a:pt x="1924" y="2134"/>
                  </a:lnTo>
                  <a:close/>
                  <a:moveTo>
                    <a:pt x="1900" y="436"/>
                  </a:moveTo>
                  <a:lnTo>
                    <a:pt x="1900" y="436"/>
                  </a:lnTo>
                  <a:lnTo>
                    <a:pt x="1898" y="454"/>
                  </a:lnTo>
                  <a:lnTo>
                    <a:pt x="1892" y="472"/>
                  </a:lnTo>
                  <a:lnTo>
                    <a:pt x="1880" y="488"/>
                  </a:lnTo>
                  <a:lnTo>
                    <a:pt x="1866" y="504"/>
                  </a:lnTo>
                  <a:lnTo>
                    <a:pt x="1866" y="504"/>
                  </a:lnTo>
                  <a:lnTo>
                    <a:pt x="1848" y="516"/>
                  </a:lnTo>
                  <a:lnTo>
                    <a:pt x="1830" y="524"/>
                  </a:lnTo>
                  <a:lnTo>
                    <a:pt x="1812" y="528"/>
                  </a:lnTo>
                  <a:lnTo>
                    <a:pt x="1794" y="530"/>
                  </a:lnTo>
                  <a:lnTo>
                    <a:pt x="1794" y="530"/>
                  </a:lnTo>
                  <a:lnTo>
                    <a:pt x="1776" y="530"/>
                  </a:lnTo>
                  <a:lnTo>
                    <a:pt x="1762" y="526"/>
                  </a:lnTo>
                  <a:lnTo>
                    <a:pt x="1746" y="522"/>
                  </a:lnTo>
                  <a:lnTo>
                    <a:pt x="1734" y="516"/>
                  </a:lnTo>
                  <a:lnTo>
                    <a:pt x="1720" y="508"/>
                  </a:lnTo>
                  <a:lnTo>
                    <a:pt x="1710" y="498"/>
                  </a:lnTo>
                  <a:lnTo>
                    <a:pt x="1700" y="486"/>
                  </a:lnTo>
                  <a:lnTo>
                    <a:pt x="1690" y="474"/>
                  </a:lnTo>
                  <a:lnTo>
                    <a:pt x="1690" y="474"/>
                  </a:lnTo>
                  <a:lnTo>
                    <a:pt x="1642" y="398"/>
                  </a:lnTo>
                  <a:lnTo>
                    <a:pt x="1568" y="286"/>
                  </a:lnTo>
                  <a:lnTo>
                    <a:pt x="1568" y="286"/>
                  </a:lnTo>
                  <a:lnTo>
                    <a:pt x="1548" y="250"/>
                  </a:lnTo>
                  <a:lnTo>
                    <a:pt x="1532" y="218"/>
                  </a:lnTo>
                  <a:lnTo>
                    <a:pt x="1524" y="190"/>
                  </a:lnTo>
                  <a:lnTo>
                    <a:pt x="1522" y="176"/>
                  </a:lnTo>
                  <a:lnTo>
                    <a:pt x="1522" y="164"/>
                  </a:lnTo>
                  <a:lnTo>
                    <a:pt x="1522" y="164"/>
                  </a:lnTo>
                  <a:lnTo>
                    <a:pt x="1524" y="140"/>
                  </a:lnTo>
                  <a:lnTo>
                    <a:pt x="1528" y="120"/>
                  </a:lnTo>
                  <a:lnTo>
                    <a:pt x="1538" y="104"/>
                  </a:lnTo>
                  <a:lnTo>
                    <a:pt x="1544" y="96"/>
                  </a:lnTo>
                  <a:lnTo>
                    <a:pt x="1552" y="90"/>
                  </a:lnTo>
                  <a:lnTo>
                    <a:pt x="1568" y="80"/>
                  </a:lnTo>
                  <a:lnTo>
                    <a:pt x="1588" y="72"/>
                  </a:lnTo>
                  <a:lnTo>
                    <a:pt x="1612" y="68"/>
                  </a:lnTo>
                  <a:lnTo>
                    <a:pt x="1640" y="66"/>
                  </a:lnTo>
                  <a:lnTo>
                    <a:pt x="1640" y="66"/>
                  </a:lnTo>
                  <a:lnTo>
                    <a:pt x="1656" y="66"/>
                  </a:lnTo>
                  <a:lnTo>
                    <a:pt x="1670" y="68"/>
                  </a:lnTo>
                  <a:lnTo>
                    <a:pt x="1682" y="74"/>
                  </a:lnTo>
                  <a:lnTo>
                    <a:pt x="1696" y="80"/>
                  </a:lnTo>
                  <a:lnTo>
                    <a:pt x="1710" y="86"/>
                  </a:lnTo>
                  <a:lnTo>
                    <a:pt x="1722" y="96"/>
                  </a:lnTo>
                  <a:lnTo>
                    <a:pt x="1734" y="108"/>
                  </a:lnTo>
                  <a:lnTo>
                    <a:pt x="1746" y="120"/>
                  </a:lnTo>
                  <a:lnTo>
                    <a:pt x="1746" y="120"/>
                  </a:lnTo>
                  <a:lnTo>
                    <a:pt x="1788" y="172"/>
                  </a:lnTo>
                  <a:lnTo>
                    <a:pt x="1824" y="226"/>
                  </a:lnTo>
                  <a:lnTo>
                    <a:pt x="1856" y="280"/>
                  </a:lnTo>
                  <a:lnTo>
                    <a:pt x="1882" y="334"/>
                  </a:lnTo>
                  <a:lnTo>
                    <a:pt x="1882" y="334"/>
                  </a:lnTo>
                  <a:lnTo>
                    <a:pt x="1890" y="358"/>
                  </a:lnTo>
                  <a:lnTo>
                    <a:pt x="1896" y="382"/>
                  </a:lnTo>
                  <a:lnTo>
                    <a:pt x="1898" y="408"/>
                  </a:lnTo>
                  <a:lnTo>
                    <a:pt x="1900" y="436"/>
                  </a:lnTo>
                  <a:lnTo>
                    <a:pt x="1900" y="436"/>
                  </a:lnTo>
                  <a:close/>
                  <a:moveTo>
                    <a:pt x="2240" y="370"/>
                  </a:moveTo>
                  <a:lnTo>
                    <a:pt x="2240" y="370"/>
                  </a:lnTo>
                  <a:lnTo>
                    <a:pt x="2238" y="392"/>
                  </a:lnTo>
                  <a:lnTo>
                    <a:pt x="2232" y="410"/>
                  </a:lnTo>
                  <a:lnTo>
                    <a:pt x="2224" y="426"/>
                  </a:lnTo>
                  <a:lnTo>
                    <a:pt x="2212" y="440"/>
                  </a:lnTo>
                  <a:lnTo>
                    <a:pt x="2196" y="450"/>
                  </a:lnTo>
                  <a:lnTo>
                    <a:pt x="2176" y="456"/>
                  </a:lnTo>
                  <a:lnTo>
                    <a:pt x="2154" y="460"/>
                  </a:lnTo>
                  <a:lnTo>
                    <a:pt x="2128" y="462"/>
                  </a:lnTo>
                  <a:lnTo>
                    <a:pt x="2128" y="462"/>
                  </a:lnTo>
                  <a:lnTo>
                    <a:pt x="2112" y="462"/>
                  </a:lnTo>
                  <a:lnTo>
                    <a:pt x="2096" y="458"/>
                  </a:lnTo>
                  <a:lnTo>
                    <a:pt x="2082" y="454"/>
                  </a:lnTo>
                  <a:lnTo>
                    <a:pt x="2070" y="448"/>
                  </a:lnTo>
                  <a:lnTo>
                    <a:pt x="2058" y="440"/>
                  </a:lnTo>
                  <a:lnTo>
                    <a:pt x="2046" y="430"/>
                  </a:lnTo>
                  <a:lnTo>
                    <a:pt x="2036" y="418"/>
                  </a:lnTo>
                  <a:lnTo>
                    <a:pt x="2026" y="406"/>
                  </a:lnTo>
                  <a:lnTo>
                    <a:pt x="2026" y="406"/>
                  </a:lnTo>
                  <a:lnTo>
                    <a:pt x="1978" y="330"/>
                  </a:lnTo>
                  <a:lnTo>
                    <a:pt x="1902" y="214"/>
                  </a:lnTo>
                  <a:lnTo>
                    <a:pt x="1902" y="214"/>
                  </a:lnTo>
                  <a:lnTo>
                    <a:pt x="1882" y="182"/>
                  </a:lnTo>
                  <a:lnTo>
                    <a:pt x="1870" y="150"/>
                  </a:lnTo>
                  <a:lnTo>
                    <a:pt x="1862" y="122"/>
                  </a:lnTo>
                  <a:lnTo>
                    <a:pt x="1860" y="108"/>
                  </a:lnTo>
                  <a:lnTo>
                    <a:pt x="1858" y="96"/>
                  </a:lnTo>
                  <a:lnTo>
                    <a:pt x="1858" y="96"/>
                  </a:lnTo>
                  <a:lnTo>
                    <a:pt x="1860" y="74"/>
                  </a:lnTo>
                  <a:lnTo>
                    <a:pt x="1866" y="54"/>
                  </a:lnTo>
                  <a:lnTo>
                    <a:pt x="1870" y="46"/>
                  </a:lnTo>
                  <a:lnTo>
                    <a:pt x="1876" y="38"/>
                  </a:lnTo>
                  <a:lnTo>
                    <a:pt x="1882" y="30"/>
                  </a:lnTo>
                  <a:lnTo>
                    <a:pt x="1890" y="24"/>
                  </a:lnTo>
                  <a:lnTo>
                    <a:pt x="1906" y="14"/>
                  </a:lnTo>
                  <a:lnTo>
                    <a:pt x="1928" y="6"/>
                  </a:lnTo>
                  <a:lnTo>
                    <a:pt x="1952" y="2"/>
                  </a:lnTo>
                  <a:lnTo>
                    <a:pt x="1980" y="0"/>
                  </a:lnTo>
                  <a:lnTo>
                    <a:pt x="1980" y="0"/>
                  </a:lnTo>
                  <a:lnTo>
                    <a:pt x="1994" y="2"/>
                  </a:lnTo>
                  <a:lnTo>
                    <a:pt x="2008" y="4"/>
                  </a:lnTo>
                  <a:lnTo>
                    <a:pt x="2022" y="8"/>
                  </a:lnTo>
                  <a:lnTo>
                    <a:pt x="2036" y="14"/>
                  </a:lnTo>
                  <a:lnTo>
                    <a:pt x="2048" y="20"/>
                  </a:lnTo>
                  <a:lnTo>
                    <a:pt x="2060" y="30"/>
                  </a:lnTo>
                  <a:lnTo>
                    <a:pt x="2072" y="40"/>
                  </a:lnTo>
                  <a:lnTo>
                    <a:pt x="2084" y="52"/>
                  </a:lnTo>
                  <a:lnTo>
                    <a:pt x="2084" y="52"/>
                  </a:lnTo>
                  <a:lnTo>
                    <a:pt x="2124" y="104"/>
                  </a:lnTo>
                  <a:lnTo>
                    <a:pt x="2160" y="158"/>
                  </a:lnTo>
                  <a:lnTo>
                    <a:pt x="2192" y="212"/>
                  </a:lnTo>
                  <a:lnTo>
                    <a:pt x="2220" y="266"/>
                  </a:lnTo>
                  <a:lnTo>
                    <a:pt x="2220" y="266"/>
                  </a:lnTo>
                  <a:lnTo>
                    <a:pt x="2228" y="290"/>
                  </a:lnTo>
                  <a:lnTo>
                    <a:pt x="2234" y="316"/>
                  </a:lnTo>
                  <a:lnTo>
                    <a:pt x="2238" y="342"/>
                  </a:lnTo>
                  <a:lnTo>
                    <a:pt x="2240" y="370"/>
                  </a:lnTo>
                  <a:lnTo>
                    <a:pt x="2240" y="3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31"/>
            <p:cNvSpPr/>
            <p:nvPr/>
          </p:nvSpPr>
          <p:spPr>
            <a:xfrm>
              <a:off x="23741280" y="4269960"/>
              <a:ext cx="3755880" cy="3648240"/>
            </a:xfrm>
            <a:custGeom>
              <a:avLst/>
              <a:gdLst>
                <a:gd name="textAreaLeft" fmla="*/ 0 w 3755880"/>
                <a:gd name="textAreaRight" fmla="*/ 3756240 w 3755880"/>
                <a:gd name="textAreaTop" fmla="*/ 0 h 3648240"/>
                <a:gd name="textAreaBottom" fmla="*/ 3648600 h 3648240"/>
              </a:gdLst>
              <a:ahLst/>
              <a:rect l="textAreaLeft" t="textAreaTop" r="textAreaRight" b="textAreaBottom"/>
              <a:pathLst>
                <a:path w="2366" h="2298">
                  <a:moveTo>
                    <a:pt x="2366" y="1596"/>
                  </a:moveTo>
                  <a:lnTo>
                    <a:pt x="2366" y="1596"/>
                  </a:lnTo>
                  <a:lnTo>
                    <a:pt x="2364" y="1628"/>
                  </a:lnTo>
                  <a:lnTo>
                    <a:pt x="2362" y="1660"/>
                  </a:lnTo>
                  <a:lnTo>
                    <a:pt x="2358" y="1690"/>
                  </a:lnTo>
                  <a:lnTo>
                    <a:pt x="2352" y="1722"/>
                  </a:lnTo>
                  <a:lnTo>
                    <a:pt x="2344" y="1752"/>
                  </a:lnTo>
                  <a:lnTo>
                    <a:pt x="2332" y="1782"/>
                  </a:lnTo>
                  <a:lnTo>
                    <a:pt x="2322" y="1812"/>
                  </a:lnTo>
                  <a:lnTo>
                    <a:pt x="2308" y="1842"/>
                  </a:lnTo>
                  <a:lnTo>
                    <a:pt x="2292" y="1870"/>
                  </a:lnTo>
                  <a:lnTo>
                    <a:pt x="2274" y="1900"/>
                  </a:lnTo>
                  <a:lnTo>
                    <a:pt x="2256" y="1928"/>
                  </a:lnTo>
                  <a:lnTo>
                    <a:pt x="2234" y="1956"/>
                  </a:lnTo>
                  <a:lnTo>
                    <a:pt x="2212" y="1984"/>
                  </a:lnTo>
                  <a:lnTo>
                    <a:pt x="2186" y="2012"/>
                  </a:lnTo>
                  <a:lnTo>
                    <a:pt x="2160" y="2040"/>
                  </a:lnTo>
                  <a:lnTo>
                    <a:pt x="2132" y="2066"/>
                  </a:lnTo>
                  <a:lnTo>
                    <a:pt x="2132" y="2066"/>
                  </a:lnTo>
                  <a:lnTo>
                    <a:pt x="2102" y="2092"/>
                  </a:lnTo>
                  <a:lnTo>
                    <a:pt x="2074" y="2116"/>
                  </a:lnTo>
                  <a:lnTo>
                    <a:pt x="2044" y="2140"/>
                  </a:lnTo>
                  <a:lnTo>
                    <a:pt x="2014" y="2160"/>
                  </a:lnTo>
                  <a:lnTo>
                    <a:pt x="1984" y="2180"/>
                  </a:lnTo>
                  <a:lnTo>
                    <a:pt x="1954" y="2198"/>
                  </a:lnTo>
                  <a:lnTo>
                    <a:pt x="1922" y="2214"/>
                  </a:lnTo>
                  <a:lnTo>
                    <a:pt x="1892" y="2228"/>
                  </a:lnTo>
                  <a:lnTo>
                    <a:pt x="1862" y="2240"/>
                  </a:lnTo>
                  <a:lnTo>
                    <a:pt x="1830" y="2252"/>
                  </a:lnTo>
                  <a:lnTo>
                    <a:pt x="1800" y="2260"/>
                  </a:lnTo>
                  <a:lnTo>
                    <a:pt x="1768" y="2268"/>
                  </a:lnTo>
                  <a:lnTo>
                    <a:pt x="1736" y="2274"/>
                  </a:lnTo>
                  <a:lnTo>
                    <a:pt x="1704" y="2278"/>
                  </a:lnTo>
                  <a:lnTo>
                    <a:pt x="1672" y="2280"/>
                  </a:lnTo>
                  <a:lnTo>
                    <a:pt x="1640" y="2282"/>
                  </a:lnTo>
                  <a:lnTo>
                    <a:pt x="1640" y="2282"/>
                  </a:lnTo>
                  <a:lnTo>
                    <a:pt x="1580" y="2280"/>
                  </a:lnTo>
                  <a:lnTo>
                    <a:pt x="1524" y="2274"/>
                  </a:lnTo>
                  <a:lnTo>
                    <a:pt x="1470" y="2264"/>
                  </a:lnTo>
                  <a:lnTo>
                    <a:pt x="1420" y="2250"/>
                  </a:lnTo>
                  <a:lnTo>
                    <a:pt x="1396" y="2240"/>
                  </a:lnTo>
                  <a:lnTo>
                    <a:pt x="1372" y="2232"/>
                  </a:lnTo>
                  <a:lnTo>
                    <a:pt x="1350" y="2220"/>
                  </a:lnTo>
                  <a:lnTo>
                    <a:pt x="1328" y="2210"/>
                  </a:lnTo>
                  <a:lnTo>
                    <a:pt x="1308" y="2196"/>
                  </a:lnTo>
                  <a:lnTo>
                    <a:pt x="1288" y="2184"/>
                  </a:lnTo>
                  <a:lnTo>
                    <a:pt x="1270" y="2168"/>
                  </a:lnTo>
                  <a:lnTo>
                    <a:pt x="1252" y="2154"/>
                  </a:lnTo>
                  <a:lnTo>
                    <a:pt x="1252" y="2154"/>
                  </a:lnTo>
                  <a:lnTo>
                    <a:pt x="1234" y="2136"/>
                  </a:lnTo>
                  <a:lnTo>
                    <a:pt x="1218" y="2120"/>
                  </a:lnTo>
                  <a:lnTo>
                    <a:pt x="1204" y="2100"/>
                  </a:lnTo>
                  <a:lnTo>
                    <a:pt x="1190" y="2082"/>
                  </a:lnTo>
                  <a:lnTo>
                    <a:pt x="1176" y="2062"/>
                  </a:lnTo>
                  <a:lnTo>
                    <a:pt x="1166" y="2042"/>
                  </a:lnTo>
                  <a:lnTo>
                    <a:pt x="1154" y="2020"/>
                  </a:lnTo>
                  <a:lnTo>
                    <a:pt x="1146" y="1998"/>
                  </a:lnTo>
                  <a:lnTo>
                    <a:pt x="1138" y="1974"/>
                  </a:lnTo>
                  <a:lnTo>
                    <a:pt x="1130" y="1952"/>
                  </a:lnTo>
                  <a:lnTo>
                    <a:pt x="1124" y="1926"/>
                  </a:lnTo>
                  <a:lnTo>
                    <a:pt x="1118" y="1902"/>
                  </a:lnTo>
                  <a:lnTo>
                    <a:pt x="1112" y="1848"/>
                  </a:lnTo>
                  <a:lnTo>
                    <a:pt x="1110" y="1792"/>
                  </a:lnTo>
                  <a:lnTo>
                    <a:pt x="1110" y="1792"/>
                  </a:lnTo>
                  <a:lnTo>
                    <a:pt x="1116" y="1672"/>
                  </a:lnTo>
                  <a:lnTo>
                    <a:pt x="1116" y="1672"/>
                  </a:lnTo>
                  <a:lnTo>
                    <a:pt x="1120" y="1584"/>
                  </a:lnTo>
                  <a:lnTo>
                    <a:pt x="1120" y="1530"/>
                  </a:lnTo>
                  <a:lnTo>
                    <a:pt x="1120" y="1530"/>
                  </a:lnTo>
                  <a:lnTo>
                    <a:pt x="1118" y="1492"/>
                  </a:lnTo>
                  <a:lnTo>
                    <a:pt x="1114" y="1458"/>
                  </a:lnTo>
                  <a:lnTo>
                    <a:pt x="1108" y="1442"/>
                  </a:lnTo>
                  <a:lnTo>
                    <a:pt x="1104" y="1428"/>
                  </a:lnTo>
                  <a:lnTo>
                    <a:pt x="1098" y="1416"/>
                  </a:lnTo>
                  <a:lnTo>
                    <a:pt x="1090" y="1404"/>
                  </a:lnTo>
                  <a:lnTo>
                    <a:pt x="1082" y="1394"/>
                  </a:lnTo>
                  <a:lnTo>
                    <a:pt x="1074" y="1386"/>
                  </a:lnTo>
                  <a:lnTo>
                    <a:pt x="1064" y="1378"/>
                  </a:lnTo>
                  <a:lnTo>
                    <a:pt x="1052" y="1372"/>
                  </a:lnTo>
                  <a:lnTo>
                    <a:pt x="1040" y="1368"/>
                  </a:lnTo>
                  <a:lnTo>
                    <a:pt x="1028" y="1366"/>
                  </a:lnTo>
                  <a:lnTo>
                    <a:pt x="1014" y="1364"/>
                  </a:lnTo>
                  <a:lnTo>
                    <a:pt x="998" y="1362"/>
                  </a:lnTo>
                  <a:lnTo>
                    <a:pt x="998" y="1362"/>
                  </a:lnTo>
                  <a:lnTo>
                    <a:pt x="982" y="1364"/>
                  </a:lnTo>
                  <a:lnTo>
                    <a:pt x="964" y="1368"/>
                  </a:lnTo>
                  <a:lnTo>
                    <a:pt x="944" y="1376"/>
                  </a:lnTo>
                  <a:lnTo>
                    <a:pt x="922" y="1386"/>
                  </a:lnTo>
                  <a:lnTo>
                    <a:pt x="900" y="1400"/>
                  </a:lnTo>
                  <a:lnTo>
                    <a:pt x="874" y="1418"/>
                  </a:lnTo>
                  <a:lnTo>
                    <a:pt x="848" y="1438"/>
                  </a:lnTo>
                  <a:lnTo>
                    <a:pt x="820" y="1460"/>
                  </a:lnTo>
                  <a:lnTo>
                    <a:pt x="820" y="1460"/>
                  </a:lnTo>
                  <a:lnTo>
                    <a:pt x="764" y="1510"/>
                  </a:lnTo>
                  <a:lnTo>
                    <a:pt x="716" y="1558"/>
                  </a:lnTo>
                  <a:lnTo>
                    <a:pt x="694" y="1582"/>
                  </a:lnTo>
                  <a:lnTo>
                    <a:pt x="672" y="1608"/>
                  </a:lnTo>
                  <a:lnTo>
                    <a:pt x="654" y="1632"/>
                  </a:lnTo>
                  <a:lnTo>
                    <a:pt x="638" y="1656"/>
                  </a:lnTo>
                  <a:lnTo>
                    <a:pt x="638" y="1656"/>
                  </a:lnTo>
                  <a:lnTo>
                    <a:pt x="614" y="1694"/>
                  </a:lnTo>
                  <a:lnTo>
                    <a:pt x="588" y="1738"/>
                  </a:lnTo>
                  <a:lnTo>
                    <a:pt x="562" y="1788"/>
                  </a:lnTo>
                  <a:lnTo>
                    <a:pt x="534" y="1846"/>
                  </a:lnTo>
                  <a:lnTo>
                    <a:pt x="470" y="1978"/>
                  </a:lnTo>
                  <a:lnTo>
                    <a:pt x="400" y="2138"/>
                  </a:lnTo>
                  <a:lnTo>
                    <a:pt x="400" y="2138"/>
                  </a:lnTo>
                  <a:lnTo>
                    <a:pt x="384" y="2174"/>
                  </a:lnTo>
                  <a:lnTo>
                    <a:pt x="366" y="2208"/>
                  </a:lnTo>
                  <a:lnTo>
                    <a:pt x="346" y="2234"/>
                  </a:lnTo>
                  <a:lnTo>
                    <a:pt x="326" y="2258"/>
                  </a:lnTo>
                  <a:lnTo>
                    <a:pt x="306" y="2274"/>
                  </a:lnTo>
                  <a:lnTo>
                    <a:pt x="294" y="2282"/>
                  </a:lnTo>
                  <a:lnTo>
                    <a:pt x="282" y="2288"/>
                  </a:lnTo>
                  <a:lnTo>
                    <a:pt x="272" y="2292"/>
                  </a:lnTo>
                  <a:lnTo>
                    <a:pt x="260" y="2296"/>
                  </a:lnTo>
                  <a:lnTo>
                    <a:pt x="248" y="2296"/>
                  </a:lnTo>
                  <a:lnTo>
                    <a:pt x="234" y="2298"/>
                  </a:lnTo>
                  <a:lnTo>
                    <a:pt x="234" y="2298"/>
                  </a:lnTo>
                  <a:lnTo>
                    <a:pt x="206" y="2296"/>
                  </a:lnTo>
                  <a:lnTo>
                    <a:pt x="180" y="2294"/>
                  </a:lnTo>
                  <a:lnTo>
                    <a:pt x="156" y="2290"/>
                  </a:lnTo>
                  <a:lnTo>
                    <a:pt x="132" y="2284"/>
                  </a:lnTo>
                  <a:lnTo>
                    <a:pt x="112" y="2276"/>
                  </a:lnTo>
                  <a:lnTo>
                    <a:pt x="92" y="2266"/>
                  </a:lnTo>
                  <a:lnTo>
                    <a:pt x="74" y="2256"/>
                  </a:lnTo>
                  <a:lnTo>
                    <a:pt x="60" y="2244"/>
                  </a:lnTo>
                  <a:lnTo>
                    <a:pt x="46" y="2228"/>
                  </a:lnTo>
                  <a:lnTo>
                    <a:pt x="34" y="2212"/>
                  </a:lnTo>
                  <a:lnTo>
                    <a:pt x="24" y="2194"/>
                  </a:lnTo>
                  <a:lnTo>
                    <a:pt x="16" y="2176"/>
                  </a:lnTo>
                  <a:lnTo>
                    <a:pt x="10" y="2154"/>
                  </a:lnTo>
                  <a:lnTo>
                    <a:pt x="4" y="2132"/>
                  </a:lnTo>
                  <a:lnTo>
                    <a:pt x="2" y="2106"/>
                  </a:lnTo>
                  <a:lnTo>
                    <a:pt x="0" y="2080"/>
                  </a:lnTo>
                  <a:lnTo>
                    <a:pt x="0" y="2080"/>
                  </a:lnTo>
                  <a:lnTo>
                    <a:pt x="2" y="2068"/>
                  </a:lnTo>
                  <a:lnTo>
                    <a:pt x="6" y="2050"/>
                  </a:lnTo>
                  <a:lnTo>
                    <a:pt x="24" y="1998"/>
                  </a:lnTo>
                  <a:lnTo>
                    <a:pt x="54" y="1924"/>
                  </a:lnTo>
                  <a:lnTo>
                    <a:pt x="94" y="1826"/>
                  </a:lnTo>
                  <a:lnTo>
                    <a:pt x="146" y="1708"/>
                  </a:lnTo>
                  <a:lnTo>
                    <a:pt x="210" y="1566"/>
                  </a:lnTo>
                  <a:lnTo>
                    <a:pt x="374" y="1218"/>
                  </a:lnTo>
                  <a:lnTo>
                    <a:pt x="374" y="1218"/>
                  </a:lnTo>
                  <a:lnTo>
                    <a:pt x="470" y="1010"/>
                  </a:lnTo>
                  <a:lnTo>
                    <a:pt x="592" y="756"/>
                  </a:lnTo>
                  <a:lnTo>
                    <a:pt x="738" y="456"/>
                  </a:lnTo>
                  <a:lnTo>
                    <a:pt x="906" y="112"/>
                  </a:lnTo>
                  <a:lnTo>
                    <a:pt x="906" y="112"/>
                  </a:lnTo>
                  <a:lnTo>
                    <a:pt x="922" y="86"/>
                  </a:lnTo>
                  <a:lnTo>
                    <a:pt x="940" y="64"/>
                  </a:lnTo>
                  <a:lnTo>
                    <a:pt x="958" y="44"/>
                  </a:lnTo>
                  <a:lnTo>
                    <a:pt x="978" y="28"/>
                  </a:lnTo>
                  <a:lnTo>
                    <a:pt x="1002" y="16"/>
                  </a:lnTo>
                  <a:lnTo>
                    <a:pt x="1024" y="8"/>
                  </a:lnTo>
                  <a:lnTo>
                    <a:pt x="1050" y="2"/>
                  </a:lnTo>
                  <a:lnTo>
                    <a:pt x="1078" y="0"/>
                  </a:lnTo>
                  <a:lnTo>
                    <a:pt x="1078" y="0"/>
                  </a:lnTo>
                  <a:lnTo>
                    <a:pt x="1098" y="2"/>
                  </a:lnTo>
                  <a:lnTo>
                    <a:pt x="1118" y="4"/>
                  </a:lnTo>
                  <a:lnTo>
                    <a:pt x="1138" y="8"/>
                  </a:lnTo>
                  <a:lnTo>
                    <a:pt x="1156" y="14"/>
                  </a:lnTo>
                  <a:lnTo>
                    <a:pt x="1174" y="22"/>
                  </a:lnTo>
                  <a:lnTo>
                    <a:pt x="1192" y="32"/>
                  </a:lnTo>
                  <a:lnTo>
                    <a:pt x="1208" y="44"/>
                  </a:lnTo>
                  <a:lnTo>
                    <a:pt x="1224" y="58"/>
                  </a:lnTo>
                  <a:lnTo>
                    <a:pt x="1224" y="58"/>
                  </a:lnTo>
                  <a:lnTo>
                    <a:pt x="1240" y="72"/>
                  </a:lnTo>
                  <a:lnTo>
                    <a:pt x="1254" y="86"/>
                  </a:lnTo>
                  <a:lnTo>
                    <a:pt x="1264" y="100"/>
                  </a:lnTo>
                  <a:lnTo>
                    <a:pt x="1274" y="116"/>
                  </a:lnTo>
                  <a:lnTo>
                    <a:pt x="1282" y="132"/>
                  </a:lnTo>
                  <a:lnTo>
                    <a:pt x="1288" y="148"/>
                  </a:lnTo>
                  <a:lnTo>
                    <a:pt x="1292" y="166"/>
                  </a:lnTo>
                  <a:lnTo>
                    <a:pt x="1294" y="182"/>
                  </a:lnTo>
                  <a:lnTo>
                    <a:pt x="1294" y="182"/>
                  </a:lnTo>
                  <a:lnTo>
                    <a:pt x="1294" y="206"/>
                  </a:lnTo>
                  <a:lnTo>
                    <a:pt x="1288" y="230"/>
                  </a:lnTo>
                  <a:lnTo>
                    <a:pt x="1280" y="256"/>
                  </a:lnTo>
                  <a:lnTo>
                    <a:pt x="1268" y="280"/>
                  </a:lnTo>
                  <a:lnTo>
                    <a:pt x="1268" y="280"/>
                  </a:lnTo>
                  <a:lnTo>
                    <a:pt x="1118" y="584"/>
                  </a:lnTo>
                  <a:lnTo>
                    <a:pt x="874" y="1074"/>
                  </a:lnTo>
                  <a:lnTo>
                    <a:pt x="874" y="1074"/>
                  </a:lnTo>
                  <a:lnTo>
                    <a:pt x="916" y="1056"/>
                  </a:lnTo>
                  <a:lnTo>
                    <a:pt x="956" y="1040"/>
                  </a:lnTo>
                  <a:lnTo>
                    <a:pt x="994" y="1026"/>
                  </a:lnTo>
                  <a:lnTo>
                    <a:pt x="1030" y="1016"/>
                  </a:lnTo>
                  <a:lnTo>
                    <a:pt x="1064" y="1006"/>
                  </a:lnTo>
                  <a:lnTo>
                    <a:pt x="1096" y="1000"/>
                  </a:lnTo>
                  <a:lnTo>
                    <a:pt x="1126" y="996"/>
                  </a:lnTo>
                  <a:lnTo>
                    <a:pt x="1154" y="996"/>
                  </a:lnTo>
                  <a:lnTo>
                    <a:pt x="1154" y="996"/>
                  </a:lnTo>
                  <a:lnTo>
                    <a:pt x="1176" y="996"/>
                  </a:lnTo>
                  <a:lnTo>
                    <a:pt x="1196" y="998"/>
                  </a:lnTo>
                  <a:lnTo>
                    <a:pt x="1218" y="1002"/>
                  </a:lnTo>
                  <a:lnTo>
                    <a:pt x="1238" y="1006"/>
                  </a:lnTo>
                  <a:lnTo>
                    <a:pt x="1256" y="1012"/>
                  </a:lnTo>
                  <a:lnTo>
                    <a:pt x="1276" y="1020"/>
                  </a:lnTo>
                  <a:lnTo>
                    <a:pt x="1294" y="1030"/>
                  </a:lnTo>
                  <a:lnTo>
                    <a:pt x="1310" y="1040"/>
                  </a:lnTo>
                  <a:lnTo>
                    <a:pt x="1326" y="1052"/>
                  </a:lnTo>
                  <a:lnTo>
                    <a:pt x="1342" y="1066"/>
                  </a:lnTo>
                  <a:lnTo>
                    <a:pt x="1358" y="1080"/>
                  </a:lnTo>
                  <a:lnTo>
                    <a:pt x="1372" y="1096"/>
                  </a:lnTo>
                  <a:lnTo>
                    <a:pt x="1386" y="1114"/>
                  </a:lnTo>
                  <a:lnTo>
                    <a:pt x="1398" y="1132"/>
                  </a:lnTo>
                  <a:lnTo>
                    <a:pt x="1412" y="1154"/>
                  </a:lnTo>
                  <a:lnTo>
                    <a:pt x="1422" y="1174"/>
                  </a:lnTo>
                  <a:lnTo>
                    <a:pt x="1422" y="1174"/>
                  </a:lnTo>
                  <a:lnTo>
                    <a:pt x="1440" y="1210"/>
                  </a:lnTo>
                  <a:lnTo>
                    <a:pt x="1454" y="1246"/>
                  </a:lnTo>
                  <a:lnTo>
                    <a:pt x="1466" y="1282"/>
                  </a:lnTo>
                  <a:lnTo>
                    <a:pt x="1476" y="1320"/>
                  </a:lnTo>
                  <a:lnTo>
                    <a:pt x="1484" y="1360"/>
                  </a:lnTo>
                  <a:lnTo>
                    <a:pt x="1488" y="1400"/>
                  </a:lnTo>
                  <a:lnTo>
                    <a:pt x="1492" y="1442"/>
                  </a:lnTo>
                  <a:lnTo>
                    <a:pt x="1494" y="1484"/>
                  </a:lnTo>
                  <a:lnTo>
                    <a:pt x="1494" y="1484"/>
                  </a:lnTo>
                  <a:lnTo>
                    <a:pt x="1494" y="1578"/>
                  </a:lnTo>
                  <a:lnTo>
                    <a:pt x="1498" y="1656"/>
                  </a:lnTo>
                  <a:lnTo>
                    <a:pt x="1502" y="1718"/>
                  </a:lnTo>
                  <a:lnTo>
                    <a:pt x="1510" y="1764"/>
                  </a:lnTo>
                  <a:lnTo>
                    <a:pt x="1510" y="1764"/>
                  </a:lnTo>
                  <a:lnTo>
                    <a:pt x="1518" y="1798"/>
                  </a:lnTo>
                  <a:lnTo>
                    <a:pt x="1530" y="1826"/>
                  </a:lnTo>
                  <a:lnTo>
                    <a:pt x="1544" y="1850"/>
                  </a:lnTo>
                  <a:lnTo>
                    <a:pt x="1562" y="1868"/>
                  </a:lnTo>
                  <a:lnTo>
                    <a:pt x="1570" y="1876"/>
                  </a:lnTo>
                  <a:lnTo>
                    <a:pt x="1580" y="1884"/>
                  </a:lnTo>
                  <a:lnTo>
                    <a:pt x="1590" y="1890"/>
                  </a:lnTo>
                  <a:lnTo>
                    <a:pt x="1602" y="1894"/>
                  </a:lnTo>
                  <a:lnTo>
                    <a:pt x="1612" y="1898"/>
                  </a:lnTo>
                  <a:lnTo>
                    <a:pt x="1624" y="1902"/>
                  </a:lnTo>
                  <a:lnTo>
                    <a:pt x="1650" y="1904"/>
                  </a:lnTo>
                  <a:lnTo>
                    <a:pt x="1650" y="1904"/>
                  </a:lnTo>
                  <a:lnTo>
                    <a:pt x="1672" y="1902"/>
                  </a:lnTo>
                  <a:lnTo>
                    <a:pt x="1694" y="1898"/>
                  </a:lnTo>
                  <a:lnTo>
                    <a:pt x="1714" y="1892"/>
                  </a:lnTo>
                  <a:lnTo>
                    <a:pt x="1734" y="1884"/>
                  </a:lnTo>
                  <a:lnTo>
                    <a:pt x="1756" y="1874"/>
                  </a:lnTo>
                  <a:lnTo>
                    <a:pt x="1776" y="1860"/>
                  </a:lnTo>
                  <a:lnTo>
                    <a:pt x="1796" y="1846"/>
                  </a:lnTo>
                  <a:lnTo>
                    <a:pt x="1816" y="1828"/>
                  </a:lnTo>
                  <a:lnTo>
                    <a:pt x="1834" y="1808"/>
                  </a:lnTo>
                  <a:lnTo>
                    <a:pt x="1854" y="1786"/>
                  </a:lnTo>
                  <a:lnTo>
                    <a:pt x="1874" y="1760"/>
                  </a:lnTo>
                  <a:lnTo>
                    <a:pt x="1892" y="1734"/>
                  </a:lnTo>
                  <a:lnTo>
                    <a:pt x="1912" y="1704"/>
                  </a:lnTo>
                  <a:lnTo>
                    <a:pt x="1930" y="1672"/>
                  </a:lnTo>
                  <a:lnTo>
                    <a:pt x="1948" y="1638"/>
                  </a:lnTo>
                  <a:lnTo>
                    <a:pt x="1966" y="1602"/>
                  </a:lnTo>
                  <a:lnTo>
                    <a:pt x="1966" y="1602"/>
                  </a:lnTo>
                  <a:lnTo>
                    <a:pt x="2020" y="1482"/>
                  </a:lnTo>
                  <a:lnTo>
                    <a:pt x="2020" y="1482"/>
                  </a:lnTo>
                  <a:lnTo>
                    <a:pt x="2032" y="1462"/>
                  </a:lnTo>
                  <a:lnTo>
                    <a:pt x="2046" y="1442"/>
                  </a:lnTo>
                  <a:lnTo>
                    <a:pt x="2064" y="1428"/>
                  </a:lnTo>
                  <a:lnTo>
                    <a:pt x="2082" y="1414"/>
                  </a:lnTo>
                  <a:lnTo>
                    <a:pt x="2104" y="1404"/>
                  </a:lnTo>
                  <a:lnTo>
                    <a:pt x="2128" y="1398"/>
                  </a:lnTo>
                  <a:lnTo>
                    <a:pt x="2152" y="1394"/>
                  </a:lnTo>
                  <a:lnTo>
                    <a:pt x="2182" y="1392"/>
                  </a:lnTo>
                  <a:lnTo>
                    <a:pt x="2182" y="1392"/>
                  </a:lnTo>
                  <a:lnTo>
                    <a:pt x="2200" y="1394"/>
                  </a:lnTo>
                  <a:lnTo>
                    <a:pt x="2218" y="1396"/>
                  </a:lnTo>
                  <a:lnTo>
                    <a:pt x="2236" y="1400"/>
                  </a:lnTo>
                  <a:lnTo>
                    <a:pt x="2254" y="1406"/>
                  </a:lnTo>
                  <a:lnTo>
                    <a:pt x="2270" y="1414"/>
                  </a:lnTo>
                  <a:lnTo>
                    <a:pt x="2286" y="1424"/>
                  </a:lnTo>
                  <a:lnTo>
                    <a:pt x="2300" y="1436"/>
                  </a:lnTo>
                  <a:lnTo>
                    <a:pt x="2314" y="1450"/>
                  </a:lnTo>
                  <a:lnTo>
                    <a:pt x="2314" y="1450"/>
                  </a:lnTo>
                  <a:lnTo>
                    <a:pt x="2326" y="1464"/>
                  </a:lnTo>
                  <a:lnTo>
                    <a:pt x="2336" y="1482"/>
                  </a:lnTo>
                  <a:lnTo>
                    <a:pt x="2346" y="1498"/>
                  </a:lnTo>
                  <a:lnTo>
                    <a:pt x="2352" y="1516"/>
                  </a:lnTo>
                  <a:lnTo>
                    <a:pt x="2358" y="1534"/>
                  </a:lnTo>
                  <a:lnTo>
                    <a:pt x="2362" y="1554"/>
                  </a:lnTo>
                  <a:lnTo>
                    <a:pt x="2366" y="1574"/>
                  </a:lnTo>
                  <a:lnTo>
                    <a:pt x="2366" y="1596"/>
                  </a:lnTo>
                  <a:lnTo>
                    <a:pt x="2366" y="15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5546520" y="914400"/>
            <a:ext cx="1042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9600" spc="-1" strike="noStrike">
                <a:solidFill>
                  <a:srgbClr val="ffffff"/>
                </a:solidFill>
                <a:latin typeface="Arial"/>
              </a:rPr>
              <a:t>大晦日はやっぱり家族みんなで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07:58:19Z</dcterms:created>
  <dc:creator>seisaku</dc:creator>
  <dc:description/>
  <dc:language>en-US</dc:language>
  <cp:lastModifiedBy>ttec</cp:lastModifiedBy>
  <dcterms:modified xsi:type="dcterms:W3CDTF">2012-05-31T04:13:43Z</dcterms:modified>
  <cp:revision>2</cp:revision>
  <dc:subject/>
  <dc:title>スライド 1</dc:title>
</cp:coreProperties>
</file>