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4AB-E073-49CA-AA90-34939FDF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3889044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57120" y="6178320"/>
            <a:ext cx="3889044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9C4-344B-4928-A16D-8B5BD4C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571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839-7C55-4B51-B9C9-218051AC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120" y="249408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5480" y="249408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57120" y="617832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120" y="617832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5480" y="617832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B6D-B3DC-4958-9FFD-28DCA92A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57120" y="2494080"/>
            <a:ext cx="3889044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D4C-CCCF-4EAF-8F46-C6D49B6C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3889044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FA9-7C41-45E3-9403-0877A4AA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F9C-1F11-4BC6-8517-BBD9C47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24E-2154-4598-8376-88432EC0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57120" y="428400"/>
            <a:ext cx="38890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2DE-2997-4F6D-93B4-DAB562B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571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C21-C29D-4B3D-8B05-E62C7D7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3BB-84B3-46C9-87EF-BD8F40E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57120" y="6178320"/>
            <a:ext cx="3889044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F22-CE78-47C5-94A6-396C2DFB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7120" y="2494080"/>
            <a:ext cx="3889044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57120" y="9905760"/>
            <a:ext cx="100868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58560" y="9905760"/>
            <a:ext cx="136875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0720" y="9905760"/>
            <a:ext cx="100868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3977CAD8-7754-41EA-A37C-36E7C6E6D296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"/>
          <p:cNvPicPr/>
          <p:nvPr/>
        </p:nvPicPr>
        <p:blipFill>
          <a:blip r:embed="rId1"/>
          <a:stretch/>
        </p:blipFill>
        <p:spPr>
          <a:xfrm>
            <a:off x="0" y="0"/>
            <a:ext cx="43186320" cy="10688760"/>
          </a:xfrm>
          <a:prstGeom prst="rect">
            <a:avLst/>
          </a:prstGeom>
          <a:ln w="0">
            <a:noFill/>
          </a:ln>
        </p:spPr>
      </p:pic>
      <p:pic>
        <p:nvPicPr>
          <p:cNvPr id="42" name="図 3" descr=""/>
          <p:cNvPicPr/>
          <p:nvPr/>
        </p:nvPicPr>
        <p:blipFill>
          <a:blip r:embed="rId2"/>
          <a:stretch/>
        </p:blipFill>
        <p:spPr>
          <a:xfrm>
            <a:off x="27025560" y="457200"/>
            <a:ext cx="2666880" cy="1866960"/>
          </a:xfrm>
          <a:prstGeom prst="rect">
            <a:avLst/>
          </a:prstGeom>
          <a:ln w="0">
            <a:noFill/>
          </a:ln>
        </p:spPr>
      </p:pic>
      <p:pic>
        <p:nvPicPr>
          <p:cNvPr id="43" name="図 6" descr=""/>
          <p:cNvPicPr/>
          <p:nvPr/>
        </p:nvPicPr>
        <p:blipFill>
          <a:blip r:embed="rId3"/>
          <a:stretch/>
        </p:blipFill>
        <p:spPr>
          <a:xfrm>
            <a:off x="40252680" y="2895480"/>
            <a:ext cx="2666880" cy="1866960"/>
          </a:xfrm>
          <a:prstGeom prst="rect">
            <a:avLst/>
          </a:prstGeom>
          <a:ln w="0">
            <a:noFill/>
          </a:ln>
        </p:spPr>
      </p:pic>
      <p:pic>
        <p:nvPicPr>
          <p:cNvPr id="44" name="図 4" descr=""/>
          <p:cNvPicPr/>
          <p:nvPr/>
        </p:nvPicPr>
        <p:blipFill>
          <a:blip r:embed="rId4"/>
          <a:stretch/>
        </p:blipFill>
        <p:spPr>
          <a:xfrm>
            <a:off x="27686160" y="100080"/>
            <a:ext cx="13282560" cy="10588680"/>
          </a:xfrm>
          <a:prstGeom prst="rect">
            <a:avLst/>
          </a:prstGeom>
          <a:ln w="0">
            <a:noFill/>
          </a:ln>
        </p:spPr>
      </p:pic>
      <p:pic>
        <p:nvPicPr>
          <p:cNvPr id="45" name="正方形/長方形 9" descr=""/>
          <p:cNvPicPr/>
          <p:nvPr/>
        </p:nvPicPr>
        <p:blipFill>
          <a:blip r:embed="rId5"/>
          <a:stretch/>
        </p:blipFill>
        <p:spPr>
          <a:xfrm>
            <a:off x="1652760" y="1042920"/>
            <a:ext cx="24426720" cy="674856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18"/>
          <p:cNvSpPr/>
          <p:nvPr/>
        </p:nvSpPr>
        <p:spPr>
          <a:xfrm>
            <a:off x="1650960" y="8636040"/>
            <a:ext cx="28041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キャンペーン期間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: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００００年００月００日（金）</a:t>
            </a:r>
            <a:r>
              <a:rPr b="0" lang="en-US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〜</a:t>
            </a: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００月００日（日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図 2" descr=""/>
          <p:cNvPicPr/>
          <p:nvPr/>
        </p:nvPicPr>
        <p:blipFill>
          <a:blip r:embed="rId6"/>
          <a:stretch/>
        </p:blipFill>
        <p:spPr>
          <a:xfrm>
            <a:off x="28866960" y="457200"/>
            <a:ext cx="11773080" cy="97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sugimura yuki(杉村 有希 TEC □ＲＳ本□ＲＳＳＳ□エリア・ＢＰ推進)</cp:lastModifiedBy>
  <dcterms:modified xsi:type="dcterms:W3CDTF">2025-10-02T04:55:42Z</dcterms:modified>
  <cp:revision>19</cp:revision>
  <dc:subject/>
  <dc:title>PowerPoint プレゼンテーション</dc:title>
</cp:coreProperties>
</file>