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799763" cy="43206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000240" y="685440"/>
            <a:ext cx="857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83E9-2E90-4026-98F7-0234DCCDF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D1B-D456-4039-99AF-7C8D857A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3000240" y="685800"/>
            <a:ext cx="85752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4FF8-2BF3-47CE-ACC1-6955757C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625-229E-46CB-9ED8-76964C8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C8A-1584-44AF-9734-5D74EAC40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008036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24973920"/>
            <a:ext cx="31302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89000"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5C6-E786-40D8-85C1-EAD95871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8DD-AB60-4323-8782-AB96ACE4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C4EC-B1A5-40B1-A06A-564B6A6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69C1-8E33-41A9-AB56-DB5F0B38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052-4B98-4A3C-9E34-AA27DF5D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1730520"/>
            <a:ext cx="9721800" cy="3337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976-C309-415E-931E-1B67BBED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DD1-12D3-460C-85D8-C82251A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2497392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9C6A-C507-4E44-8961-DB7B618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0080360"/>
            <a:ext cx="474408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24973920"/>
            <a:ext cx="9721800" cy="1360116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3084480"/>
                <a:tab algn="l" pos="6168960"/>
                <a:tab algn="l" pos="9253440"/>
              </a:tabLst>
            </a:pP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1A7-AFAF-4554-9955-8708134B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1730520"/>
            <a:ext cx="9721800" cy="72007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ctr">
            <a:noAutofit/>
          </a:bodyPr>
          <a:p>
            <a:pPr indent="0" algn="ctr">
              <a:buNone/>
              <a:tabLst>
                <a:tab algn="l" pos="0"/>
                <a:tab algn="l" pos="3084480"/>
                <a:tab algn="l" pos="6168960"/>
                <a:tab algn="l" pos="925344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0080360"/>
            <a:ext cx="9721800" cy="2851452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rmAutofit fontScale="76000"/>
          </a:bodyPr>
          <a:p>
            <a:pPr marL="878040" indent="-8780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1" marL="1904760" indent="-7322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2" marL="2930400" indent="-584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3" marL="4102920" indent="-584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4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5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 lvl="6" marL="5275800" indent="-58500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3084480"/>
                <a:tab algn="l" pos="6168960"/>
                <a:tab algn="l" pos="925344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39344760"/>
            <a:ext cx="25210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39344760"/>
            <a:ext cx="341928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39344760"/>
            <a:ext cx="2520720" cy="3000240"/>
          </a:xfrm>
          <a:prstGeom prst="rect">
            <a:avLst/>
          </a:prstGeom>
          <a:noFill/>
          <a:ln w="0">
            <a:noFill/>
          </a:ln>
        </p:spPr>
        <p:txBody>
          <a:bodyPr lIns="308520" rIns="308520" tIns="154440" bIns="154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920-B166-4F10-B986-42CE80527CFC}" type="slidenum">
              <a:rPr b="0" lang="en-US" sz="4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2" descr=""/>
          <p:cNvPicPr/>
          <p:nvPr/>
        </p:nvPicPr>
        <p:blipFill>
          <a:blip r:embed="rId1"/>
          <a:stretch/>
        </p:blipFill>
        <p:spPr>
          <a:xfrm>
            <a:off x="942840" y="1368360"/>
            <a:ext cx="8915400" cy="123127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6"/>
          <p:cNvSpPr/>
          <p:nvPr/>
        </p:nvSpPr>
        <p:spPr>
          <a:xfrm>
            <a:off x="-71280" y="0"/>
            <a:ext cx="10845720" cy="432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正方形/長方形 56"/>
          <p:cNvSpPr/>
          <p:nvPr/>
        </p:nvSpPr>
        <p:spPr>
          <a:xfrm>
            <a:off x="0" y="24266520"/>
            <a:ext cx="10801440" cy="18938880"/>
          </a:xfrm>
          <a:prstGeom prst="rect">
            <a:avLst/>
          </a:prstGeom>
          <a:gradFill rotWithShape="0">
            <a:gsLst>
              <a:gs pos="0">
                <a:srgbClr val="ffc7b6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3084480"/>
                <a:tab algn="l" pos="6168960"/>
                <a:tab algn="l" pos="925344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-1094760" y="14546160"/>
            <a:ext cx="6279480" cy="9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テック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6"/>
          <p:cNvSpPr/>
          <p:nvPr/>
        </p:nvSpPr>
        <p:spPr>
          <a:xfrm>
            <a:off x="2672280" y="14546160"/>
            <a:ext cx="6279480" cy="9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東芝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図 4" descr=""/>
          <p:cNvPicPr/>
          <p:nvPr/>
        </p:nvPicPr>
        <p:blipFill>
          <a:blip r:embed="rId2"/>
          <a:stretch/>
        </p:blipFill>
        <p:spPr>
          <a:xfrm>
            <a:off x="3530520" y="25418880"/>
            <a:ext cx="3721320" cy="162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5T03:20:36Z</dcterms:created>
  <dc:creator>NEC-PCuser</dc:creator>
  <dc:description/>
  <dc:language>en-US</dc:language>
  <cp:lastModifiedBy>Jean</cp:lastModifiedBy>
  <cp:lastPrinted>2013-02-13T12:01:23Z</cp:lastPrinted>
  <dcterms:modified xsi:type="dcterms:W3CDTF">2013-02-15T02:33:00Z</dcterms:modified>
  <cp:revision>12</cp:revision>
  <dc:subject/>
  <dc:title>スライド 1</dc:title>
</cp:coreProperties>
</file>