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1512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938-1B52-4CF3-A9D8-FCF7A1B8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064-A9B0-4ED4-8CD2-E5973708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FB9-0564-43E3-864E-3378ACF7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352872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8740800"/>
            <a:ext cx="3098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B1A-90CC-4910-BE62-84DE43E1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795-6458-4BA8-95FF-36C4143C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E73-B754-4C19-AAF9-D0D526F9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965-7695-4636-9F37-509DEBE6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F20-1484-46BA-B19F-06720E1B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604440"/>
            <a:ext cx="962352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A24-54B9-448F-873F-F59393B9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A52-6272-48DF-9698-718CFC1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874080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D63-8E6A-446B-967D-229CF4B4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3528720"/>
            <a:ext cx="469620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8740800"/>
            <a:ext cx="9623520" cy="4759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F47-4695-403C-AB72-B04AF02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604440"/>
            <a:ext cx="9623520" cy="25210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3528720"/>
            <a:ext cx="9623520" cy="99788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13771080"/>
            <a:ext cx="338760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13771080"/>
            <a:ext cx="2495520" cy="104940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1A44E680-FD45-40A5-A9ED-457EC8FEAF2F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おこしやす背景"/>
          <p:cNvPicPr/>
          <p:nvPr/>
        </p:nvPicPr>
        <p:blipFill>
          <a:blip r:embed="rId1"/>
          <a:stretch/>
        </p:blipFill>
        <p:spPr>
          <a:xfrm>
            <a:off x="0" y="0"/>
            <a:ext cx="10693440" cy="15122520"/>
          </a:xfrm>
          <a:prstGeom prst="rect">
            <a:avLst/>
          </a:prstGeom>
          <a:ln w="0">
            <a:noFill/>
          </a:ln>
        </p:spPr>
      </p:pic>
      <p:pic>
        <p:nvPicPr>
          <p:cNvPr id="42" name="図 1" descr=""/>
          <p:cNvPicPr/>
          <p:nvPr/>
        </p:nvPicPr>
        <p:blipFill>
          <a:blip r:embed="rId2"/>
          <a:stretch/>
        </p:blipFill>
        <p:spPr>
          <a:xfrm>
            <a:off x="1514520" y="2395440"/>
            <a:ext cx="7664400" cy="1614600"/>
          </a:xfrm>
          <a:prstGeom prst="rect">
            <a:avLst/>
          </a:prstGeom>
          <a:ln w="0">
            <a:noFill/>
          </a:ln>
        </p:spPr>
      </p:pic>
      <p:pic>
        <p:nvPicPr>
          <p:cNvPr id="43" name="図 3" descr=""/>
          <p:cNvPicPr/>
          <p:nvPr/>
        </p:nvPicPr>
        <p:blipFill>
          <a:blip r:embed="rId3"/>
          <a:stretch/>
        </p:blipFill>
        <p:spPr>
          <a:xfrm>
            <a:off x="717480" y="10665000"/>
            <a:ext cx="9334440" cy="2063520"/>
          </a:xfrm>
          <a:prstGeom prst="rect">
            <a:avLst/>
          </a:prstGeom>
          <a:ln w="0">
            <a:noFill/>
          </a:ln>
        </p:spPr>
      </p:pic>
      <p:pic>
        <p:nvPicPr>
          <p:cNvPr id="44" name="図 6" descr=""/>
          <p:cNvPicPr/>
          <p:nvPr/>
        </p:nvPicPr>
        <p:blipFill>
          <a:blip r:embed="rId4"/>
          <a:stretch/>
        </p:blipFill>
        <p:spPr>
          <a:xfrm>
            <a:off x="2898720" y="4537080"/>
            <a:ext cx="48960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08:04:40Z</dcterms:created>
  <dc:creator>fukase3</dc:creator>
  <dc:description/>
  <dc:language>en-US</dc:language>
  <cp:lastModifiedBy>小池　京子</cp:lastModifiedBy>
  <dcterms:modified xsi:type="dcterms:W3CDTF">2016-07-11T02:32:52Z</dcterms:modified>
  <cp:revision>4</cp:revision>
  <dc:subject/>
  <dc:title>スライド 1</dc:title>
</cp:coreProperties>
</file>