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0D2-C21B-4596-BDF0-A29E0C7A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252C-16BB-4FF8-B94E-99299A29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7AB4-1DAE-4CA0-8C47-12ACA22B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AA79-D4BA-49E3-B662-CDAAA71C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FCE3-47D6-4BA8-91E2-74627472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DAB0-65F4-40E3-A8C2-FEF76A5E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AD19-6B52-4700-B5EA-189D73F3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523-62D6-494C-8A77-CFA21026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00A8-0841-4723-906E-F20CBA6F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A8DE-B4C2-4EDE-B32E-B70A5FBE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C5F0-0E7D-49E9-AC92-A1522EDF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1339-BBEC-4AEC-83E8-D0EB3789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920" indent="-5659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737640"/>
            <a:ext cx="13681080" cy="7430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AA004FDD-3B99-485E-A769-422137914D59}" type="slidenum">
              <a:rPr b="0" lang="en-US" sz="4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205400" cy="10693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5339400" y="1236600"/>
            <a:ext cx="4594320" cy="8283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795760" y="7907400"/>
            <a:ext cx="19862640" cy="1270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259000" y="3603600"/>
            <a:ext cx="392936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2:38:39Z</dcterms:created>
  <dc:creator>fukase3</dc:creator>
  <dc:description/>
  <dc:language>en-US</dc:language>
  <cp:lastModifiedBy>fukase3</cp:lastModifiedBy>
  <dcterms:modified xsi:type="dcterms:W3CDTF">2009-05-12T02:40:57Z</dcterms:modified>
  <cp:revision>1</cp:revision>
  <dc:subject/>
  <dc:title>スライド 1</dc:title>
</cp:coreProperties>
</file>