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FF9-708E-4F99-9CAA-C06261FB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B79-0A4A-439B-91C6-6899897C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AF0-43DF-433B-B657-6CF4CAB8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A8C-5693-48DC-8C47-85D8BCCB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CE6-F381-4CC2-9D4C-400277BA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079-CE3A-4378-9021-EF9024CE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1B2-076E-4AF6-B31E-C8AB0431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973-A251-4EBE-99EA-6F59689F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71A-416D-4224-AD63-53745B52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CDD-75FE-4D6F-82EE-65520832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1B6-B101-4B52-B8D4-3A8E9E0F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188-EB1B-4719-8CB4-742A0E93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4600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844640" indent="-36972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737640"/>
            <a:ext cx="478764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7858CA09-ED3C-4C86-8C2E-E2338645477C}" type="slidenum">
              <a:rPr b="0" lang="en-US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122520" cy="1069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790360" y="7408800"/>
            <a:ext cx="3274920" cy="354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81160" y="5902200"/>
            <a:ext cx="11720520" cy="1414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615600" cy="1069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90960" y="6991200"/>
            <a:ext cx="51962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3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250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4:35:41Z</dcterms:created>
  <dc:creator>fukase3</dc:creator>
  <dc:description/>
  <dc:language>en-US</dc:language>
  <cp:lastModifiedBy>TTBS</cp:lastModifiedBy>
  <dcterms:modified xsi:type="dcterms:W3CDTF">2009-06-09T05:33:35Z</dcterms:modified>
  <cp:revision>4</cp:revision>
  <dc:subject/>
  <dc:title>スライド 1</dc:title>
</cp:coreProperties>
</file>