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2BC-3683-485A-8655-BD91EA60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50D-D464-400F-A726-6DA0DAA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8D4-D308-4C20-9BC3-01755F1B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3EA-1D81-4257-A4D0-37A7EC50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2C1-8D11-4632-A6DC-978B582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ABF-CFE2-4AE5-8E09-4EF6259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C36-8EA4-4C5D-ABC2-8E545DB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29-2081-4734-86BD-4FF0B32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4F9-0976-498E-A9AA-1F227C62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652-DEB8-4C79-ADCE-67DFB0C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C33-B155-42E3-9893-956FD7A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FF4-D7B5-458A-A3F7-60EE82C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737640"/>
            <a:ext cx="1026180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1EC7BB6B-4FFB-4E33-9181-2156015BB5FD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45920" y="0"/>
            <a:ext cx="20858040" cy="10696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57080" y="3062160"/>
            <a:ext cx="4029120" cy="358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789000" y="3040200"/>
            <a:ext cx="4109760" cy="364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326240" y="3054240"/>
            <a:ext cx="4232160" cy="362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2547440" cy="1069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8040" y="6594480"/>
            <a:ext cx="1003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□□□□□□□□□□□□□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3960" y="311040"/>
            <a:ext cx="100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第１５回　レディースゴルフキャンペー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7800" y="230652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□□□□□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6320" y="3429000"/>
            <a:ext cx="6962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毎年恒例となりました、豪華景品も当たるキャンペーンの季節になってまいりました。皆様奮ってご参加くださ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お待ちしており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期間：２００９年○月○日（土）～○月○日（日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4760" y="7591320"/>
            <a:ext cx="100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入賞された方には、豪華景品をプレゼント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25760" y="4932360"/>
            <a:ext cx="271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027080" y="417600"/>
            <a:ext cx="60948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06320" y="7709040"/>
            <a:ext cx="110988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11072880" y="417600"/>
            <a:ext cx="6094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11088720" y="7710480"/>
            <a:ext cx="1131840" cy="183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1141560" y="2741760"/>
            <a:ext cx="2581200" cy="354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9310680" y="2681280"/>
            <a:ext cx="2581200" cy="354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934920" y="6108840"/>
            <a:ext cx="11138040" cy="111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9120" y="9601200"/>
            <a:ext cx="11347200" cy="290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0080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9000" y="1255680"/>
            <a:ext cx="11347560" cy="2905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0080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782800" y="1752480"/>
            <a:ext cx="7299360" cy="127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49840" y="2173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お待たせいたしまし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4360" y="6318360"/>
            <a:ext cx="68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ゴルフクラブレディース開催キャンペー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60600" y="8521560"/>
            <a:ext cx="100346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C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ゴルフクラブ事務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L.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03-0000-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739240" y="4932360"/>
            <a:ext cx="27190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5240" y="4932360"/>
            <a:ext cx="2719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0" y="8475840"/>
            <a:ext cx="2719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529880" y="8475840"/>
            <a:ext cx="2719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5880" y="8475840"/>
            <a:ext cx="2719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ドライ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5:16:30Z</dcterms:created>
  <dc:creator>fukase3</dc:creator>
  <dc:description/>
  <dc:language>en-US</dc:language>
  <cp:lastModifiedBy>TTBS</cp:lastModifiedBy>
  <dcterms:modified xsi:type="dcterms:W3CDTF">2009-06-01T06:32:55Z</dcterms:modified>
  <cp:revision>10</cp:revision>
  <dc:subject/>
  <dc:title>スライド 1</dc:title>
</cp:coreProperties>
</file>