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7B8-27D5-4C16-8D2C-5D1482A7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4E1-2FA3-442A-8245-5EE7E3CB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F9D-EA01-46AC-A04D-F99F67E7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31E-FD28-465C-80D2-B1FE609A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F9A-BA80-46CE-A403-5170CB4B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D43-FEB8-4E0D-ADC9-8DE6906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6CC-03F3-4636-9547-6ECD5AF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234-6B03-4613-BAE1-0F888241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65-D863-4B16-8FD3-5234884A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569-56E1-49CF-AD74-1AE2907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9C0-8C7B-4114-A186-AD630B6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D9C-0345-4C2F-B7E6-445473F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D3F-5EBE-4326-80D3-02DF7529FE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714760" y="2286000"/>
            <a:ext cx="32893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2711520" y="2289240"/>
            <a:ext cx="3286080" cy="19908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8"/>
          <p:cNvSpPr/>
          <p:nvPr/>
        </p:nvSpPr>
        <p:spPr>
          <a:xfrm>
            <a:off x="2720880" y="2292480"/>
            <a:ext cx="3276720" cy="1981080"/>
          </a:xfrm>
          <a:prstGeom prst="pie">
            <a:avLst/>
          </a:prstGeom>
          <a:noFill/>
          <a:ln w="0">
            <a:solidFill>
              <a:srgbClr val="c7b96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2743200" y="2317680"/>
            <a:ext cx="3228840" cy="193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グループ化 96"/>
          <p:cNvGrpSpPr/>
          <p:nvPr/>
        </p:nvGrpSpPr>
        <p:grpSpPr>
          <a:xfrm>
            <a:off x="2743200" y="3927600"/>
            <a:ext cx="3228840" cy="196560"/>
            <a:chOff x="2743200" y="3927600"/>
            <a:chExt cx="3228840" cy="196560"/>
          </a:xfrm>
        </p:grpSpPr>
        <p:sp>
          <p:nvSpPr>
            <p:cNvPr id="46" name="Rectangle 28"/>
            <p:cNvSpPr/>
            <p:nvPr/>
          </p:nvSpPr>
          <p:spPr>
            <a:xfrm>
              <a:off x="2743200" y="3927600"/>
              <a:ext cx="3228840" cy="196560"/>
            </a:xfrm>
            <a:prstGeom prst="rect">
              <a:avLst/>
            </a:prstGeom>
            <a:solidFill>
              <a:srgbClr val="6e6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3673440" y="3994200"/>
              <a:ext cx="1015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3800520" y="3990960"/>
              <a:ext cx="792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3905280" y="3981240"/>
              <a:ext cx="7920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4006800" y="3978360"/>
              <a:ext cx="698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4114800" y="4013280"/>
              <a:ext cx="219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4172040" y="3978360"/>
              <a:ext cx="8244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4279680" y="39844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4381560" y="3978360"/>
              <a:ext cx="568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4464000" y="3978360"/>
              <a:ext cx="6660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4562280" y="4010040"/>
              <a:ext cx="88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4673520" y="3971880"/>
              <a:ext cx="10764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4800600" y="3971880"/>
              <a:ext cx="10476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4927680" y="3971880"/>
              <a:ext cx="1015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グループ化 94"/>
          <p:cNvGrpSpPr/>
          <p:nvPr/>
        </p:nvGrpSpPr>
        <p:grpSpPr>
          <a:xfrm>
            <a:off x="3073320" y="2746440"/>
            <a:ext cx="2575080" cy="609480"/>
            <a:chOff x="3073320" y="2746440"/>
            <a:chExt cx="2575080" cy="609480"/>
          </a:xfrm>
        </p:grpSpPr>
        <p:sp>
          <p:nvSpPr>
            <p:cNvPr id="61" name="Freeform 10"/>
            <p:cNvSpPr/>
            <p:nvPr/>
          </p:nvSpPr>
          <p:spPr>
            <a:xfrm>
              <a:off x="3558960" y="2749320"/>
              <a:ext cx="228600" cy="26028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3806640" y="2832120"/>
              <a:ext cx="133200" cy="17784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959280" y="2841480"/>
              <a:ext cx="164880" cy="17136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4146480" y="2832120"/>
              <a:ext cx="330120" cy="17784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4486320" y="2746440"/>
              <a:ext cx="104760" cy="26352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4603680" y="2847960"/>
              <a:ext cx="212760" cy="16488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4829400" y="2832120"/>
              <a:ext cx="333360" cy="17784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3073320" y="3089160"/>
              <a:ext cx="355320" cy="26028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3454200" y="3178080"/>
              <a:ext cx="161640" cy="17460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3638520" y="3171960"/>
              <a:ext cx="333360" cy="17784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3984480" y="3086280"/>
              <a:ext cx="203040" cy="26676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4216320" y="3178080"/>
              <a:ext cx="161640" cy="17460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4400640" y="3171960"/>
              <a:ext cx="133200" cy="17460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4559400" y="3178080"/>
              <a:ext cx="133200" cy="17460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4829400" y="3086280"/>
              <a:ext cx="247680" cy="26676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5108760" y="3178080"/>
              <a:ext cx="171360" cy="17136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5293080" y="3171960"/>
              <a:ext cx="133200" cy="17460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5442120" y="3083040"/>
              <a:ext cx="206280" cy="272880"/>
            </a:xfrm>
            <a:prstGeom prst="pie">
              <a:avLst/>
            </a:prstGeom>
            <a:solidFill>
              <a:srgbClr val="db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3126960" y="2870280"/>
              <a:ext cx="333360" cy="114120"/>
            </a:xfrm>
            <a:prstGeom prst="pie">
              <a:avLst/>
            </a:prstGeom>
            <a:solidFill>
              <a:srgbClr val="b6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5251680" y="2870280"/>
              <a:ext cx="333360" cy="114120"/>
            </a:xfrm>
            <a:prstGeom prst="pie">
              <a:avLst/>
            </a:prstGeom>
            <a:solidFill>
              <a:srgbClr val="b6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グループ化 95"/>
          <p:cNvGrpSpPr/>
          <p:nvPr/>
        </p:nvGrpSpPr>
        <p:grpSpPr>
          <a:xfrm>
            <a:off x="3575160" y="3505320"/>
            <a:ext cx="1609560" cy="168120"/>
            <a:chOff x="3575160" y="3505320"/>
            <a:chExt cx="1609560" cy="168120"/>
          </a:xfrm>
        </p:grpSpPr>
        <p:sp>
          <p:nvSpPr>
            <p:cNvPr id="82" name="Freeform 44"/>
            <p:cNvSpPr/>
            <p:nvPr/>
          </p:nvSpPr>
          <p:spPr>
            <a:xfrm>
              <a:off x="3575160" y="3540240"/>
              <a:ext cx="507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635280" y="3568680"/>
              <a:ext cx="568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701880" y="3568680"/>
              <a:ext cx="698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816360" y="3540240"/>
              <a:ext cx="824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3911400" y="3568680"/>
              <a:ext cx="3492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3949560" y="3571920"/>
              <a:ext cx="6336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4019400" y="3568680"/>
              <a:ext cx="442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4070520" y="3552840"/>
              <a:ext cx="349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4108320" y="3568680"/>
              <a:ext cx="6012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4184640" y="3533760"/>
              <a:ext cx="126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4489560" y="3540240"/>
              <a:ext cx="7920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4578480" y="3568680"/>
              <a:ext cx="6660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660920" y="3568680"/>
              <a:ext cx="5364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727520" y="3552840"/>
              <a:ext cx="349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4772160" y="3568680"/>
              <a:ext cx="3492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4810320" y="3571920"/>
              <a:ext cx="6336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4918320" y="3540240"/>
              <a:ext cx="7920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016600" y="3533760"/>
              <a:ext cx="936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048280" y="3571920"/>
              <a:ext cx="5688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121360" y="3533760"/>
              <a:ext cx="63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4280040" y="3517920"/>
              <a:ext cx="1396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4388040" y="3625920"/>
              <a:ext cx="316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4260960" y="3517920"/>
              <a:ext cx="284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4260960" y="3511440"/>
              <a:ext cx="14904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4381560" y="3514680"/>
              <a:ext cx="6012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3575160" y="3533760"/>
              <a:ext cx="5076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3635280" y="3562200"/>
              <a:ext cx="5688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3701880" y="3562200"/>
              <a:ext cx="698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3816360" y="3530520"/>
              <a:ext cx="824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3911400" y="3562200"/>
              <a:ext cx="349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3949560" y="3562200"/>
              <a:ext cx="6336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4019400" y="3562200"/>
              <a:ext cx="4428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4070520" y="3543120"/>
              <a:ext cx="349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4108320" y="3562200"/>
              <a:ext cx="601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4184640" y="3524040"/>
              <a:ext cx="1260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4489560" y="3530520"/>
              <a:ext cx="7920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4578480" y="3562200"/>
              <a:ext cx="6660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4660920" y="3562200"/>
              <a:ext cx="536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4727520" y="3543120"/>
              <a:ext cx="349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4772160" y="3562200"/>
              <a:ext cx="349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4810320" y="3562200"/>
              <a:ext cx="6336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4918320" y="3530520"/>
              <a:ext cx="7920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5016600" y="3524040"/>
              <a:ext cx="936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5048280" y="3562200"/>
              <a:ext cx="5688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5121360" y="3524040"/>
              <a:ext cx="6336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4280040" y="3511440"/>
              <a:ext cx="13968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4388040" y="3619440"/>
              <a:ext cx="316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4260960" y="3511440"/>
              <a:ext cx="284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4260960" y="3505320"/>
              <a:ext cx="1490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4381560" y="3505320"/>
              <a:ext cx="6012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45:49Z</dcterms:created>
  <dc:creator>moosawa</dc:creator>
  <dc:description/>
  <dc:language>en-US</dc:language>
  <cp:lastModifiedBy>moosawa</cp:lastModifiedBy>
  <dcterms:modified xsi:type="dcterms:W3CDTF">2009-05-29T00:48:05Z</dcterms:modified>
  <cp:revision>1</cp:revision>
  <dc:subject/>
  <dc:title>スライド 1</dc:title>
</cp:coreProperties>
</file>