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982-B871-491E-9BF3-02613B34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34F-267D-41C4-860F-317F2E6B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B79-5862-494A-B68C-A71CFB6E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A74-509C-441E-9D0A-2282DA73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E75-A581-4984-9BF4-CA3CE128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E8B-1F32-4D1F-BDF4-7CD9000A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10B-CBA2-4A09-A074-FF9E58F9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0B6A-25EB-4903-BD32-70F88167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27EF-0A5A-4A27-8D71-9FE7A52E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E540-8030-4EF6-93BC-0373DDA6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D62-A696-4AD3-8605-CFBDF6CB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721-8413-475A-B298-6F96F679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4600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2" marL="1844640" indent="-36972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4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5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6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737640"/>
            <a:ext cx="478764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99EB21BD-69F1-4DB7-81E8-0FAB209CD3BF}" type="slidenum">
              <a:rPr b="0" lang="en-US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5122520" cy="1069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5122520" cy="59040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-360" y="10101960"/>
            <a:ext cx="15122520" cy="590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9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121360" y="1727280"/>
            <a:ext cx="4879800" cy="4295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9520" y="6915240"/>
            <a:ext cx="1408104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1:34:32Z</dcterms:created>
  <dc:creator>fukase3</dc:creator>
  <dc:description/>
  <dc:language>en-US</dc:language>
  <cp:lastModifiedBy>fukase3</cp:lastModifiedBy>
  <dcterms:modified xsi:type="dcterms:W3CDTF">2009-05-11T01:42:41Z</dcterms:modified>
  <cp:revision>1</cp:revision>
  <dc:subject/>
  <dc:title>スライド 1</dc:title>
</cp:coreProperties>
</file>