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313-5FEB-4CD4-A635-067CFEB9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-70200"/>
            <a:ext cx="9623520" cy="3873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611-46E0-4A36-9BB7-CA9F30A5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-70200"/>
            <a:ext cx="9623520" cy="3873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A8B-2062-47F8-804B-408ADBEF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-70200"/>
            <a:ext cx="9623520" cy="3873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85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85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85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85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85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85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1DD-0AAC-4008-B6F1-1B9E7D5E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-70200"/>
            <a:ext cx="9623520" cy="3873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707-D1C6-4903-A016-6C767B96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-70200"/>
            <a:ext cx="9623520" cy="3873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5C0-0858-403E-9858-65A8932F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-70200"/>
            <a:ext cx="9623520" cy="3873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976-5923-4E17-A72F-F426E3A6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-70200"/>
            <a:ext cx="9623520" cy="3873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641-7F7A-4986-8B45-9CFCCD76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606600"/>
            <a:ext cx="962352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D4E-4CE3-48CA-A11B-3C338395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-70200"/>
            <a:ext cx="9623520" cy="3873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FE4-E5A9-4FD6-8B9B-46479BD0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-70200"/>
            <a:ext cx="9623520" cy="3873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50B-33CF-497D-9DAA-538B4F00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-70200"/>
            <a:ext cx="9623520" cy="3873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5D8-1601-40DE-9CF4-7B2849C3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606600"/>
            <a:ext cx="9623520" cy="25192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3771080"/>
            <a:ext cx="2495520" cy="10494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4360" y="13771080"/>
            <a:ext cx="3384720" cy="10494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13771080"/>
            <a:ext cx="2495520" cy="10494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9D21D2AD-D2B7-41BC-BEAB-6E0C52D6538F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15122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1640" cy="1512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59080" y="14041440"/>
            <a:ext cx="4327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88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－テックカントリーゴルフクラブ－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0720" y="720720"/>
            <a:ext cx="9864720" cy="1722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098720" y="12520440"/>
            <a:ext cx="87120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7:13:47Z</dcterms:created>
  <dc:creator>****</dc:creator>
  <dc:description/>
  <dc:language>en-US</dc:language>
  <cp:lastModifiedBy>****</cp:lastModifiedBy>
  <dcterms:modified xsi:type="dcterms:W3CDTF">2009-05-21T08:30:45Z</dcterms:modified>
  <cp:revision>23</cp:revision>
  <dc:subject/>
  <dc:title>スライド 1</dc:title>
</cp:coreProperties>
</file>