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124113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B1A3-CD06-46B0-B9C1-E3AF9014C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289080"/>
            <a:ext cx="1361124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E553-4D7D-4909-9DE9-8B1FF13A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289080"/>
            <a:ext cx="1361124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C480-241B-47CE-9C28-ACE5B91AC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289080"/>
            <a:ext cx="1361124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78000"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752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78000"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5976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78000"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28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78000"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5752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78000"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95976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78000"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67B6-C8E4-4813-9CE4-063749BFE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289080"/>
            <a:ext cx="1361124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49"/>
              </a:spcBef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0A25-DD61-41FF-B14C-4543453D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289080"/>
            <a:ext cx="1361124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F5B3-9616-481C-B98A-73CEB9C2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289080"/>
            <a:ext cx="1361124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2793-E074-430D-9676-E0F4D237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289080"/>
            <a:ext cx="1361124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BA32-581D-42C4-B088-B20A3ECF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428400"/>
            <a:ext cx="136112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49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B533-AC16-48A2-8E2B-8886536A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289080"/>
            <a:ext cx="1361124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78DA-4619-49A0-8049-16E78BFF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289080"/>
            <a:ext cx="1361124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EE61-7671-434A-A8CE-0C9C1EEF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289080"/>
            <a:ext cx="1361124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8013-8F2C-4089-8704-0063FC5B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62000"/>
          </a:bodyPr>
          <a:p>
            <a:pPr marL="572400" indent="-57240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1" marL="1239840" indent="-47628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2" marL="1908360" indent="-38160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3" marL="2671920" indent="-38160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4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5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6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5280" y="9737640"/>
            <a:ext cx="3529080" cy="7430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lstStyle>
            <a:lvl1pPr indent="0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  <a:defRPr b="0" lang="en-US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67080" y="9737640"/>
            <a:ext cx="4787640" cy="7430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lstStyle>
            <a:lvl1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  <a:defRPr b="0" lang="en-US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837440" y="9737640"/>
            <a:ext cx="3529080" cy="7430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lstStyle>
            <a:lvl1pPr indent="0" algn="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  <a:defRPr b="0" lang="en-US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fld id="{5966B8CC-CFD6-4E21-B666-1C21C110CC49}" type="slidenum">
              <a:rPr b="0" lang="en-US" sz="3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122520" cy="10691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640720" y="9667800"/>
            <a:ext cx="6120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Arial"/>
              </a:rPr>
              <a:t>テックカントリーゴルフクラ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962840" y="1403280"/>
            <a:ext cx="6438960" cy="7688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49440" y="1314360"/>
            <a:ext cx="60483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07:13:47Z</dcterms:created>
  <dc:creator>****</dc:creator>
  <dc:description/>
  <dc:language>en-US</dc:language>
  <cp:lastModifiedBy>****</cp:lastModifiedBy>
  <dcterms:modified xsi:type="dcterms:W3CDTF">2009-05-21T08:19:09Z</dcterms:modified>
  <cp:revision>15</cp:revision>
  <dc:subject/>
  <dc:title>スライド 1</dc:title>
</cp:coreProperties>
</file>