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EC2-8F96-4187-B081-AC4F3AC2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C7B-9652-4DA8-8D90-C449E0C8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C0D-2AA2-4436-A929-6E59AA28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263-70D2-492B-AE4E-2E232596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1663-141D-4FA7-A9E5-BDCD4740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00E-2089-41F2-89A5-13F84B87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056-78DC-490C-BE36-7DD4F43D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BD1-E722-4E5C-9E46-13183491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2754-F386-44A3-B633-F1F7DC39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DD3-DEAC-4134-877C-D044BEEC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86F-4E7B-4784-9ACF-40A3B07E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D51-3313-481A-847D-448F4015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2400" indent="-5724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1908360" indent="-3816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2671920" indent="-38160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737640"/>
            <a:ext cx="478764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C4391B5C-42D9-4054-ADC6-1AA7A4E15BFE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122520" cy="10691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640720" y="9667800"/>
            <a:ext cx="6120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Arial"/>
              </a:rPr>
              <a:t>テックカントリーゴルフクラ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9440" y="1339920"/>
            <a:ext cx="6696000" cy="2638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45280" y="1214280"/>
            <a:ext cx="651528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7:13:47Z</dcterms:created>
  <dc:creator>****</dc:creator>
  <dc:description/>
  <dc:language>en-US</dc:language>
  <cp:lastModifiedBy>****</cp:lastModifiedBy>
  <dcterms:modified xsi:type="dcterms:W3CDTF">2009-05-21T08:21:39Z</dcterms:modified>
  <cp:revision>16</cp:revision>
  <dc:subject/>
  <dc:title>スライド 1</dc:title>
</cp:coreProperties>
</file>