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8799-EB3B-4D91-8A78-5DD71224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AF6-FBC4-4409-9F31-3B0B45BD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ED7-93C0-4251-85DE-44EAD64D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32F-2D59-4606-B34E-BC0CAF9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78E-F2F8-44A4-9866-0AD64607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3E4-5998-48B9-89AB-990C8697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903-2D16-437F-8248-9F52494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AD0-2E48-4AA2-86E8-C6A124E9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E39-EB7A-4E73-87C9-284AB455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053-5E69-4F4D-9946-5E3A021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1ED-D54B-469F-A5FD-14C1C78F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C65-7CE3-4668-813E-66B1B1E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147-6DAA-4EBB-A266-39CA49C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690-1F81-4499-83F1-329D571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7E92-B0F4-46FC-942D-42DFA7AD60D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0" y="274680"/>
            <a:ext cx="12801600" cy="90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4680" y="274680"/>
            <a:ext cx="12785760" cy="90439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22"/>
          <p:cNvSpPr/>
          <p:nvPr/>
        </p:nvSpPr>
        <p:spPr>
          <a:xfrm>
            <a:off x="560520" y="839880"/>
            <a:ext cx="1574640" cy="158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3"/>
          <p:cNvSpPr/>
          <p:nvPr/>
        </p:nvSpPr>
        <p:spPr>
          <a:xfrm>
            <a:off x="2395440" y="923760"/>
            <a:ext cx="1249560" cy="144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936960" y="947880"/>
            <a:ext cx="1508040" cy="138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5740560" y="923760"/>
            <a:ext cx="1249200" cy="144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6"/>
          <p:cNvSpPr/>
          <p:nvPr/>
        </p:nvSpPr>
        <p:spPr>
          <a:xfrm>
            <a:off x="7257960" y="861840"/>
            <a:ext cx="1555920" cy="154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7"/>
          <p:cNvSpPr/>
          <p:nvPr/>
        </p:nvSpPr>
        <p:spPr>
          <a:xfrm>
            <a:off x="9016920" y="901800"/>
            <a:ext cx="1435320" cy="14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8"/>
          <p:cNvSpPr/>
          <p:nvPr/>
        </p:nvSpPr>
        <p:spPr>
          <a:xfrm>
            <a:off x="3321000" y="3933720"/>
            <a:ext cx="1514520" cy="156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9"/>
          <p:cNvSpPr/>
          <p:nvPr/>
        </p:nvSpPr>
        <p:spPr>
          <a:xfrm>
            <a:off x="7440480" y="3938760"/>
            <a:ext cx="1581120" cy="156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0"/>
          <p:cNvSpPr/>
          <p:nvPr/>
        </p:nvSpPr>
        <p:spPr>
          <a:xfrm>
            <a:off x="9153360" y="4187880"/>
            <a:ext cx="1338480" cy="12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1"/>
          <p:cNvSpPr/>
          <p:nvPr/>
        </p:nvSpPr>
        <p:spPr>
          <a:xfrm>
            <a:off x="10674360" y="4097160"/>
            <a:ext cx="1346040" cy="135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2"/>
          <p:cNvSpPr/>
          <p:nvPr/>
        </p:nvSpPr>
        <p:spPr>
          <a:xfrm>
            <a:off x="12061800" y="4930920"/>
            <a:ext cx="50976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nichibotu"/>
          <p:cNvPicPr/>
          <p:nvPr/>
        </p:nvPicPr>
        <p:blipFill>
          <a:blip r:embed="rId2"/>
          <a:stretch/>
        </p:blipFill>
        <p:spPr>
          <a:xfrm>
            <a:off x="0" y="6168960"/>
            <a:ext cx="128016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37:18Z</dcterms:created>
  <dc:creator>NEC-PCuser</dc:creator>
  <dc:description/>
  <dc:language>en-US</dc:language>
  <cp:lastModifiedBy>moosawa</cp:lastModifiedBy>
  <dcterms:modified xsi:type="dcterms:W3CDTF">2009-05-27T05:14:48Z</dcterms:modified>
  <cp:revision>2</cp:revision>
  <dc:subject/>
  <dc:title>スライド 1</dc:title>
</cp:coreProperties>
</file>