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1512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801B-9C5A-4A5F-AB24-E5BCF06B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9623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8740800"/>
            <a:ext cx="9623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B7C8-31BB-4CC2-9E9E-0FF0D018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874080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874080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DAB8-42D0-4D48-ADB5-E6135CAA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352872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352872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874080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874080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874080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21B2-3A2A-4CE9-A735-CD4E9C07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3528720"/>
            <a:ext cx="9623520" cy="99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B2F1-CC97-4245-B52D-4F4E9DB5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962352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B0C7-CF14-46E7-8D2B-91C800F4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4AB0-B4BD-4028-B2BA-EC769A8A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E1EC-9313-4201-85C6-7298FE2C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604440"/>
            <a:ext cx="9623520" cy="116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9CC9-35C6-4ACB-8CA4-689EA568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874080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7AF5-DF6D-41E1-AE25-BDB3E681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874080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624F-3FBC-4CF9-B789-C292BF5F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8740800"/>
            <a:ext cx="9623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CEB9-45F2-481D-B420-640D5C09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3528720"/>
            <a:ext cx="962352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14015880"/>
            <a:ext cx="249552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14015880"/>
            <a:ext cx="338760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14015880"/>
            <a:ext cx="249552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44C89E52-AD72-4333-9E54-2CCDC7B60687}" type="slidenum">
              <a:rPr b="0" lang="ja-JP" sz="1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-34920" y="-27000"/>
            <a:ext cx="10763280" cy="15211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Documents and Settings\moosawa\My Documents\テックTTBS\エコクリスタル\エコクリ拡販\セールスマニュアル\企画書\パチンコサンプル画像\パチンコ屋POP2\名称未設定-1.png"/>
          <p:cNvPicPr/>
          <p:nvPr/>
        </p:nvPicPr>
        <p:blipFill>
          <a:blip r:embed="rId2"/>
          <a:stretch/>
        </p:blipFill>
        <p:spPr>
          <a:xfrm>
            <a:off x="642960" y="396720"/>
            <a:ext cx="9448920" cy="11258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Documents and Settings\moosawa\My Documents\テックTTBS\エコクリスタル\エコクリ拡販\セールスマニュアル\企画書\パチンコサンプル画像\パチンコ屋POP2\名称未設定-2.png"/>
          <p:cNvPicPr/>
          <p:nvPr/>
        </p:nvPicPr>
        <p:blipFill>
          <a:blip r:embed="rId3"/>
          <a:stretch/>
        </p:blipFill>
        <p:spPr>
          <a:xfrm>
            <a:off x="1703520" y="11764800"/>
            <a:ext cx="739440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1:38:32Z</dcterms:created>
  <dc:creator>moosawa</dc:creator>
  <dc:description/>
  <dc:language>en-US</dc:language>
  <cp:lastModifiedBy>moosawa</cp:lastModifiedBy>
  <dcterms:modified xsi:type="dcterms:W3CDTF">2010-01-13T01:41:56Z</dcterms:modified>
  <cp:revision>1</cp:revision>
  <dc:subject/>
  <dc:title>スライド 1</dc:title>
</cp:coreProperties>
</file>