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62-BEE6-4649-91FD-673B687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B51-5469-4CF2-940B-C15F19C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EB9-C684-4E7C-A9A6-0C0D9F52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7BA-16EC-4306-BF7F-B5842985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2A8-4107-4A2B-A489-73C213AB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020-4713-4405-B6B6-3C469E42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517-BAE1-4A25-8FFC-280F12D3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63E-4C36-4E99-BE7E-D81445A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83E-5841-4172-AD6A-C4827C5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8FF-41DA-4C14-B48E-8359FECE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71E-5327-44FE-A843-022A576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570-506C-41B6-9261-04460230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F01-299D-4B2A-A067-042443CC4E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moosawa\My Documents\テックTTBS\エコクリスタル\エコクリ拡販\セールスマニュアル\企画書\パチンコサンプル画像\パチンコ屋POP3\名称未設定-1.png"/>
          <p:cNvPicPr/>
          <p:nvPr/>
        </p:nvPicPr>
        <p:blipFill>
          <a:blip r:embed="rId1"/>
          <a:stretch/>
        </p:blipFill>
        <p:spPr>
          <a:xfrm>
            <a:off x="311040" y="5486400"/>
            <a:ext cx="5023080" cy="5021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moosawa\My Documents\テックTTBS\エコクリスタル\エコクリ拡販\セールスマニュアル\企画書\パチンコサンプル画像\パチンコ屋POP3\名称未設定-2.png"/>
          <p:cNvPicPr/>
          <p:nvPr/>
        </p:nvPicPr>
        <p:blipFill>
          <a:blip r:embed="rId2"/>
          <a:stretch/>
        </p:blipFill>
        <p:spPr>
          <a:xfrm>
            <a:off x="722160" y="7050240"/>
            <a:ext cx="3187800" cy="306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moosawa\My Documents\テックTTBS\エコクリスタル\エコクリ拡販\セールスマニュアル\企画書\パチンコサンプル画像\パチンコ屋POP3\名称未設定-3.png"/>
          <p:cNvPicPr/>
          <p:nvPr/>
        </p:nvPicPr>
        <p:blipFill>
          <a:blip r:embed="rId3"/>
          <a:stretch/>
        </p:blipFill>
        <p:spPr>
          <a:xfrm>
            <a:off x="606600" y="8193240"/>
            <a:ext cx="2097000" cy="208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moosawa\My Documents\テックTTBS\エコクリスタル\エコクリ拡販\セールスマニュアル\企画書\パチンコサンプル画像\パチンコ屋POP3\名称未設定-1.png"/>
          <p:cNvPicPr/>
          <p:nvPr/>
        </p:nvPicPr>
        <p:blipFill>
          <a:blip r:embed="rId4"/>
          <a:stretch/>
        </p:blipFill>
        <p:spPr>
          <a:xfrm>
            <a:off x="311040" y="190440"/>
            <a:ext cx="5023080" cy="502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moosawa\My Documents\テックTTBS\エコクリスタル\エコクリ拡販\セールスマニュアル\企画書\パチンコサンプル画像\パチンコ屋POP3\名称未設定-2.png"/>
          <p:cNvPicPr/>
          <p:nvPr/>
        </p:nvPicPr>
        <p:blipFill>
          <a:blip r:embed="rId5"/>
          <a:stretch/>
        </p:blipFill>
        <p:spPr>
          <a:xfrm>
            <a:off x="722160" y="1754280"/>
            <a:ext cx="3187800" cy="306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moosawa\My Documents\テックTTBS\エコクリスタル\エコクリ拡販\セールスマニュアル\企画書\パチンコサンプル画像\パチンコ屋POP3\名称未設定-3.png"/>
          <p:cNvPicPr/>
          <p:nvPr/>
        </p:nvPicPr>
        <p:blipFill>
          <a:blip r:embed="rId6"/>
          <a:stretch/>
        </p:blipFill>
        <p:spPr>
          <a:xfrm>
            <a:off x="606600" y="2897280"/>
            <a:ext cx="20970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1:47:12Z</dcterms:created>
  <dc:creator>moosawa</dc:creator>
  <dc:description/>
  <dc:language>en-US</dc:language>
  <cp:lastModifiedBy>ttec</cp:lastModifiedBy>
  <dcterms:modified xsi:type="dcterms:W3CDTF">2012-06-15T00:56:53Z</dcterms:modified>
  <cp:revision>3</cp:revision>
  <dc:subject/>
  <dc:title>スライド 1</dc:title>
</cp:coreProperties>
</file>