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7562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D8C-C49F-4A73-961E-EA57FBDA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961884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372560"/>
            <a:ext cx="961884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FAE-F48C-4EF9-993C-4CDD274A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37256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37256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027-CAE2-4C12-BACF-E21A3DA0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176544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176544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37256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437256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437256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DB0-65CE-4060-8BC6-7256EBAE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5440"/>
            <a:ext cx="961884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809-3904-43CE-B27E-317BD822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961884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AD2-5B8E-4815-827F-05B54459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C34-9937-48E1-AC2B-E69E38C7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0D9-331E-4402-B0E2-555DC753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3120"/>
            <a:ext cx="96188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A57-DE12-44A0-AFF5-D30DCBF0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37256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F46-77D9-4713-8E52-7F122629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37256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231-6261-4B88-ADE3-BCD48EE2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372560"/>
            <a:ext cx="961884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F25-1805-41D1-8D74-3AC587B5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5440"/>
            <a:ext cx="961884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10280"/>
            <a:ext cx="249408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7010280"/>
            <a:ext cx="338616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7010280"/>
            <a:ext cx="249408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B204C9A6-CCE5-4CE6-A2E4-53DB1F648B63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360" y="2349000"/>
            <a:ext cx="9085320" cy="162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3080" y="4285800"/>
            <a:ext cx="748188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ja-JP" sz="3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図 3" descr="2015.1_toshibatec_pop_5.tif"/>
          <p:cNvPicPr/>
          <p:nvPr/>
        </p:nvPicPr>
        <p:blipFill>
          <a:blip r:embed="rId1"/>
          <a:stretch/>
        </p:blipFill>
        <p:spPr>
          <a:xfrm>
            <a:off x="0" y="0"/>
            <a:ext cx="10688760" cy="7554960"/>
          </a:xfrm>
          <a:prstGeom prst="rect">
            <a:avLst/>
          </a:prstGeom>
          <a:ln w="0">
            <a:noFill/>
          </a:ln>
        </p:spPr>
      </p:pic>
      <p:pic>
        <p:nvPicPr>
          <p:cNvPr id="44" name="図 8" descr=""/>
          <p:cNvPicPr/>
          <p:nvPr/>
        </p:nvPicPr>
        <p:blipFill>
          <a:blip r:embed="rId2"/>
          <a:stretch/>
        </p:blipFill>
        <p:spPr>
          <a:xfrm>
            <a:off x="8852040" y="5902200"/>
            <a:ext cx="1587240" cy="1295640"/>
          </a:xfrm>
          <a:prstGeom prst="rect">
            <a:avLst/>
          </a:prstGeom>
          <a:ln w="0">
            <a:noFill/>
          </a:ln>
        </p:spPr>
      </p:pic>
      <p:pic>
        <p:nvPicPr>
          <p:cNvPr id="45" name="図 3" descr="名称未設定 1.psd"/>
          <p:cNvPicPr/>
          <p:nvPr/>
        </p:nvPicPr>
        <p:blipFill>
          <a:blip r:embed="rId3"/>
          <a:stretch/>
        </p:blipFill>
        <p:spPr>
          <a:xfrm>
            <a:off x="235080" y="5743440"/>
            <a:ext cx="8526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11:40:16Z</dcterms:created>
  <dc:creator>佐藤 隆人</dc:creator>
  <dc:description/>
  <dc:language>en-US</dc:language>
  <cp:lastModifiedBy>佐藤 隆人</cp:lastModifiedBy>
  <dcterms:modified xsi:type="dcterms:W3CDTF">2015-02-04T11:52:24Z</dcterms:modified>
  <cp:revision>3</cp:revision>
  <dc:subject/>
  <dc:title>PowerPoint プレゼンテーション</dc:title>
</cp:coreProperties>
</file>