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423830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C5-FD49-4C6D-A62A-D9838633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8C6-6551-4599-945F-4034B3B5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C87-C2E9-4135-B4B8-C890AAE8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982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1076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1982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011076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409-98DA-4FFC-AD14-B3468397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CFE-FF1B-4F68-BADD-FEEEB8A8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796-3E30-4112-84C6-FB3B290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E1C-C39A-4EF4-96BF-5529057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EB7-CD30-4B6D-8B67-DB93A020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452160"/>
            <a:ext cx="41148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B03-A3E7-4BE2-BEF4-4770741B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77E-A44D-4827-8795-2838AB8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29C-4153-4EAF-A593-AC2986D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66E-FA21-43A6-B641-69807BB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452160"/>
            <a:ext cx="41148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9000"/>
          </a:bodyPr>
          <a:p>
            <a:pPr marL="598680" indent="-59868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1" marL="1296360" indent="-499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2" marL="1995120" indent="-39816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3" marL="2794680" indent="-400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4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5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6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4280"/>
            <a:ext cx="1447776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576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A2030D8D-FD16-44E9-BB81-AB213329ABB1}" type="slidenum">
              <a:rPr b="0" lang="en-US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08800"/>
            <a:ext cx="45720000" cy="73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76320"/>
            <a:ext cx="45720000" cy="730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162920"/>
            <a:ext cx="45720000" cy="4152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985400" y="685800"/>
            <a:ext cx="3503952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38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運動</a:t>
            </a: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を</a:t>
            </a:r>
            <a:r>
              <a:rPr b="0" lang="zh-CN" sz="38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推進</a:t>
            </a:r>
            <a:r>
              <a:rPr b="0" lang="zh-CN" sz="25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しよう</a:t>
            </a:r>
            <a:r>
              <a:rPr b="0" lang="zh-CN" sz="38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！</a:t>
            </a:r>
            <a:endParaRPr b="0" lang="en-US" sz="3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31360" y="8229600"/>
            <a:ext cx="3503952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1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リデュース（減量）・リユース（再使用）・リサイクル（再資源化）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4200" y="1913040"/>
            <a:ext cx="9648720" cy="77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4:05:40Z</dcterms:created>
  <dc:creator>demo</dc:creator>
  <dc:description/>
  <dc:language>en-US</dc:language>
  <cp:lastModifiedBy>fukase3</cp:lastModifiedBy>
  <dcterms:modified xsi:type="dcterms:W3CDTF">2009-01-16T01:12:47Z</dcterms:modified>
  <cp:revision>21</cp:revision>
  <dc:subject/>
  <dc:title>スライド 1</dc:title>
</cp:coreProperties>
</file>