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4290000" cy="11314113"/>
  <p:notesSz cx="42383075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181-8E15-4FFD-8E4F-FDBEBF67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14320" y="35640"/>
            <a:ext cx="30861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14320" y="2641320"/>
            <a:ext cx="3086100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14320" y="6541200"/>
            <a:ext cx="3086100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A1C-193B-4D75-84CD-7021D939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14320" y="35640"/>
            <a:ext cx="30861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14320" y="2641320"/>
            <a:ext cx="150598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27680" y="2641320"/>
            <a:ext cx="150598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14320" y="6541200"/>
            <a:ext cx="150598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27680" y="6541200"/>
            <a:ext cx="150598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1DC2-FED3-423C-9CAB-944165F1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14320" y="35640"/>
            <a:ext cx="30861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14320" y="2641320"/>
            <a:ext cx="9937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9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148560" y="2641320"/>
            <a:ext cx="9937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9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582800" y="2641320"/>
            <a:ext cx="9937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9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14320" y="6541200"/>
            <a:ext cx="9937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9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148560" y="6541200"/>
            <a:ext cx="9937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9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582800" y="6541200"/>
            <a:ext cx="9937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9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1B7-A9F2-4EDD-867F-5E4C4014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14320" y="35640"/>
            <a:ext cx="30861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14320" y="2641320"/>
            <a:ext cx="30861000" cy="746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E569-D391-443A-92A1-7BE87FB1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14320" y="35640"/>
            <a:ext cx="30861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14320" y="2641320"/>
            <a:ext cx="3086100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9A9-E62D-4E42-B074-ABC91EB2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14320" y="35640"/>
            <a:ext cx="30861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14320" y="2641320"/>
            <a:ext cx="1505988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27680" y="2641320"/>
            <a:ext cx="1505988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07E-4834-457C-9A7B-B66AB223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14320" y="35640"/>
            <a:ext cx="30861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F4A-5D91-4907-8AF6-6490A4D7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14320" y="452160"/>
            <a:ext cx="3086100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DD1A-E886-46F2-8A1F-20B2CDAD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14320" y="35640"/>
            <a:ext cx="30861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14320" y="2641320"/>
            <a:ext cx="150598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27680" y="2641320"/>
            <a:ext cx="1505988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14320" y="6541200"/>
            <a:ext cx="150598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35BC-7D0A-4079-9A6A-19CB848A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14320" y="35640"/>
            <a:ext cx="30861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14320" y="2641320"/>
            <a:ext cx="1505988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27680" y="2641320"/>
            <a:ext cx="150598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27680" y="6541200"/>
            <a:ext cx="150598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25B-FDB4-4736-9988-FD17857D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14320" y="35640"/>
            <a:ext cx="30861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14320" y="2641320"/>
            <a:ext cx="150598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27680" y="2641320"/>
            <a:ext cx="150598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14320" y="6541200"/>
            <a:ext cx="3086100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2D9-21DC-4166-AA30-9B4AF6AA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4320" y="452160"/>
            <a:ext cx="30861000" cy="188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14320" y="2641320"/>
            <a:ext cx="3086100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49000"/>
          </a:bodyPr>
          <a:p>
            <a:pPr marL="598680" indent="-598680">
              <a:spcBef>
                <a:spcPts val="2849"/>
              </a:spcBef>
              <a:buClr>
                <a:srgbClr val="000000"/>
              </a:buClr>
              <a:buFont typeface="Arial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1" marL="1296360" indent="-499320">
              <a:spcBef>
                <a:spcPts val="2849"/>
              </a:spcBef>
              <a:buClr>
                <a:srgbClr val="000000"/>
              </a:buClr>
              <a:buFont typeface="Arial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2" marL="1995120" indent="-398160">
              <a:spcBef>
                <a:spcPts val="2849"/>
              </a:spcBef>
              <a:buClr>
                <a:srgbClr val="000000"/>
              </a:buClr>
              <a:buFont typeface="Arial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3" marL="2794680" indent="-400320">
              <a:spcBef>
                <a:spcPts val="2849"/>
              </a:spcBef>
              <a:buClr>
                <a:srgbClr val="000000"/>
              </a:buClr>
              <a:buFont typeface="Arial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4" marL="3592080" indent="-398160">
              <a:spcBef>
                <a:spcPts val="2849"/>
              </a:spcBef>
              <a:buClr>
                <a:srgbClr val="000000"/>
              </a:buClr>
              <a:buFont typeface="Arial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5" marL="3592080" indent="-398160">
              <a:spcBef>
                <a:spcPts val="2849"/>
              </a:spcBef>
              <a:buClr>
                <a:srgbClr val="000000"/>
              </a:buClr>
              <a:buFont typeface="Arial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6" marL="3592080" indent="-398160">
              <a:spcBef>
                <a:spcPts val="2849"/>
              </a:spcBef>
              <a:buClr>
                <a:srgbClr val="000000"/>
              </a:buClr>
              <a:buFont typeface="Arial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14320" y="10304280"/>
            <a:ext cx="8001000" cy="7873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10304280"/>
            <a:ext cx="10858320" cy="7873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10304280"/>
            <a:ext cx="8001000" cy="7873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2F7EBB80-46F1-4E98-952A-21FC0894355B}" type="slidenum">
              <a:rPr b="0" lang="en-US" sz="5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4290000" cy="11315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644200" y="-365040"/>
            <a:ext cx="19735920" cy="77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0" spc="-1" strike="noStrike">
                <a:solidFill>
                  <a:srgbClr val="000000"/>
                </a:solidFill>
                <a:latin typeface="Arial"/>
              </a:rPr>
              <a:t>乾電池</a:t>
            </a:r>
            <a:endParaRPr b="0" lang="en-US" sz="5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0120"/>
            <a:ext cx="34290000" cy="2286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398320" y="7286760"/>
            <a:ext cx="21809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ffff"/>
                </a:solidFill>
                <a:latin typeface="Arial"/>
              </a:rPr>
              <a:t>分別回収を行いましょう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03200" y="1193760"/>
            <a:ext cx="8783640" cy="86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04:05:40Z</dcterms:created>
  <dc:creator>demo</dc:creator>
  <dc:description/>
  <dc:language>en-US</dc:language>
  <cp:lastModifiedBy>fukase3</cp:lastModifiedBy>
  <dcterms:modified xsi:type="dcterms:W3CDTF">2009-01-16T02:55:33Z</dcterms:modified>
  <cp:revision>23</cp:revision>
  <dc:subject/>
  <dc:title>スライド 1</dc:title>
</cp:coreProperties>
</file>