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06A-86BB-4A73-9706-3D4F33BF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A04-71F9-4BF9-98F1-E0156D5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B48-F317-4AD6-873F-5E9D1EE3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1320804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7536400"/>
            <a:ext cx="30963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8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309-0591-4FE1-97DB-6DDEB369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DFE-AC62-4A71-BB8E-29D62C34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27F-675D-4213-BCBE-4D340C1F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57D-15CE-4948-BCCA-9E18DF1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416-28F2-4139-994C-A2450CFF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4063680"/>
            <a:ext cx="961704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D92-5E19-44AD-8B0F-AE88DB23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476-5CED-4466-8EE3-96AD635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753640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983-3706-4BDF-864E-7F056F04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13208040"/>
            <a:ext cx="469296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7536400"/>
            <a:ext cx="9617040" cy="130849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72F-6EDA-459F-8F76-245494BB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4063680"/>
            <a:ext cx="9617040" cy="7620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13208040"/>
            <a:ext cx="9617040" cy="27432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4000"/>
          </a:bodyPr>
          <a:p>
            <a:pPr marL="904320" indent="-90432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9120" indent="-75384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014280" indent="-6022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4220640" indent="-60336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5426280" indent="-60264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41655600"/>
            <a:ext cx="235764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41655600"/>
            <a:ext cx="358452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41655600"/>
            <a:ext cx="2357280" cy="3048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FA6C4AF6-AA92-4313-A4E5-1FFEE7689066}" type="slidenum">
              <a:rPr b="0" lang="ja-JP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315880" cy="4572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1640" y="393840"/>
            <a:ext cx="10482480" cy="1048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39680" y="10820520"/>
            <a:ext cx="2466360" cy="265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車両出入り口につき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15163920"/>
            <a:ext cx="5638680" cy="19506960"/>
          </a:xfrm>
          <a:custGeom>
            <a:avLst/>
            <a:gdLst>
              <a:gd name="textAreaLeft" fmla="*/ 275040 w 5638680"/>
              <a:gd name="textAreaRight" fmla="*/ 5363640 w 5638680"/>
              <a:gd name="textAreaTop" fmla="*/ 275040 h 19506960"/>
              <a:gd name="textAreaBottom" fmla="*/ 19231920 h 19506960"/>
            </a:gdLst>
            <a:ahLst/>
            <a:rect l="textAreaLeft" t="textAreaTop" r="textAreaRight" b="textAreaBottom"/>
            <a:pathLst>
              <a:path w="21600" h="74722">
                <a:moveTo>
                  <a:pt x="3600" y="0"/>
                </a:moveTo>
                <a:arcTo wR="3600" hR="3600" stAng="16200000" swAng="-5400000"/>
                <a:lnTo>
                  <a:pt x="0" y="71122"/>
                </a:lnTo>
                <a:arcTo wR="3600" hR="3600" stAng="10800000" swAng="-5400000"/>
                <a:lnTo>
                  <a:pt x="18000" y="747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3958200" y="19278720"/>
            <a:ext cx="12372120" cy="12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ff0000"/>
                </a:solidFill>
                <a:latin typeface="Times New Roman"/>
                <a:ea typeface="ＤＦＧ超極太ゴシック体"/>
              </a:rPr>
              <a:t>駐 車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718640" y="31816800"/>
            <a:ext cx="4752360" cy="13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ご遠慮ください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1:55:29Z</dcterms:modified>
  <cp:revision>12</cp:revision>
  <dc:subject/>
  <dc:title>PowerPoint プレゼンテーション</dc:title>
</cp:coreProperties>
</file>