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14113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9BD7-1579-4B4B-A381-93A33AFE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2753640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098-8B7C-4409-8243-2D18CAC3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7728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0FB-6565-4FD0-B7CD-B76ADABD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076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5228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076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5228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C730-8A19-473E-B3AD-5EAD5C38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D510-4FC6-46DC-A6EC-1FEB15AC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54B2-D539-454D-97F2-EF4796DB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868-DCA4-4A59-BCD2-CF9D8C88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92D6-489C-42B5-B3CE-8938F75B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4063680"/>
            <a:ext cx="9617040" cy="3532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A2B-849A-45F3-84DB-E4C0E0B0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8C8A-DB70-46D1-A2BE-3ACA45B8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7728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69E-8FA8-42F4-813F-AC90FB9C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70B-1B55-4BA3-9530-2A9F2E3D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4000"/>
          </a:bodyPr>
          <a:p>
            <a:pPr marL="904320" indent="-9043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59120" indent="-75384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014280" indent="-60228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4220640" indent="-60336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8880" y="41655600"/>
            <a:ext cx="235764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320" y="41655600"/>
            <a:ext cx="358452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9000" y="41655600"/>
            <a:ext cx="235728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0C9FD0A6-9578-460E-A293-DAEE9B0C276E}" type="slidenum"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315880" cy="4572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9200" y="287280"/>
            <a:ext cx="10618920" cy="10618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7843320" y="11125080"/>
            <a:ext cx="18466920" cy="259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ＤＦＧ超極太ゴシック体"/>
              </a:rPr>
              <a:t>フォークリフト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ＤＦＧ超極太ゴシック体"/>
              </a:rPr>
              <a:t>　　　　制限速度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20600" y="2527200"/>
            <a:ext cx="526788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0" spc="-1" strike="noStrike">
                <a:solidFill>
                  <a:srgbClr val="3333cc"/>
                </a:solidFill>
                <a:latin typeface="HGP創英角ｺﾞｼｯｸUB"/>
                <a:ea typeface="HGP創英角ｺﾞｼｯｸUB"/>
              </a:rPr>
              <a:t>10</a:t>
            </a:r>
            <a:endParaRPr b="0" lang="en-US" sz="3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90680" y="36361800"/>
            <a:ext cx="10334520" cy="86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2:12:56Z</dcterms:created>
  <dc:creator>ttec</dc:creator>
  <dc:description/>
  <dc:language>en-US</dc:language>
  <cp:lastModifiedBy>fukase3</cp:lastModifiedBy>
  <dcterms:modified xsi:type="dcterms:W3CDTF">2009-01-16T01:39:43Z</dcterms:modified>
  <cp:revision>13</cp:revision>
  <dc:subject/>
  <dc:title>PowerPoint プレゼンテーション</dc:title>
</cp:coreProperties>
</file>