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5720000" cy="11314113"/>
  <p:notesSz cx="42383075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C602-1596-4D2C-834E-9F59E5C81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0" y="35640"/>
            <a:ext cx="41148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0" y="2641320"/>
            <a:ext cx="4114800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0" y="6541200"/>
            <a:ext cx="4114800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C9C0-B59E-48C2-A8FE-B1352AC7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0" y="35640"/>
            <a:ext cx="41148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2641320"/>
            <a:ext cx="2008008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3370480" y="2641320"/>
            <a:ext cx="2008008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0" y="6541200"/>
            <a:ext cx="2008008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3370480" y="6541200"/>
            <a:ext cx="2008008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9BFF-0D2A-4972-A56F-883129038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0" y="35640"/>
            <a:ext cx="41148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0" y="2641320"/>
            <a:ext cx="1324944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198200" y="2641320"/>
            <a:ext cx="1324944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110760" y="2641320"/>
            <a:ext cx="1324944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0" y="6541200"/>
            <a:ext cx="1324944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6198200" y="6541200"/>
            <a:ext cx="1324944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0110760" y="6541200"/>
            <a:ext cx="1324944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B953-5BE3-4E79-A955-8EE040F82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0" y="35640"/>
            <a:ext cx="41148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0" y="2641320"/>
            <a:ext cx="41148000" cy="746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49"/>
              </a:spcBef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3E57-3976-4573-B4D8-74952456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0" y="35640"/>
            <a:ext cx="41148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0" y="2641320"/>
            <a:ext cx="41148000" cy="74660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B55A-AB86-4510-9633-7B64FBFF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0" y="35640"/>
            <a:ext cx="41148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0" y="2641320"/>
            <a:ext cx="20080080" cy="74660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3370480" y="2641320"/>
            <a:ext cx="20080080" cy="74660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1F0A-0208-449D-A73D-F17AAD4F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0" y="35640"/>
            <a:ext cx="41148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FD46-5ED4-4CBB-ADD2-B8773524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0" y="452160"/>
            <a:ext cx="4114800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49"/>
              </a:spcBef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A460-DADE-4049-A0C4-9A067EA2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0" y="35640"/>
            <a:ext cx="41148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0" y="2641320"/>
            <a:ext cx="2008008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3370480" y="2641320"/>
            <a:ext cx="20080080" cy="74660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0" y="6541200"/>
            <a:ext cx="2008008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F938-1395-4C97-8F68-08B73ED2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0" y="35640"/>
            <a:ext cx="41148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0" y="2641320"/>
            <a:ext cx="20080080" cy="74660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3370480" y="2641320"/>
            <a:ext cx="2008008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3370480" y="6541200"/>
            <a:ext cx="2008008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25BA-54C3-4797-98E9-4599754F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0" y="35640"/>
            <a:ext cx="41148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0" y="2641320"/>
            <a:ext cx="2008008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3370480" y="2641320"/>
            <a:ext cx="2008008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0" y="6541200"/>
            <a:ext cx="4114800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DB27-4A17-46ED-80D9-DC0EB246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0" y="452160"/>
            <a:ext cx="41148000" cy="18860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15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0" y="2641320"/>
            <a:ext cx="41148000" cy="74660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49000"/>
          </a:bodyPr>
          <a:p>
            <a:pPr marL="598680" indent="-598680">
              <a:spcBef>
                <a:spcPts val="2849"/>
              </a:spcBef>
              <a:buClr>
                <a:srgbClr val="000000"/>
              </a:buClr>
              <a:buFont typeface="Arial"/>
              <a:buChar char="•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  <a:p>
            <a:pPr lvl="1" marL="1296360" indent="-499320">
              <a:spcBef>
                <a:spcPts val="2849"/>
              </a:spcBef>
              <a:buClr>
                <a:srgbClr val="000000"/>
              </a:buClr>
              <a:buFont typeface="Arial"/>
              <a:buChar char="–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  <a:p>
            <a:pPr lvl="2" marL="1995120" indent="-398160">
              <a:spcBef>
                <a:spcPts val="2849"/>
              </a:spcBef>
              <a:buClr>
                <a:srgbClr val="000000"/>
              </a:buClr>
              <a:buFont typeface="Arial"/>
              <a:buChar char="•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  <a:p>
            <a:pPr lvl="3" marL="2794680" indent="-400320">
              <a:spcBef>
                <a:spcPts val="2849"/>
              </a:spcBef>
              <a:buClr>
                <a:srgbClr val="000000"/>
              </a:buClr>
              <a:buFont typeface="Arial"/>
              <a:buChar char="–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  <a:p>
            <a:pPr lvl="4" marL="3592080" indent="-398160">
              <a:spcBef>
                <a:spcPts val="2849"/>
              </a:spcBef>
              <a:buClr>
                <a:srgbClr val="000000"/>
              </a:buClr>
              <a:buFont typeface="Arial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  <a:p>
            <a:pPr lvl="5" marL="3592080" indent="-398160">
              <a:spcBef>
                <a:spcPts val="2849"/>
              </a:spcBef>
              <a:buClr>
                <a:srgbClr val="000000"/>
              </a:buClr>
              <a:buFont typeface="Arial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  <a:p>
            <a:pPr lvl="6" marL="3592080" indent="-398160">
              <a:spcBef>
                <a:spcPts val="2849"/>
              </a:spcBef>
              <a:buClr>
                <a:srgbClr val="000000"/>
              </a:buClr>
              <a:buFont typeface="Arial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5640" y="10304280"/>
            <a:ext cx="10667880" cy="7873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ja-JP" sz="5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ja-JP" sz="5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621120" y="10304280"/>
            <a:ext cx="14477760" cy="7873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ja-JP" sz="5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ja-JP" sz="5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765760" y="10304280"/>
            <a:ext cx="10667880" cy="7873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 algn="r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ja-JP" sz="5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fld id="{869B34A1-ECCC-4C3E-A66C-36AE6B4B5E78}" type="slidenum">
              <a:rPr b="0" lang="ja-JP" sz="5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851040"/>
            <a:ext cx="42824160" cy="9615240"/>
          </a:xfrm>
          <a:prstGeom prst="rect">
            <a:avLst/>
          </a:prstGeom>
          <a:noFill/>
          <a:ln w="3808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146040" y="1219320"/>
            <a:ext cx="29992680" cy="87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zh-CN" sz="30000" spc="-1" strike="noStrike">
                <a:solidFill>
                  <a:srgbClr val="ff0000"/>
                </a:solidFill>
                <a:latin typeface="Times New Roman"/>
                <a:ea typeface="HGP創英角ｺﾞｼｯｸUB"/>
              </a:rPr>
              <a:t>環境</a:t>
            </a: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HGP創英角ｺﾞｼｯｸUB"/>
              </a:rPr>
              <a:t>にやさしい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HGP創英角ｺﾞｼｯｸUB"/>
              </a:rPr>
              <a:t>　　ゴミゼロ作業所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57480" y="1409760"/>
            <a:ext cx="10009080" cy="863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2T04:05:40Z</dcterms:created>
  <dc:creator>demo</dc:creator>
  <dc:description/>
  <dc:language>en-US</dc:language>
  <cp:lastModifiedBy>fukase3</cp:lastModifiedBy>
  <dcterms:modified xsi:type="dcterms:W3CDTF">2009-01-16T07:22:15Z</dcterms:modified>
  <cp:revision>23</cp:revision>
  <dc:subject/>
  <dc:title>スライド 1</dc:title>
</cp:coreProperties>
</file>