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0" cy="11314113"/>
  <p:notesSz cx="42383075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D25D-3BDA-4743-9D32-D12094F6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4114800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6541200"/>
            <a:ext cx="4114800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A57E-68CC-41B2-A3FE-91134949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7048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654120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70480" y="654120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63B1-79B0-4C3C-B292-C3204856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198200" y="264132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110760" y="264132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654120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198200" y="654120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0110760" y="6541200"/>
            <a:ext cx="1324944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540-8832-4003-8F1C-67540D74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2641320"/>
            <a:ext cx="41148000" cy="746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49"/>
              </a:spcBef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3CE-11EF-4E83-989A-2D2415B9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4114800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9669-E7C4-466D-B307-B0E5A84F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2008008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70480" y="2641320"/>
            <a:ext cx="2008008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21D-A632-42A6-A915-B00DA2D9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3950-EBB0-4170-9295-6C76AF32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452160"/>
            <a:ext cx="4114800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49"/>
              </a:spcBef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2CB-E3BF-4DDB-9CCD-ACB921A5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70480" y="2641320"/>
            <a:ext cx="2008008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654120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A98-40DD-47E8-9A18-F4C3A209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2008008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7048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70480" y="654120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FE4D-7ECF-4653-A553-96F49CA9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35640"/>
            <a:ext cx="41148000" cy="271908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70480" y="2641320"/>
            <a:ext cx="2008008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6541200"/>
            <a:ext cx="41148000" cy="35611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/>
          </a:bodyPr>
          <a:p>
            <a:pPr indent="0">
              <a:spcBef>
                <a:spcPts val="2849"/>
              </a:spcBef>
              <a:buNone/>
              <a:tabLst>
                <a:tab algn="l" pos="3259080"/>
                <a:tab algn="l" pos="6518160"/>
                <a:tab algn="l" pos="9777240"/>
              </a:tabLst>
            </a:pP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4BC-395E-43FB-A55F-66C56BF5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452160"/>
            <a:ext cx="41148000" cy="188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ctr">
            <a:noAutofit/>
          </a:bodyPr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15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2641320"/>
            <a:ext cx="41148000" cy="746604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rmAutofit fontScale="49000"/>
          </a:bodyPr>
          <a:p>
            <a:pPr marL="598680" indent="-598680">
              <a:spcBef>
                <a:spcPts val="2849"/>
              </a:spcBef>
              <a:buClr>
                <a:srgbClr val="000000"/>
              </a:buClr>
              <a:buFont typeface="Arial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1" marL="1296360" indent="-499320">
              <a:spcBef>
                <a:spcPts val="2849"/>
              </a:spcBef>
              <a:buClr>
                <a:srgbClr val="000000"/>
              </a:buClr>
              <a:buFont typeface="Arial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2" marL="1995120" indent="-398160">
              <a:spcBef>
                <a:spcPts val="2849"/>
              </a:spcBef>
              <a:buClr>
                <a:srgbClr val="000000"/>
              </a:buClr>
              <a:buFont typeface="Arial"/>
              <a:buChar char="•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3" marL="2794680" indent="-400320">
              <a:spcBef>
                <a:spcPts val="2849"/>
              </a:spcBef>
              <a:buClr>
                <a:srgbClr val="000000"/>
              </a:buClr>
              <a:buFont typeface="Arial"/>
              <a:buChar char="–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4" marL="3592080" indent="-398160">
              <a:spcBef>
                <a:spcPts val="2849"/>
              </a:spcBef>
              <a:buClr>
                <a:srgbClr val="000000"/>
              </a:buClr>
              <a:buFont typeface="Arial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5" marL="3592080" indent="-398160">
              <a:spcBef>
                <a:spcPts val="2849"/>
              </a:spcBef>
              <a:buClr>
                <a:srgbClr val="000000"/>
              </a:buClr>
              <a:buFont typeface="Arial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  <a:p>
            <a:pPr lvl="6" marL="3592080" indent="-398160">
              <a:spcBef>
                <a:spcPts val="2849"/>
              </a:spcBef>
              <a:buClr>
                <a:srgbClr val="000000"/>
              </a:buClr>
              <a:buFont typeface="Arial"/>
              <a:buChar char="»"/>
              <a:tabLst>
                <a:tab algn="l" pos="3259080"/>
                <a:tab algn="l" pos="6518160"/>
                <a:tab algn="l" pos="9777240"/>
              </a:tabLst>
            </a:pPr>
            <a:r>
              <a:rPr b="0" lang="en-US" sz="1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5640" y="10304280"/>
            <a:ext cx="10667880" cy="7873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1120" y="10304280"/>
            <a:ext cx="14477760" cy="7873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5760" y="10304280"/>
            <a:ext cx="10667880" cy="787320"/>
          </a:xfrm>
          <a:prstGeom prst="rect">
            <a:avLst/>
          </a:prstGeom>
          <a:noFill/>
          <a:ln w="0">
            <a:noFill/>
          </a:ln>
        </p:spPr>
        <p:txBody>
          <a:bodyPr lIns="325800" rIns="325800" tIns="163080" bIns="163080" anchor="t">
            <a:noAutofit/>
          </a:bodyPr>
          <a:lstStyle>
            <a:lvl1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  <a:defRPr b="0" lang="en-US" sz="5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259080"/>
                <a:tab algn="l" pos="6518160"/>
                <a:tab algn="l" pos="9777240"/>
              </a:tabLst>
            </a:pPr>
            <a:fld id="{1AE20024-E1B5-4CC3-9056-CA4AB98AB3EB}" type="slidenum">
              <a:rPr b="0" lang="en-US" sz="5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45720000" cy="1131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748880" y="701640"/>
            <a:ext cx="2636856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zh-CN" sz="42200" spc="-1" strike="noStrike">
                <a:solidFill>
                  <a:srgbClr val="000000"/>
                </a:solidFill>
                <a:latin typeface="Times New Roman"/>
                <a:ea typeface="HGP創英角ｺﾞｼｯｸUB"/>
              </a:rPr>
              <a:t>棄 物 置 場</a:t>
            </a:r>
            <a:endParaRPr b="0" lang="en-US" sz="4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639880" y="328680"/>
            <a:ext cx="6615000" cy="10658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236160" y="6626160"/>
            <a:ext cx="2999556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zh-CN" sz="19000" spc="-1" strike="noStrike">
                <a:solidFill>
                  <a:srgbClr val="008000"/>
                </a:solidFill>
                <a:latin typeface="HGP創英角ｺﾞｼｯｸUB"/>
                <a:ea typeface="HGP創英角ｺﾞｼｯｸUB"/>
              </a:rPr>
              <a:t>（ きちんと分別しましょう ）</a:t>
            </a:r>
            <a:endParaRPr b="0" lang="en-US" sz="1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8920" y="9596520"/>
            <a:ext cx="6594480" cy="13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zh-CN" sz="8400" spc="-1" strike="noStrike">
                <a:solidFill>
                  <a:srgbClr val="000000"/>
                </a:solidFill>
                <a:latin typeface="Times New Roman"/>
              </a:rPr>
              <a:t>現場責任者：山田太郎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-479520"/>
            <a:ext cx="9639360" cy="11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zh-CN" sz="73900" spc="-1" strike="noStrike">
                <a:solidFill>
                  <a:srgbClr val="ffffff"/>
                </a:solidFill>
                <a:latin typeface="Times New Roman"/>
                <a:ea typeface="HGP創英角ｺﾞｼｯｸUB"/>
              </a:rPr>
              <a:t>廃</a:t>
            </a:r>
            <a:endParaRPr b="0" lang="en-US" sz="7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0560" y="-704880"/>
            <a:ext cx="9639360" cy="11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zh-CN" sz="73900" spc="-1" strike="noStrike">
                <a:solidFill>
                  <a:srgbClr val="ff3300"/>
                </a:solidFill>
                <a:latin typeface="Times New Roman"/>
                <a:ea typeface="HGP創英角ｺﾞｼｯｸUB"/>
              </a:rPr>
              <a:t>廃</a:t>
            </a:r>
            <a:endParaRPr b="0" lang="en-US" sz="7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04:05:40Z</dcterms:created>
  <dc:creator>demo</dc:creator>
  <dc:description/>
  <dc:language>en-US</dc:language>
  <cp:lastModifiedBy>fukase3</cp:lastModifiedBy>
  <dcterms:modified xsi:type="dcterms:W3CDTF">2009-01-23T05:00:55Z</dcterms:modified>
  <cp:revision>20</cp:revision>
  <dc:subject/>
  <dc:title>スライド 1</dc:title>
</cp:coreProperties>
</file>