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4290000" cy="1131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0EC-2CB8-4688-97C7-BA2E99D4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4720" y="589680"/>
            <a:ext cx="2914164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4720" y="3268800"/>
            <a:ext cx="291416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4720" y="6815520"/>
            <a:ext cx="291416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F8D-5FA2-477A-953B-2F2EF94E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4720" y="589680"/>
            <a:ext cx="2914164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4720" y="3268800"/>
            <a:ext cx="1422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7160" y="3268800"/>
            <a:ext cx="1422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4720" y="6815520"/>
            <a:ext cx="1422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7160" y="6815520"/>
            <a:ext cx="1422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0E7-ECBE-4932-B2A0-7F9610B4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4720" y="589680"/>
            <a:ext cx="2914164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4720" y="3268800"/>
            <a:ext cx="93834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7560" y="3268800"/>
            <a:ext cx="93834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3268800"/>
            <a:ext cx="93834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4720" y="6815520"/>
            <a:ext cx="93834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7560" y="6815520"/>
            <a:ext cx="93834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6815520"/>
            <a:ext cx="938340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3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6E4E-31C0-4ED3-8798-92C84B76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4720" y="589680"/>
            <a:ext cx="2914164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4720" y="3268800"/>
            <a:ext cx="2914164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BA5-B459-45C8-B411-E75AB944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4720" y="589680"/>
            <a:ext cx="2914164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4720" y="3268800"/>
            <a:ext cx="2914164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7C3F-0FC7-4623-A60F-F7588F4B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4720" y="589680"/>
            <a:ext cx="2914164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4720" y="3268800"/>
            <a:ext cx="1422108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7160" y="3268800"/>
            <a:ext cx="1422108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966-FE96-43C9-9A67-362F0D11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4720" y="589680"/>
            <a:ext cx="2914164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5E23-9061-4DCC-806F-45C12278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4720" y="1006200"/>
            <a:ext cx="2914164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1B70-9F59-4BB9-B515-97631D16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4720" y="589680"/>
            <a:ext cx="2914164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4720" y="3268800"/>
            <a:ext cx="1422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7160" y="3268800"/>
            <a:ext cx="1422108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4720" y="6815520"/>
            <a:ext cx="1422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9DB-1D33-4797-8BF4-CC814C00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4720" y="589680"/>
            <a:ext cx="2914164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4720" y="3268800"/>
            <a:ext cx="1422108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7160" y="3268800"/>
            <a:ext cx="1422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7160" y="6815520"/>
            <a:ext cx="1422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434-DEFE-421C-8A97-B65923BD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4720" y="589680"/>
            <a:ext cx="2914164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4720" y="3268800"/>
            <a:ext cx="1422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7160" y="3268800"/>
            <a:ext cx="1422108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4720" y="6815520"/>
            <a:ext cx="29141640" cy="323856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8D3-CBB6-40C8-853C-FD133AC2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4720" y="1006200"/>
            <a:ext cx="29141640" cy="188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4720" y="3268800"/>
            <a:ext cx="29141640" cy="6789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45000"/>
          </a:bodyPr>
          <a:p>
            <a:pPr marL="549720" indent="-5497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91240" indent="-45828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2760" indent="-3661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2566440" indent="-36684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3299760" indent="-36648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4720" y="10308960"/>
            <a:ext cx="714348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4040" y="10308960"/>
            <a:ext cx="1086336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2880" y="10308960"/>
            <a:ext cx="7143840" cy="7556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BD1085D0-F540-46F0-ADAB-86864A8A4B6F}" type="slidenum"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4290000" cy="11315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44840" y="622440"/>
            <a:ext cx="4941720" cy="4941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5913360"/>
            <a:ext cx="4941720" cy="4942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575560" y="617400"/>
            <a:ext cx="4942080" cy="4942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34240" y="5913360"/>
            <a:ext cx="4942080" cy="4942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878920" y="622440"/>
            <a:ext cx="4941720" cy="4941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875680" y="5913360"/>
            <a:ext cx="4941720" cy="4942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997120" y="622440"/>
            <a:ext cx="4941720" cy="4941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997120" y="5913360"/>
            <a:ext cx="4941720" cy="4942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831600" y="5638680"/>
            <a:ext cx="26953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0" spc="-1" strike="noStrike">
                <a:solidFill>
                  <a:srgbClr val="000000"/>
                </a:solidFill>
                <a:latin typeface="Times New Roman"/>
                <a:ea typeface="AR P丸ゴシック体E"/>
              </a:rPr>
              <a:t>適</a:t>
            </a:r>
            <a:endParaRPr b="0" lang="en-US" sz="3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99680" y="5638680"/>
            <a:ext cx="26953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0" spc="-1" strike="noStrike">
                <a:solidFill>
                  <a:srgbClr val="000000"/>
                </a:solidFill>
                <a:latin typeface="Times New Roman"/>
                <a:ea typeface="AR P丸ゴシック体E"/>
              </a:rPr>
              <a:t>ゼ</a:t>
            </a:r>
            <a:endParaRPr b="0" lang="en-US" sz="3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40840" y="5734080"/>
            <a:ext cx="26953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0" spc="-1" strike="noStrike">
                <a:solidFill>
                  <a:srgbClr val="000000"/>
                </a:solidFill>
                <a:latin typeface="Times New Roman"/>
                <a:ea typeface="AR P丸ゴシック体E"/>
              </a:rPr>
              <a:t>ロ</a:t>
            </a:r>
            <a:endParaRPr b="0" lang="en-US" sz="3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25920" y="5638680"/>
            <a:ext cx="26953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0" spc="-1" strike="noStrike">
                <a:solidFill>
                  <a:srgbClr val="000000"/>
                </a:solidFill>
                <a:latin typeface="Times New Roman"/>
                <a:ea typeface="AR P丸ゴシック体E"/>
              </a:rPr>
              <a:t>不</a:t>
            </a:r>
            <a:endParaRPr b="0" lang="en-US" sz="3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03680" y="141120"/>
            <a:ext cx="26953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0" spc="-1" strike="noStrike">
                <a:solidFill>
                  <a:srgbClr val="000000"/>
                </a:solidFill>
                <a:latin typeface="Times New Roman"/>
                <a:ea typeface="AR P丸ゴシック体E"/>
              </a:rPr>
              <a:t>品</a:t>
            </a:r>
            <a:endParaRPr b="0" lang="en-US" sz="3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678960" y="338040"/>
            <a:ext cx="26953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0" spc="-1" strike="noStrike">
                <a:solidFill>
                  <a:srgbClr val="000000"/>
                </a:solidFill>
                <a:latin typeface="Times New Roman"/>
                <a:ea typeface="AR P丸ゴシック体E"/>
              </a:rPr>
              <a:t>質</a:t>
            </a:r>
            <a:endParaRPr b="0" lang="en-US" sz="3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947400" y="304920"/>
            <a:ext cx="26953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0" spc="-1" strike="noStrike">
                <a:solidFill>
                  <a:srgbClr val="000000"/>
                </a:solidFill>
                <a:latin typeface="Times New Roman"/>
                <a:ea typeface="AR P丸ゴシック体E"/>
              </a:rPr>
              <a:t>優</a:t>
            </a:r>
            <a:endParaRPr b="0" lang="en-US" sz="3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355680" y="304920"/>
            <a:ext cx="48769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0" spc="-1" strike="noStrike">
                <a:solidFill>
                  <a:srgbClr val="000000"/>
                </a:solidFill>
                <a:latin typeface="Times New Roman"/>
                <a:ea typeface="AR P丸ゴシック体E"/>
              </a:rPr>
              <a:t>先</a:t>
            </a:r>
            <a:endParaRPr b="0" lang="en-US" sz="3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755680" y="5913360"/>
            <a:ext cx="4942080" cy="4942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927480" y="5638680"/>
            <a:ext cx="26953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0" spc="-1" strike="noStrike">
                <a:solidFill>
                  <a:srgbClr val="000000"/>
                </a:solidFill>
                <a:latin typeface="Times New Roman"/>
                <a:ea typeface="AR P丸ゴシック体E"/>
              </a:rPr>
              <a:t>合</a:t>
            </a:r>
            <a:endParaRPr b="0" lang="en-US" sz="3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768640" y="617400"/>
            <a:ext cx="4941720" cy="4942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397200" y="73080"/>
            <a:ext cx="412416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4:19:12Z</dcterms:created>
  <dc:creator>ttec</dc:creator>
  <dc:description/>
  <dc:language>en-US</dc:language>
  <cp:lastModifiedBy>fukase3</cp:lastModifiedBy>
  <dcterms:modified xsi:type="dcterms:W3CDTF">2009-01-16T06:54:51Z</dcterms:modified>
  <cp:revision>8</cp:revision>
  <dc:subject/>
  <dc:title>PowerPoint プレゼンテーション</dc:title>
</cp:coreProperties>
</file>