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10234613" cy="4274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6AE-2220-450E-A9BE-C6792611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BE2-3D56-46C6-B313-34CA4563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77A-23AF-46FC-BFB9-C99F4F35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D33-9D7E-4A93-BAAF-320A2DCC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B53-39CB-469C-9B63-5954C32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312-26E4-40AB-8692-E9078CF9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AF3-11E7-4C4B-BBB5-F8E50762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0FA-9070-4F49-B06E-7D2FEC50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BAD-DB43-4C51-A129-C35877C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CEB-D375-48C5-B27C-252DC316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CA5-1B99-48A3-BE16-07473468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9B1-CE35-44C5-8521-E723586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D09CEE79-8332-4695-86BE-6D4C52CD4809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315880" cy="4572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52480" y="16108200"/>
            <a:ext cx="3228120" cy="229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</a:rPr>
              <a:t>品質マネジメントシステムの国際規格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080" y="23072400"/>
            <a:ext cx="4752000" cy="20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00"/>
                </a:solidFill>
                <a:latin typeface="Times New Roman"/>
                <a:ea typeface="ＤＦＧ極太ゴシック体"/>
              </a:rPr>
              <a:t>認証取得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5440" y="3083760"/>
            <a:ext cx="6276240" cy="27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000000"/>
                </a:solidFill>
                <a:latin typeface="Times New Roman"/>
                <a:ea typeface="ＤＦＧ極太ゴシック体"/>
              </a:rPr>
              <a:t>９００１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5880"/>
            <a:ext cx="11315880" cy="5334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17068680"/>
            <a:ext cx="0" cy="21259800"/>
          </a:xfrm>
          <a:prstGeom prst="line">
            <a:avLst/>
          </a:prstGeom>
          <a:ln w="254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601200" y="15239880"/>
            <a:ext cx="0" cy="21259800"/>
          </a:xfrm>
          <a:prstGeom prst="line">
            <a:avLst/>
          </a:prstGeom>
          <a:ln w="254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49040" y="-2490480"/>
            <a:ext cx="6276240" cy="20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000000"/>
                </a:solidFill>
                <a:latin typeface="Times New Roman"/>
                <a:ea typeface="ＤＦＧ極太ゴシック体"/>
              </a:rPr>
              <a:t>ＩＳＯ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7360" y="2017800"/>
            <a:ext cx="60084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22T01:46:29Z</dcterms:modified>
  <cp:revision>27</cp:revision>
  <dc:subject/>
  <dc:title>PowerPoint プレゼンテーション</dc:title>
</cp:coreProperties>
</file>