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E4A-F7A0-4741-84B9-4454096A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AE9-8DBB-4B8F-B44C-3E907F44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9FD-493A-4DA4-97D2-6B1D91B6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936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612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224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936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612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724-88C4-4E41-85D0-7FA9A802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A5A-C1E8-41C9-8F89-FB92C714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6A2-D6F9-414E-843E-B0371A09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AC2-2F42-4D2E-ACE8-177083FB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505-2DA0-43BB-9A77-592D77E4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2240" y="1006200"/>
            <a:ext cx="38855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622-D01F-42A8-988E-D126C034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CF1-41CE-4232-8681-A1B55E4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1EB-6C6B-4725-AA5B-4EF6B899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E47-1A34-45E0-98BA-DF6E9380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2240" y="1006200"/>
            <a:ext cx="3885552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224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17880" y="10308960"/>
            <a:ext cx="1448424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288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A1F41101-1038-4345-A728-C8768181B087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5720000" cy="1131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411080" y="1752480"/>
            <a:ext cx="3086100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火 気 厳 禁</a:t>
            </a:r>
            <a:endParaRPr b="0" lang="en-US" sz="5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905040"/>
            <a:ext cx="9639360" cy="96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19:12Z</dcterms:created>
  <dc:creator>ttec</dc:creator>
  <dc:description/>
  <dc:language>en-US</dc:language>
  <cp:lastModifiedBy>fukase3</cp:lastModifiedBy>
  <dcterms:modified xsi:type="dcterms:W3CDTF">2009-01-16T09:13:20Z</dcterms:modified>
  <cp:revision>3</cp:revision>
  <dc:subject/>
  <dc:title>PowerPoint プレゼンテーション</dc:title>
</cp:coreProperties>
</file>