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0" cy="1131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8679-A0DE-4C8B-8352-479CF2A6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388555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2240" y="6815520"/>
            <a:ext cx="388555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C50-99E8-44B4-9731-9669FB11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22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420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D1EB-6057-44B1-B9D9-BD4DE4A0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9360" y="326880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6120" y="326880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2240" y="681552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9360" y="681552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6120" y="681552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6878-656C-4A6E-ABEF-7C4222D8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2240" y="3268800"/>
            <a:ext cx="38855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D64-1F96-4DB8-96AB-441DD494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3885552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3B2F-37D8-40AD-867D-E2A0396F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6DE6-73D3-432F-A477-216E6D48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839-C3C3-4B72-BF1C-CFC2E81B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2240" y="1006200"/>
            <a:ext cx="38855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45A-C16C-470B-8A94-B0D54AE8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22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6B97-6992-4E8B-9AFD-3012E693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420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5559-30F9-4534-8349-B77BFA0C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2240" y="6815520"/>
            <a:ext cx="388555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8AE-30C9-4FA8-B7FA-AA9DE860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2240" y="1006200"/>
            <a:ext cx="38855520" cy="188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2240" y="3268800"/>
            <a:ext cx="3885552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45000"/>
          </a:bodyPr>
          <a:p>
            <a:pPr marL="549720" indent="-5497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91240" indent="-45828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2760" indent="-3661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2566440" indent="-36684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2240" y="10308960"/>
            <a:ext cx="952488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17880" y="10308960"/>
            <a:ext cx="1448424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2880" y="10308960"/>
            <a:ext cx="952488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4C0D1B26-A857-4A93-8DC6-E3C566793340}" type="slidenum"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5720000" cy="11315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411080" y="1752480"/>
            <a:ext cx="30861000" cy="77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0" spc="-1" strike="noStrike">
                <a:solidFill>
                  <a:srgbClr val="ffffff"/>
                </a:solidFill>
                <a:latin typeface="Times New Roman"/>
                <a:ea typeface="HGP創英角ｺﾞｼｯｸUB"/>
              </a:rPr>
              <a:t>火 気 厳 禁</a:t>
            </a:r>
            <a:endParaRPr b="0" lang="en-US" sz="5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905040"/>
            <a:ext cx="9639360" cy="96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4:19:12Z</dcterms:created>
  <dc:creator>ttec</dc:creator>
  <dc:description/>
  <dc:language>en-US</dc:language>
  <cp:lastModifiedBy>fukase3</cp:lastModifiedBy>
  <dcterms:modified xsi:type="dcterms:W3CDTF">2009-01-16T09:13:20Z</dcterms:modified>
  <cp:revision>3</cp:revision>
  <dc:subject/>
  <dc:title>PowerPoint プレゼンテーション</dc:title>
</cp:coreProperties>
</file>