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0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599-7939-4006-8238-025C2D36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388555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2240" y="6815520"/>
            <a:ext cx="388555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FA0-347B-4EBE-92FE-856379F2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22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420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4F7-901E-4F48-B112-AF2D557A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9360" y="326880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6120" y="326880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2240" y="681552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9360" y="681552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6120" y="681552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A9A8-0192-4C1C-B048-4517E94E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2240" y="3268800"/>
            <a:ext cx="38855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A4B-C496-4C93-9B82-8CC1A8F1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3885552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250-28EE-423C-B771-4917D550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686-4D24-480C-A5A4-85FB9D40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18C9-C856-428C-B21E-D85EF0FF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2240" y="1006200"/>
            <a:ext cx="38855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C7C8-8E8F-4310-A720-B3EDF66B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22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C22-2EAA-403F-8F4E-C4CFA359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420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A2F-138C-4C69-8915-1E704D33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2240" y="6815520"/>
            <a:ext cx="388555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1E9-2CBD-49B9-98B9-0F324CAD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2240" y="1006200"/>
            <a:ext cx="38855520" cy="188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2240" y="3268800"/>
            <a:ext cx="3885552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45000"/>
          </a:bodyPr>
          <a:p>
            <a:pPr marL="549720" indent="-5497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91240" indent="-45828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2760" indent="-3661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2566440" indent="-366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2240" y="10308960"/>
            <a:ext cx="95248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17880" y="10308960"/>
            <a:ext cx="1448424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2880" y="10308960"/>
            <a:ext cx="95248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0061161A-A152-4D5E-9239-202F23AD6967}" type="slidenum"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5720000" cy="1131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5480" y="689040"/>
            <a:ext cx="11233080" cy="9885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411080" y="1752480"/>
            <a:ext cx="30861000" cy="77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0" spc="-1" strike="noStrike">
                <a:solidFill>
                  <a:srgbClr val="ff0000"/>
                </a:solidFill>
                <a:latin typeface="Times New Roman"/>
                <a:ea typeface="HGP創英角ｺﾞｼｯｸUB"/>
              </a:rPr>
              <a:t>感 電 注 意</a:t>
            </a:r>
            <a:endParaRPr b="0" lang="en-US" sz="5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4:19:12Z</dcterms:created>
  <dc:creator>ttec</dc:creator>
  <dc:description/>
  <dc:language>en-US</dc:language>
  <cp:lastModifiedBy>fukase3</cp:lastModifiedBy>
  <dcterms:modified xsi:type="dcterms:W3CDTF">2009-01-23T05:19:08Z</dcterms:modified>
  <cp:revision>5</cp:revision>
  <dc:subject/>
  <dc:title>PowerPoint プレゼンテーション</dc:title>
</cp:coreProperties>
</file>