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14113" cy="3429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8633-BAF2-46C7-A4B5-A0B44825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961704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20652480"/>
            <a:ext cx="961704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0BC7-A750-40AE-82D6-B1A489AD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7728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2065248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77280" y="2065248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9250-1882-42D5-94F3-B9957CB7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0760" y="990612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52280" y="990612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2065248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0760" y="2065248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52280" y="20652480"/>
            <a:ext cx="30963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78000"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5AC2-2419-44BF-AB36-BF661A66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9906120"/>
            <a:ext cx="9617040" cy="205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49"/>
              </a:spcBef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2A92-DF53-4E99-A281-3777FF2C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9617040" cy="20574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A211-47DC-45DA-B20E-E2C0915F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4692960" cy="20574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77280" y="9906120"/>
            <a:ext cx="4692960" cy="20574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78F4-B6B6-401A-908A-D5D40DB6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159F-5DEF-42F5-B4A7-7C3BBB3A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3047760"/>
            <a:ext cx="9617040" cy="264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49"/>
              </a:spcBef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AE5F-5AC8-4CDE-AC99-DA8A4035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77280" y="9906120"/>
            <a:ext cx="4692960" cy="20574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2065248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B08E-8A17-4759-BD97-72BFE091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4692960" cy="20574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7728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77280" y="2065248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27DF-E4FE-4BB1-BEFF-0A79FCA0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77280" y="9906120"/>
            <a:ext cx="469296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20652480"/>
            <a:ext cx="9617040" cy="98136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A4B2-9A75-4895-B91E-2E2C95D8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3047760"/>
            <a:ext cx="9617040" cy="5715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9906120"/>
            <a:ext cx="9617040" cy="20574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63000"/>
          </a:bodyPr>
          <a:p>
            <a:pPr marL="769680" indent="-76968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67880" indent="-64188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566080" indent="-513000">
              <a:spcBef>
                <a:spcPts val="2849"/>
              </a:spcBef>
              <a:buClr>
                <a:srgbClr val="000000"/>
              </a:buClr>
              <a:buFont typeface="Times New Roman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3" marL="3593160" indent="-513720">
              <a:spcBef>
                <a:spcPts val="2849"/>
              </a:spcBef>
              <a:buClr>
                <a:srgbClr val="000000"/>
              </a:buClr>
              <a:buFont typeface="Times New Roman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4" marL="4619520" indent="-51300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5" marL="4619520" indent="-51300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  <a:p>
            <a:pPr lvl="6" marL="4619520" indent="-513000">
              <a:spcBef>
                <a:spcPts val="2849"/>
              </a:spcBef>
              <a:buClr>
                <a:srgbClr val="000000"/>
              </a:buClr>
              <a:buFont typeface="Times New Roman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48880" y="31241880"/>
            <a:ext cx="2357640" cy="2286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5320" y="31241880"/>
            <a:ext cx="3584520" cy="2286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09000" y="31241880"/>
            <a:ext cx="2357280" cy="228600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fld id="{B20B3CE4-E11C-4D7A-823B-87E8CA299AC3}" type="slidenum"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20680" y="439560"/>
            <a:ext cx="9072720" cy="907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99600" y="9852120"/>
            <a:ext cx="7190280" cy="245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Times New Roman"/>
                <a:ea typeface="ＤＦＧ超極太ゴシック体"/>
              </a:rPr>
              <a:t>携帯電話使用禁止</a:t>
            </a:r>
            <a:endParaRPr b="0" lang="en-US" sz="2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-9712800" y="21036960"/>
            <a:ext cx="245379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300" spc="-1" strike="noStrike">
                <a:solidFill>
                  <a:srgbClr val="000000"/>
                </a:solidFill>
                <a:latin typeface="AR P丸ゴシック体E"/>
                <a:ea typeface="AR P丸ゴシック体E"/>
              </a:rPr>
              <a:t>DO NOT USE MOBILE PHONE</a:t>
            </a:r>
            <a:endParaRPr b="0" lang="en-US" sz="1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2:12:56Z</dcterms:created>
  <dc:creator>ttec</dc:creator>
  <dc:description/>
  <dc:language>en-US</dc:language>
  <cp:lastModifiedBy>fukase3</cp:lastModifiedBy>
  <dcterms:modified xsi:type="dcterms:W3CDTF">2009-01-16T01:30:51Z</dcterms:modified>
  <cp:revision>20</cp:revision>
  <dc:subject/>
  <dc:title>PowerPoint プレゼンテーション</dc:title>
</cp:coreProperties>
</file>