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14113" cy="3429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22A-8690-477B-8549-75C00C47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961704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20652480"/>
            <a:ext cx="961704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DB91-0170-43E6-8C73-1FBEC04A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2065248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77280" y="2065248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F91-C4C4-4D1A-82EC-590B3C6F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0760" y="990612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52280" y="990612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2065248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0760" y="2065248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52280" y="2065248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E83-8CBE-4C61-A64C-55DB9D4C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9906120"/>
            <a:ext cx="9617040" cy="205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5FE3-3998-4B04-9D34-F78AF364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961704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3A1F-6DA5-4881-A118-2E308EA3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615-D8CE-4BD5-A20B-1EA2089F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AC1-F13E-4FD2-95EA-010DF59E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3047760"/>
            <a:ext cx="9617040" cy="264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D41A-9A45-47C0-8C03-BE6C3464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2065248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2AE-3F30-4258-9DEB-33654E05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77280" y="2065248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3292-E504-4BEE-9ECA-F0EE2AB7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20652480"/>
            <a:ext cx="961704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6119-6FBC-4CD6-89E1-6B49F5E0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9906120"/>
            <a:ext cx="961704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63000"/>
          </a:bodyPr>
          <a:p>
            <a:pPr marL="769680" indent="-76968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67880" indent="-64188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566080" indent="-51300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593160" indent="-51372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4619520" indent="-51300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4619520" indent="-51300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4619520" indent="-51300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48880" y="31241880"/>
            <a:ext cx="2357640" cy="2286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320" y="31241880"/>
            <a:ext cx="3584520" cy="2286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9000" y="31241880"/>
            <a:ext cx="2357280" cy="2286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9056F8C2-2EFF-4D6D-B2A3-24C2A61B9534}" type="slidenum"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315880" cy="3429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3280" y="9620280"/>
            <a:ext cx="9323640" cy="238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ＤＦＧ超極太ゴシック体"/>
              </a:rPr>
              <a:t>構内徐行厳守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-6661080" y="19308600"/>
            <a:ext cx="19204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3333cc"/>
                </a:solidFill>
                <a:latin typeface="ＤＦＧ極太ゴシック体"/>
                <a:ea typeface="ＤＦＧ極太ゴシック体"/>
              </a:rPr>
              <a:t>GO SLOW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20720" y="727200"/>
            <a:ext cx="9906120" cy="879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2:12:56Z</dcterms:created>
  <dc:creator>ttec</dc:creator>
  <dc:description/>
  <dc:language>en-US</dc:language>
  <cp:lastModifiedBy>fukase3</cp:lastModifiedBy>
  <dcterms:modified xsi:type="dcterms:W3CDTF">2009-01-16T08:18:36Z</dcterms:modified>
  <cp:revision>12</cp:revision>
  <dc:subject/>
  <dc:title>PowerPoint プレゼンテーション</dc:title>
</cp:coreProperties>
</file>