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AFA-1649-4613-B335-272F6119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F89-FA61-43EB-A7A7-74D72EC4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68B-E916-4EF5-B476-4CBF8C20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66A-F488-4BE6-AF80-21EDCE0F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7F2-2798-4481-828C-DD464C2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0AF-56C1-432D-8B8B-EE8CF9A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602-0C47-4C64-B1AA-04D4274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473-AB54-4B03-A69C-6347CE4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1AA-E61C-4B24-AA05-56C74C99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983-688F-42DF-BF15-BD17F95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783-24C8-466D-A46D-7576066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0C3-ABDA-4277-AF7D-C200BAA5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63000"/>
          </a:bodyPr>
          <a:p>
            <a:pPr marL="769680" indent="-7696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7880" indent="-6418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6608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93160" indent="-51372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73EA2FC0-070E-49A7-9D4C-15F49A96E390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3429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044160" y="9715680"/>
            <a:ext cx="13896360" cy="23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構内禁煙</a:t>
            </a:r>
            <a:endParaRPr b="0" lang="en-US" sz="4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9761040" y="20881080"/>
            <a:ext cx="24536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NO SMOKING ON PREMISES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20680" y="511200"/>
            <a:ext cx="9074160" cy="90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53:53Z</dcterms:modified>
  <cp:revision>16</cp:revision>
  <dc:subject/>
  <dc:title>PowerPoint プレゼンテーション</dc:title>
</cp:coreProperties>
</file>