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799763" cy="43206988"/>
  <p:notesSz cx="10015538" cy="4241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CC5-4498-44BF-9A7B-4B242B88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75E-568B-4EB6-8C9B-3840D07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13B-0C71-4664-8B9A-1780D41C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39B-DF20-44B9-81DD-B2050EA4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2FD-1234-4E36-B820-A8C45FC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867-2A3B-4ED8-BC89-E7A44FC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BAE-15F3-46BC-8A2F-C4A2E2F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018-40C3-44D9-BAD5-98C764E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534-EB1B-4A88-BA6C-B2743F6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A03-4617-480F-9E89-DF52C91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2E9-2727-4CB0-B118-AB30DCF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296-EE43-442C-AADE-C737364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7000"/>
          </a:bodyPr>
          <a:p>
            <a:pPr marL="891000" indent="-891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31040" indent="-743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70360" indent="-594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58360" indent="-5940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fld id="{694ED1D2-00D0-4C69-B5FE-03DB9F5C292A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141040"/>
            <a:ext cx="10801440" cy="8064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01440" cy="4997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1107240"/>
            <a:ext cx="10801440" cy="41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5210880"/>
            <a:ext cx="1080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zh-CN" sz="15000" spc="-1" strike="noStrike">
                <a:solidFill>
                  <a:srgbClr val="ffff00"/>
                </a:solidFill>
                <a:latin typeface="Arial"/>
                <a:ea typeface="HGS創英角ﾎﾟｯﾌﾟ体"/>
              </a:rPr>
              <a:t>東芝建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0360" y="10009080"/>
            <a:ext cx="5761080" cy="14400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2000" y="13970160"/>
            <a:ext cx="5761080" cy="1439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5080" y="18073800"/>
            <a:ext cx="5760720" cy="14396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00360" y="21458160"/>
            <a:ext cx="5761080" cy="14400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5080" y="25131600"/>
            <a:ext cx="5760720" cy="14400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16360" y="28874880"/>
            <a:ext cx="5761080" cy="14400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546560" y="7416720"/>
            <a:ext cx="9323640" cy="238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  <a:ea typeface="AR P新藝体U"/>
              </a:rPr>
              <a:t>安全強化月間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968720"/>
            <a:ext cx="10872720" cy="172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08000" y="514836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1" i="1" lang="zh-CN" sz="7200" spc="-1" strike="noStrike">
                <a:solidFill>
                  <a:srgbClr val="ffffff"/>
                </a:solidFill>
                <a:latin typeface="Arial"/>
              </a:rPr>
              <a:t>　８月１日　～　３１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79640" y="37982520"/>
            <a:ext cx="7488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3:44:53Z</dcterms:created>
  <dc:creator>demo</dc:creator>
  <dc:description/>
  <dc:language>en-US</dc:language>
  <cp:lastModifiedBy>fukase3</cp:lastModifiedBy>
  <dcterms:modified xsi:type="dcterms:W3CDTF">2009-01-16T06:41:28Z</dcterms:modified>
  <cp:revision>9</cp:revision>
  <dc:subject/>
  <dc:title>スライド 1</dc:title>
</cp:coreProperties>
</file>