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5720000" cy="113141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68061-008E-4C27-9475-3480C5700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32240" y="589680"/>
            <a:ext cx="38855520" cy="271908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ctr">
            <a:noAutofit/>
          </a:bodyPr>
          <a:p>
            <a:pPr indent="0" algn="ctr">
              <a:buNone/>
              <a:tabLst>
                <a:tab algn="l" pos="0"/>
                <a:tab algn="l" pos="3259080"/>
                <a:tab algn="l" pos="6518160"/>
                <a:tab algn="l" pos="9777240"/>
              </a:tabLst>
            </a:pPr>
            <a:endParaRPr b="0" lang="en-US" sz="15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32240" y="3268800"/>
            <a:ext cx="38855520" cy="323856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32240" y="6815520"/>
            <a:ext cx="38855520" cy="323856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53045-CE6B-47E8-ABC2-73905B790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32240" y="589680"/>
            <a:ext cx="38855520" cy="271908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ctr">
            <a:noAutofit/>
          </a:bodyPr>
          <a:p>
            <a:pPr indent="0" algn="ctr">
              <a:buNone/>
              <a:tabLst>
                <a:tab algn="l" pos="0"/>
                <a:tab algn="l" pos="3259080"/>
                <a:tab algn="l" pos="6518160"/>
                <a:tab algn="l" pos="9777240"/>
              </a:tabLst>
            </a:pPr>
            <a:endParaRPr b="0" lang="en-US" sz="15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32240" y="3268800"/>
            <a:ext cx="18961200" cy="323856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3342040" y="3268800"/>
            <a:ext cx="18961200" cy="323856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32240" y="6815520"/>
            <a:ext cx="18961200" cy="323856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3342040" y="6815520"/>
            <a:ext cx="18961200" cy="323856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4ECE2-4F79-42BE-95EE-690A27107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32240" y="589680"/>
            <a:ext cx="38855520" cy="271908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ctr">
            <a:noAutofit/>
          </a:bodyPr>
          <a:p>
            <a:pPr indent="0" algn="ctr">
              <a:buNone/>
              <a:tabLst>
                <a:tab algn="l" pos="0"/>
                <a:tab algn="l" pos="3259080"/>
                <a:tab algn="l" pos="6518160"/>
                <a:tab algn="l" pos="9777240"/>
              </a:tabLst>
            </a:pPr>
            <a:endParaRPr b="0" lang="en-US" sz="15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32240" y="3268800"/>
            <a:ext cx="12511080" cy="323856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6569360" y="3268800"/>
            <a:ext cx="12511080" cy="323856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9706120" y="3268800"/>
            <a:ext cx="12511080" cy="323856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32240" y="6815520"/>
            <a:ext cx="12511080" cy="323856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6569360" y="6815520"/>
            <a:ext cx="12511080" cy="323856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9706120" y="6815520"/>
            <a:ext cx="12511080" cy="323856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4AB17-BBE5-4C45-AF9C-22222869F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32240" y="589680"/>
            <a:ext cx="38855520" cy="271908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ctr">
            <a:noAutofit/>
          </a:bodyPr>
          <a:p>
            <a:pPr indent="0" algn="ctr">
              <a:buNone/>
              <a:tabLst>
                <a:tab algn="l" pos="0"/>
                <a:tab algn="l" pos="3259080"/>
                <a:tab algn="l" pos="6518160"/>
                <a:tab algn="l" pos="9777240"/>
              </a:tabLst>
            </a:pPr>
            <a:endParaRPr b="0" lang="en-US" sz="15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32240" y="3268800"/>
            <a:ext cx="38855520" cy="67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849"/>
              </a:spcBef>
              <a:buNone/>
              <a:tabLst>
                <a:tab algn="l" pos="0"/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A00BF-E2AD-4A45-8163-EE558FFE9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32240" y="589680"/>
            <a:ext cx="38855520" cy="271908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ctr">
            <a:noAutofit/>
          </a:bodyPr>
          <a:p>
            <a:pPr indent="0" algn="ctr">
              <a:buNone/>
              <a:tabLst>
                <a:tab algn="l" pos="0"/>
                <a:tab algn="l" pos="3259080"/>
                <a:tab algn="l" pos="6518160"/>
                <a:tab algn="l" pos="9777240"/>
              </a:tabLst>
            </a:pPr>
            <a:endParaRPr b="0" lang="en-US" sz="15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32240" y="3268800"/>
            <a:ext cx="38855520" cy="678960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A2F78-8FA9-4EA6-AAF1-8CFA58AD9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32240" y="589680"/>
            <a:ext cx="38855520" cy="271908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ctr">
            <a:noAutofit/>
          </a:bodyPr>
          <a:p>
            <a:pPr indent="0" algn="ctr">
              <a:buNone/>
              <a:tabLst>
                <a:tab algn="l" pos="0"/>
                <a:tab algn="l" pos="3259080"/>
                <a:tab algn="l" pos="6518160"/>
                <a:tab algn="l" pos="9777240"/>
              </a:tabLst>
            </a:pPr>
            <a:endParaRPr b="0" lang="en-US" sz="15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32240" y="3268800"/>
            <a:ext cx="18961200" cy="678960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3342040" y="3268800"/>
            <a:ext cx="18961200" cy="678960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F8B21-E5D2-41BF-A60F-9C2DACEF5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32240" y="589680"/>
            <a:ext cx="38855520" cy="271908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ctr">
            <a:noAutofit/>
          </a:bodyPr>
          <a:p>
            <a:pPr indent="0" algn="ctr">
              <a:buNone/>
              <a:tabLst>
                <a:tab algn="l" pos="0"/>
                <a:tab algn="l" pos="3259080"/>
                <a:tab algn="l" pos="6518160"/>
                <a:tab algn="l" pos="9777240"/>
              </a:tabLst>
            </a:pPr>
            <a:endParaRPr b="0" lang="en-US" sz="15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7B33A-CB76-48DE-B55C-888075814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32240" y="1006200"/>
            <a:ext cx="38855520" cy="874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849"/>
              </a:spcBef>
              <a:tabLst>
                <a:tab algn="l" pos="0"/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1E96E-5108-4444-8259-04A9722BF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32240" y="589680"/>
            <a:ext cx="38855520" cy="271908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ctr">
            <a:noAutofit/>
          </a:bodyPr>
          <a:p>
            <a:pPr indent="0" algn="ctr">
              <a:buNone/>
              <a:tabLst>
                <a:tab algn="l" pos="0"/>
                <a:tab algn="l" pos="3259080"/>
                <a:tab algn="l" pos="6518160"/>
                <a:tab algn="l" pos="9777240"/>
              </a:tabLst>
            </a:pPr>
            <a:endParaRPr b="0" lang="en-US" sz="15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32240" y="3268800"/>
            <a:ext cx="18961200" cy="323856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3342040" y="3268800"/>
            <a:ext cx="18961200" cy="678960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32240" y="6815520"/>
            <a:ext cx="18961200" cy="323856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3EA30-D40A-4324-A156-4703E0C3D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32240" y="589680"/>
            <a:ext cx="38855520" cy="271908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ctr">
            <a:noAutofit/>
          </a:bodyPr>
          <a:p>
            <a:pPr indent="0" algn="ctr">
              <a:buNone/>
              <a:tabLst>
                <a:tab algn="l" pos="0"/>
                <a:tab algn="l" pos="3259080"/>
                <a:tab algn="l" pos="6518160"/>
                <a:tab algn="l" pos="9777240"/>
              </a:tabLst>
            </a:pPr>
            <a:endParaRPr b="0" lang="en-US" sz="15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32240" y="3268800"/>
            <a:ext cx="18961200" cy="678960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3342040" y="3268800"/>
            <a:ext cx="18961200" cy="323856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3342040" y="6815520"/>
            <a:ext cx="18961200" cy="323856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D2647-8B80-4D66-8481-9945933E2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32240" y="589680"/>
            <a:ext cx="38855520" cy="271908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ctr">
            <a:noAutofit/>
          </a:bodyPr>
          <a:p>
            <a:pPr indent="0" algn="ctr">
              <a:buNone/>
              <a:tabLst>
                <a:tab algn="l" pos="0"/>
                <a:tab algn="l" pos="3259080"/>
                <a:tab algn="l" pos="6518160"/>
                <a:tab algn="l" pos="9777240"/>
              </a:tabLst>
            </a:pPr>
            <a:endParaRPr b="0" lang="en-US" sz="15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32240" y="3268800"/>
            <a:ext cx="18961200" cy="323856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3342040" y="3268800"/>
            <a:ext cx="18961200" cy="323856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32240" y="6815520"/>
            <a:ext cx="38855520" cy="323856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249E6-7B27-467A-9EF0-06929AE8A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32240" y="1006200"/>
            <a:ext cx="38855520" cy="188604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ctr">
            <a:noAutofit/>
          </a:bodyPr>
          <a:p>
            <a:pPr indent="0" algn="ctr">
              <a:buNone/>
              <a:tabLst>
                <a:tab algn="l" pos="0"/>
                <a:tab algn="l" pos="3259080"/>
                <a:tab algn="l" pos="6518160"/>
                <a:tab algn="l" pos="9777240"/>
              </a:tabLst>
            </a:pPr>
            <a:r>
              <a:rPr b="0" lang="en-US" sz="157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5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32240" y="3268800"/>
            <a:ext cx="38855520" cy="678960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 fontScale="45000"/>
          </a:bodyPr>
          <a:p>
            <a:pPr marL="549720" indent="-549720">
              <a:spcBef>
                <a:spcPts val="2849"/>
              </a:spcBef>
              <a:buClr>
                <a:srgbClr val="000000"/>
              </a:buClr>
              <a:buFont typeface="Times New Roman"/>
              <a:buChar char="•"/>
              <a:tabLst>
                <a:tab algn="l" pos="3259080"/>
                <a:tab algn="l" pos="6518160"/>
                <a:tab algn="l" pos="9777240"/>
              </a:tabLst>
            </a:pPr>
            <a:r>
              <a:rPr b="0" lang="en-US" sz="11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91240" indent="-458280">
              <a:spcBef>
                <a:spcPts val="2849"/>
              </a:spcBef>
              <a:buClr>
                <a:srgbClr val="000000"/>
              </a:buClr>
              <a:buFont typeface="Times New Roman"/>
              <a:buChar char="–"/>
              <a:tabLst>
                <a:tab algn="l" pos="3259080"/>
                <a:tab algn="l" pos="6518160"/>
                <a:tab algn="l" pos="9777240"/>
              </a:tabLst>
            </a:pPr>
            <a:r>
              <a:rPr b="0" lang="en-US" sz="11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832760" indent="-366120">
              <a:spcBef>
                <a:spcPts val="2849"/>
              </a:spcBef>
              <a:buClr>
                <a:srgbClr val="000000"/>
              </a:buClr>
              <a:buFont typeface="Times New Roman"/>
              <a:buChar char="•"/>
              <a:tabLst>
                <a:tab algn="l" pos="3259080"/>
                <a:tab algn="l" pos="6518160"/>
                <a:tab algn="l" pos="9777240"/>
              </a:tabLst>
            </a:pPr>
            <a:r>
              <a:rPr b="0" lang="en-US" sz="11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  <a:p>
            <a:pPr lvl="3" marL="2566440" indent="-366840">
              <a:spcBef>
                <a:spcPts val="2849"/>
              </a:spcBef>
              <a:buClr>
                <a:srgbClr val="000000"/>
              </a:buClr>
              <a:buFont typeface="Times New Roman"/>
              <a:buChar char="–"/>
              <a:tabLst>
                <a:tab algn="l" pos="3259080"/>
                <a:tab algn="l" pos="6518160"/>
                <a:tab algn="l" pos="9777240"/>
              </a:tabLst>
            </a:pPr>
            <a:r>
              <a:rPr b="0" lang="en-US" sz="11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  <a:p>
            <a:pPr lvl="4" marL="3299760" indent="-366480">
              <a:spcBef>
                <a:spcPts val="2849"/>
              </a:spcBef>
              <a:buClr>
                <a:srgbClr val="000000"/>
              </a:buClr>
              <a:buFont typeface="Times New Roman"/>
              <a:buChar char="»"/>
              <a:tabLst>
                <a:tab algn="l" pos="3259080"/>
                <a:tab algn="l" pos="6518160"/>
                <a:tab algn="l" pos="9777240"/>
              </a:tabLst>
            </a:pPr>
            <a:r>
              <a:rPr b="0" lang="en-US" sz="11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  <a:p>
            <a:pPr lvl="5" marL="3299760" indent="-366480">
              <a:spcBef>
                <a:spcPts val="2849"/>
              </a:spcBef>
              <a:buClr>
                <a:srgbClr val="000000"/>
              </a:buClr>
              <a:buFont typeface="Times New Roman"/>
              <a:buChar char="»"/>
              <a:tabLst>
                <a:tab algn="l" pos="3259080"/>
                <a:tab algn="l" pos="6518160"/>
                <a:tab algn="l" pos="9777240"/>
              </a:tabLst>
            </a:pPr>
            <a:r>
              <a:rPr b="0" lang="en-US" sz="11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  <a:p>
            <a:pPr lvl="6" marL="3299760" indent="-366480">
              <a:spcBef>
                <a:spcPts val="2849"/>
              </a:spcBef>
              <a:buClr>
                <a:srgbClr val="000000"/>
              </a:buClr>
              <a:buFont typeface="Times New Roman"/>
              <a:buChar char="»"/>
              <a:tabLst>
                <a:tab algn="l" pos="3259080"/>
                <a:tab algn="l" pos="6518160"/>
                <a:tab algn="l" pos="9777240"/>
              </a:tabLst>
            </a:pPr>
            <a:r>
              <a:rPr b="0" lang="en-US" sz="11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32240" y="10308960"/>
            <a:ext cx="9524880" cy="75564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Autofit/>
          </a:bodyPr>
          <a:lstStyle>
            <a:lvl1pPr indent="0">
              <a:buNone/>
              <a:tabLst>
                <a:tab algn="l" pos="0"/>
                <a:tab algn="l" pos="3259080"/>
                <a:tab algn="l" pos="6518160"/>
                <a:tab algn="l" pos="9777240"/>
              </a:tabLst>
              <a:defRPr b="0" lang="en-US" sz="5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59080"/>
                <a:tab algn="l" pos="6518160"/>
                <a:tab algn="l" pos="977724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5617880" y="10308960"/>
            <a:ext cx="14484240" cy="75564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Autofit/>
          </a:bodyPr>
          <a:lstStyle>
            <a:lvl1pPr indent="0" algn="ctr">
              <a:buNone/>
              <a:tabLst>
                <a:tab algn="l" pos="0"/>
                <a:tab algn="l" pos="3259080"/>
                <a:tab algn="l" pos="6518160"/>
                <a:tab algn="l" pos="9777240"/>
              </a:tabLst>
              <a:defRPr b="0" lang="en-US" sz="5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59080"/>
                <a:tab algn="l" pos="6518160"/>
                <a:tab algn="l" pos="977724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762880" y="10308960"/>
            <a:ext cx="9524880" cy="75564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Autofit/>
          </a:bodyPr>
          <a:lstStyle>
            <a:lvl1pPr indent="0" algn="r">
              <a:buNone/>
              <a:tabLst>
                <a:tab algn="l" pos="0"/>
                <a:tab algn="l" pos="3259080"/>
                <a:tab algn="l" pos="6518160"/>
                <a:tab algn="l" pos="9777240"/>
              </a:tabLst>
              <a:defRPr b="0" lang="en-US" sz="5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59080"/>
                <a:tab algn="l" pos="6518160"/>
                <a:tab algn="l" pos="9777240"/>
              </a:tabLst>
            </a:pPr>
            <a:fld id="{ABCDF7E6-49C7-4913-8152-A670A8CC5B76}" type="slidenum"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258800" y="0"/>
            <a:ext cx="32461200" cy="11315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840080" y="0"/>
            <a:ext cx="26593920" cy="801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2000" spc="-1" strike="noStrike">
                <a:solidFill>
                  <a:srgbClr val="000000"/>
                </a:solidFill>
                <a:latin typeface="Times New Roman"/>
                <a:ea typeface="HGP創英角ｺﾞｼｯｸUB"/>
              </a:rPr>
              <a:t>駐 車 場</a:t>
            </a:r>
            <a:endParaRPr b="0" lang="en-US" sz="5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583280" y="7711920"/>
            <a:ext cx="204375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ff0000"/>
                </a:solidFill>
                <a:latin typeface="ＤＦＧ極太ゴシック体"/>
                <a:ea typeface="ＤＦＧ極太ゴシック体"/>
              </a:rPr>
              <a:t>PARKING AREA</a:t>
            </a:r>
            <a:endParaRPr b="0" lang="en-US" sz="2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2649320" y="7696080"/>
            <a:ext cx="33070680" cy="0"/>
          </a:xfrm>
          <a:prstGeom prst="line">
            <a:avLst/>
          </a:prstGeom>
          <a:ln w="190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447920" y="647640"/>
            <a:ext cx="10179000" cy="1019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7T04:19:12Z</dcterms:created>
  <dc:creator>ttec</dc:creator>
  <dc:description/>
  <dc:language>en-US</dc:language>
  <cp:lastModifiedBy>fukase3</cp:lastModifiedBy>
  <dcterms:modified xsi:type="dcterms:W3CDTF">2009-01-16T08:05:30Z</dcterms:modified>
  <cp:revision>6</cp:revision>
  <dc:subject/>
  <dc:title>PowerPoint プレゼンテーション</dc:title>
</cp:coreProperties>
</file>