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33113" cy="43815000"/>
  <p:notesSz cx="9907588" cy="4241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1DD-9FCC-4A04-9DF0-ED720CB1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929304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0800" y="26387640"/>
            <a:ext cx="929304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694-8AC7-4CC4-8A8B-209B62F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8288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0800" y="263876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82880" y="263876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C22-7934-4EEF-A054-501A86E0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2880" y="126554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4600" y="126554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0800" y="263876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2880" y="263876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4600" y="26387640"/>
            <a:ext cx="299196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88000"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E6A-50B6-41C2-A879-1A06F772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0800" y="12655440"/>
            <a:ext cx="9293040" cy="262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24"/>
              </a:spcBef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AC6-DD1E-4740-8FD6-41AB68EA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929304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68B-487C-481B-8839-6E1D4B2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453492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82880" y="12655440"/>
            <a:ext cx="453492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2C1-4D54-4D17-8B96-C3F08B3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59F-AA31-41AB-A3C9-BC1EAE7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0800" y="3897000"/>
            <a:ext cx="9293040" cy="338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24"/>
              </a:spcBef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087-E48C-45D0-8AF1-93A3591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82880" y="12655440"/>
            <a:ext cx="453492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0800" y="263876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13-FA92-4C37-84B2-AF529BA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453492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8288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82880" y="263876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C1B-E424-4978-9554-C2E437F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080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82880" y="12655440"/>
            <a:ext cx="453492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0800" y="26387640"/>
            <a:ext cx="9293040" cy="12540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9120"/>
                <a:tab algn="l" pos="6257880"/>
                <a:tab algn="l" pos="9387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E70-8E90-43DF-9643-A3BC29B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0800" y="3897000"/>
            <a:ext cx="9293040" cy="73026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0800" y="12655440"/>
            <a:ext cx="9293040" cy="2629080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rmAutofit fontScale="74000"/>
          </a:bodyPr>
          <a:p>
            <a:pPr marL="867960" indent="-867960">
              <a:spcBef>
                <a:spcPts val="2724"/>
              </a:spcBef>
              <a:buClr>
                <a:srgbClr val="000000"/>
              </a:buClr>
              <a:buFont typeface="Times New Roman"/>
              <a:buChar char="•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80640" indent="-723240">
              <a:spcBef>
                <a:spcPts val="2724"/>
              </a:spcBef>
              <a:buClr>
                <a:srgbClr val="000000"/>
              </a:buClr>
              <a:buFont typeface="Times New Roman"/>
              <a:buChar char="–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3320" indent="-577800">
              <a:spcBef>
                <a:spcPts val="2724"/>
              </a:spcBef>
              <a:buClr>
                <a:srgbClr val="000000"/>
              </a:buClr>
              <a:buFont typeface="Times New Roman"/>
              <a:buChar char="•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3" marL="4051440" indent="-578880">
              <a:spcBef>
                <a:spcPts val="2724"/>
              </a:spcBef>
              <a:buClr>
                <a:srgbClr val="000000"/>
              </a:buClr>
              <a:buFont typeface="Times New Roman"/>
              <a:buChar char="–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4" marL="5208840" indent="-57888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5" marL="5208840" indent="-57888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6" marL="5208840" indent="-57888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9120"/>
                <a:tab algn="l" pos="6257880"/>
                <a:tab algn="l" pos="9387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0800" y="39917520"/>
            <a:ext cx="2278080" cy="292752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Autofit/>
          </a:bodyPr>
          <a:lstStyle>
            <a:lvl1pPr indent="0">
              <a:buNone/>
              <a:tabLst>
                <a:tab algn="l" pos="0"/>
                <a:tab algn="l" pos="3129120"/>
                <a:tab algn="l" pos="6257880"/>
                <a:tab algn="l" pos="93870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5360" y="39917520"/>
            <a:ext cx="3463920" cy="292752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Autofit/>
          </a:bodyPr>
          <a:lstStyle>
            <a:lvl1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5760" y="39917520"/>
            <a:ext cx="2278080" cy="2927520"/>
          </a:xfrm>
          <a:prstGeom prst="rect">
            <a:avLst/>
          </a:prstGeom>
          <a:noFill/>
          <a:ln w="0">
            <a:noFill/>
          </a:ln>
        </p:spPr>
        <p:txBody>
          <a:bodyPr lIns="312840" rIns="312840" tIns="156600" bIns="156600" anchor="t">
            <a:noAutofit/>
          </a:bodyPr>
          <a:lstStyle>
            <a:lvl1pPr indent="0" algn="r">
              <a:buNone/>
              <a:tabLst>
                <a:tab algn="l" pos="0"/>
                <a:tab algn="l" pos="3129120"/>
                <a:tab algn="l" pos="6257880"/>
                <a:tab algn="l" pos="93870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129120"/>
                <a:tab algn="l" pos="6257880"/>
                <a:tab algn="l" pos="9387000"/>
              </a:tabLst>
            </a:pPr>
            <a:fld id="{80831ED2-2338-45A2-9461-AA1C46A6916F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982000"/>
            <a:ext cx="10934640" cy="3483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3360" y="10150560"/>
            <a:ext cx="8467920" cy="3278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7720" y="500040"/>
            <a:ext cx="9909360" cy="8470800"/>
          </a:xfrm>
          <a:prstGeom prst="rect">
            <a:avLst/>
          </a:prstGeom>
          <a:noFill/>
          <a:ln w="1015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01680" y="10807560"/>
            <a:ext cx="6607080" cy="31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 vert="eaVert">
            <a:spAutoFit/>
          </a:bodyPr>
          <a:p>
            <a:pPr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zh-CN" sz="211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危険の予知と除去で無災害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0280" y="10807560"/>
            <a:ext cx="9106200" cy="32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 vert="eaVert">
            <a:spAutoFit/>
          </a:bodyPr>
          <a:p>
            <a:pPr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zh-CN" sz="29300" spc="-1" strike="noStrike">
                <a:solidFill>
                  <a:srgbClr val="ffffff"/>
                </a:solidFill>
                <a:latin typeface="Times New Roman"/>
                <a:ea typeface="ＤＦＧ超極太ゴシック体"/>
              </a:rPr>
              <a:t>リスクアセスメント</a:t>
            </a:r>
            <a:endParaRPr b="0" lang="en-US" sz="2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2000" y="10734840"/>
            <a:ext cx="9106200" cy="32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 vert="eaVert">
            <a:spAutoFit/>
          </a:bodyPr>
          <a:p>
            <a:pPr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zh-CN" sz="29300" spc="-1" strike="noStrike">
                <a:solidFill>
                  <a:srgbClr val="ff3300"/>
                </a:solidFill>
                <a:latin typeface="Times New Roman"/>
                <a:ea typeface="ＤＦＧ超極太ゴシック体"/>
              </a:rPr>
              <a:t>リスクアセスメント</a:t>
            </a:r>
            <a:endParaRPr b="0" lang="en-US" sz="29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6960" y="880920"/>
            <a:ext cx="9931320" cy="76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25:23Z</dcterms:created>
  <dc:creator>ttec</dc:creator>
  <dc:description/>
  <dc:language>en-US</dc:language>
  <cp:lastModifiedBy>fukase3</cp:lastModifiedBy>
  <dcterms:modified xsi:type="dcterms:W3CDTF">2009-01-16T06:34:29Z</dcterms:modified>
  <cp:revision>11</cp:revision>
  <dc:subject/>
  <dc:title>PowerPoint プレゼンテーション</dc:title>
</cp:coreProperties>
</file>