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14113" cy="3429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84F-66EF-4EA0-A842-C0BF0F83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2065248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785-A218-4B18-8D03-E209D98A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037-4F43-4596-9E2B-CA268352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3E5-09F4-49B9-8F36-28DA3463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333-B0EB-4D3F-89F2-4F401FAE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39D-DB07-4DDC-B14A-922A0E61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BA3-C09C-4D71-9F8A-BB54F184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CC9-778E-42B9-8D16-CF91C311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3047760"/>
            <a:ext cx="9617040" cy="264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46AE-DC60-4D2A-88F1-EF79C91A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A96-ED78-4A3F-B43C-DC999EBB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E23-CD67-479A-A319-60135C41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A98-3DD9-4CAD-BE7D-AC1FE4F9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63000"/>
          </a:bodyPr>
          <a:p>
            <a:pPr marL="769680" indent="-76968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67880" indent="-6418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56608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593160" indent="-51372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461952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461952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461952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31241880"/>
            <a:ext cx="2357640" cy="2286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31241880"/>
            <a:ext cx="3584520" cy="2286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31241880"/>
            <a:ext cx="2357280" cy="2286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C29C872A-0A66-40BD-BE1B-413A08D44059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315880" cy="3429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3044160" y="9715680"/>
            <a:ext cx="13896360" cy="231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0" spc="-1" strike="noStrike">
                <a:solidFill>
                  <a:srgbClr val="000000"/>
                </a:solidFill>
                <a:latin typeface="Times New Roman"/>
                <a:ea typeface="ＤＦＧ超極太ゴシック体"/>
              </a:rPr>
              <a:t>撮影禁止</a:t>
            </a:r>
            <a:endParaRPr b="0" lang="en-US" sz="4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-9038160" y="20412720"/>
            <a:ext cx="23241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ＰＨＯＴＯ</a:t>
            </a:r>
            <a:r>
              <a:rPr b="0" lang="en-US" sz="120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GRAPHY PROHIBITED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70120" y="942840"/>
            <a:ext cx="7729560" cy="77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2:12:56Z</dcterms:created>
  <dc:creator>ttec</dc:creator>
  <dc:description/>
  <dc:language>en-US</dc:language>
  <cp:lastModifiedBy>fukase3</cp:lastModifiedBy>
  <dcterms:modified xsi:type="dcterms:W3CDTF">2009-01-16T08:45:42Z</dcterms:modified>
  <cp:revision>18</cp:revision>
  <dc:subject/>
  <dc:title>PowerPoint プレゼンテーション</dc:title>
</cp:coreProperties>
</file>