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607-2D76-4BFF-9F19-D004F4E5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21A-4674-4FCF-A887-27736282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D9E-9A24-4462-AFB4-23D8EB1B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936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612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224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936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612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219-10A7-4AD8-93E8-8CFEF751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773-50F7-4C54-A774-84ECE03F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F62-69C4-4541-B5A5-1E7B8AA5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1EA-82DE-410A-BAF9-D51DF29D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4CA-B475-4DB0-A5BB-A46F6610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2240" y="1006200"/>
            <a:ext cx="38855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6A0-FBC5-4BA7-A235-1E48D94C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247-6A40-4E8C-B406-5C26DFB5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218-3686-4FFF-9888-D7AD876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734-A66A-4996-A09F-C5FF8C5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2240" y="1006200"/>
            <a:ext cx="3885552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224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17880" y="10308960"/>
            <a:ext cx="1448424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288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D73723A5-A0C3-4EA4-B79B-AEFAECAEF86C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7480" y="328680"/>
            <a:ext cx="10656720" cy="1065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258800" y="0"/>
            <a:ext cx="32461200" cy="113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59000" y="685800"/>
            <a:ext cx="300988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車両通行止め</a:t>
            </a:r>
            <a:endParaRPr b="0" lang="en-US" sz="3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22560" y="8305920"/>
            <a:ext cx="30997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0000"/>
                </a:solidFill>
                <a:latin typeface="ＤＦＧ極太ゴシック体"/>
                <a:ea typeface="ＤＦＧ極太ゴシック体"/>
              </a:rPr>
              <a:t>AUTOMOBILE TRAFFIC IS CLOSED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49320" y="7696080"/>
            <a:ext cx="33070680" cy="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9:12Z</dcterms:created>
  <dc:creator>ttec</dc:creator>
  <dc:description/>
  <dc:language>en-US</dc:language>
  <cp:lastModifiedBy>fukase3</cp:lastModifiedBy>
  <dcterms:modified xsi:type="dcterms:W3CDTF">2009-01-16T07:59:29Z</dcterms:modified>
  <cp:revision>7</cp:revision>
  <dc:subject/>
  <dc:title>PowerPoint プレゼンテーション</dc:title>
</cp:coreProperties>
</file>