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10799763"/>
  <p:notesSz cx="10015538" cy="31615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354-1FF9-4664-AC57-F3C6E8F0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2916252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243840"/>
            <a:ext cx="2916252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9C2-1A7C-4A64-BA6D-794A0F56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24384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24384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D76-35CA-4CA4-9909-0A90F8C6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52072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52072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24384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24384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243840"/>
            <a:ext cx="939024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00A-687B-4C03-AE45-3489BFDA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520720"/>
            <a:ext cx="2916252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4C7-A27B-4FD6-AB2E-240645A3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2916252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BF9-0CEB-4148-B52A-3EADF3E5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1423116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520720"/>
            <a:ext cx="1423116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2C9-9468-40E7-B3B3-E1072031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FE9-D39B-42D4-8555-278F2188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31280"/>
            <a:ext cx="2916252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6D6-FC99-4906-9932-2972A263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520720"/>
            <a:ext cx="1423116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24384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286-2687-4FD5-902D-D327CDAB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1423116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24384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627-A9CF-4E2B-B9CB-7F863B67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3016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520720"/>
            <a:ext cx="1423116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243840"/>
            <a:ext cx="29162520" cy="33998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7BE-BA72-4249-97DB-AA92AB6F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31280"/>
            <a:ext cx="29162520" cy="1800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520720"/>
            <a:ext cx="29162520" cy="7127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3000"/>
          </a:bodyPr>
          <a:p>
            <a:pPr marL="581760" indent="-58176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60000" indent="-48384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38960" indent="-38772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715120" indent="-38772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90200" indent="-387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90200" indent="-387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90200" indent="-3870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720" y="9835920"/>
            <a:ext cx="7562880" cy="75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9280" y="9835920"/>
            <a:ext cx="10264680" cy="75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0360" y="9835920"/>
            <a:ext cx="7562880" cy="75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BFB337DB-2BB6-4B20-81D3-A81F475A22F7}" type="slidenum">
              <a:rPr b="0" lang="ja-JP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2403960" cy="1080144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416720" y="3600360"/>
            <a:ext cx="244112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solidFill>
                  <a:srgbClr val="000000"/>
                </a:solidFill>
                <a:latin typeface="HG創英角ｺﾞｼｯｸUB"/>
              </a:rPr>
              <a:t>関係者以外立入禁止</a:t>
            </a:r>
            <a:endParaRPr b="0" lang="en-US" sz="9600" spc="1" strike="noStrike">
              <a:ln w="0">
                <a:noFill/>
              </a:ln>
              <a:solidFill>
                <a:srgbClr val="00000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201080" y="3384720"/>
            <a:ext cx="244108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solidFill>
                  <a:srgbClr val="ffffff"/>
                </a:solidFill>
                <a:latin typeface="HG創英角ｺﾞｼｯｸUB"/>
              </a:rPr>
              <a:t>関係者以外立入禁止</a:t>
            </a:r>
            <a:endParaRPr b="0" lang="en-US" sz="9600" spc="1" strike="noStrike">
              <a:ln w="0">
                <a:noFill/>
              </a:ln>
              <a:solidFill>
                <a:srgbClr val="ffffff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080" y="2089080"/>
            <a:ext cx="662436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05:36:54Z</dcterms:created>
  <dc:creator>toshi.miyamoto</dc:creator>
  <dc:description/>
  <dc:language>en-US</dc:language>
  <cp:lastModifiedBy>fukase3</cp:lastModifiedBy>
  <dcterms:modified xsi:type="dcterms:W3CDTF">2009-01-23T05:14:40Z</dcterms:modified>
  <cp:revision>6</cp:revision>
  <dc:subject/>
  <dc:title>スライド 1</dc:title>
</cp:coreProperties>
</file>