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404050" cy="10799763"/>
  <p:notesSz cx="10015538" cy="31615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3328-54E3-48AA-A298-E533B034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20360" y="3016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0360" y="2520720"/>
            <a:ext cx="29162520" cy="33998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20360" y="6243840"/>
            <a:ext cx="29162520" cy="33998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D74B-3A0F-4714-9415-8D76F61F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20360" y="3016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20360" y="2520720"/>
            <a:ext cx="14231160" cy="33998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63600" y="2520720"/>
            <a:ext cx="14231160" cy="33998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20360" y="6243840"/>
            <a:ext cx="14231160" cy="33998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63600" y="6243840"/>
            <a:ext cx="14231160" cy="33998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4FA8-4B18-4F3F-A795-90328A593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20360" y="3016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20360" y="2520720"/>
            <a:ext cx="9390240" cy="33998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80400" y="2520720"/>
            <a:ext cx="9390240" cy="33998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340800" y="2520720"/>
            <a:ext cx="9390240" cy="33998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20360" y="6243840"/>
            <a:ext cx="9390240" cy="33998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480400" y="6243840"/>
            <a:ext cx="9390240" cy="33998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340800" y="6243840"/>
            <a:ext cx="9390240" cy="33998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A7E1-3CC4-4F66-A4A5-2933006C5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20360" y="3016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20360" y="2520720"/>
            <a:ext cx="29162520" cy="71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49"/>
              </a:spcBef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DD13-10E8-4A51-860F-D4A6C503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20360" y="3016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20360" y="2520720"/>
            <a:ext cx="29162520" cy="7127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DB4D-F371-4D2C-9960-2CAF6E6E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20360" y="3016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20360" y="2520720"/>
            <a:ext cx="14231160" cy="7127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63600" y="2520720"/>
            <a:ext cx="14231160" cy="7127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9072-7FDB-4A6B-867D-919C8BAE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20360" y="3016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5293-549B-41C5-8856-4C096E75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20360" y="431280"/>
            <a:ext cx="29162520" cy="83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49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023E-9DDD-456A-9647-790D2532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20360" y="3016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20360" y="2520720"/>
            <a:ext cx="14231160" cy="33998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63600" y="2520720"/>
            <a:ext cx="14231160" cy="7127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20360" y="6243840"/>
            <a:ext cx="14231160" cy="33998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EE47-6C7D-4FB7-9A44-3EAD7059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20360" y="3016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0360" y="2520720"/>
            <a:ext cx="14231160" cy="7127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63600" y="2520720"/>
            <a:ext cx="14231160" cy="33998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63600" y="6243840"/>
            <a:ext cx="14231160" cy="33998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516E-0B5E-4B39-8AB3-AA14D1D7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20360" y="3016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0360" y="2520720"/>
            <a:ext cx="14231160" cy="33998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63600" y="2520720"/>
            <a:ext cx="14231160" cy="33998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20360" y="6243840"/>
            <a:ext cx="29162520" cy="33998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A7B6-C600-4F46-AC7D-9B072285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20360" y="431280"/>
            <a:ext cx="29162520" cy="1800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20360" y="2520720"/>
            <a:ext cx="29162520" cy="7127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63000"/>
          </a:bodyPr>
          <a:p>
            <a:pPr marL="581760" indent="-58176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1" marL="1260000" indent="-48384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2" marL="1938960" indent="-38772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3" marL="2715120" indent="-38772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4" marL="3490200" indent="-38700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5" marL="3490200" indent="-38700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6" marL="3490200" indent="-38700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20720" y="9835920"/>
            <a:ext cx="7562880" cy="75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lstStyle>
            <a:lvl1pPr indent="0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  <a:defRPr b="0" lang="en-US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69280" y="9835920"/>
            <a:ext cx="10264680" cy="75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lstStyle>
            <a:lvl1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  <a:defRPr b="0" lang="en-US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0360" y="9835920"/>
            <a:ext cx="7562880" cy="75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lstStyle>
            <a:lvl1pPr indent="0" algn="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  <a:defRPr b="0" lang="en-US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fld id="{EE0A4D8B-E007-4EDD-93FD-7BD8CF9FCD34}" type="slidenum">
              <a:rPr b="0" lang="en-US" sz="3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2403960" cy="10801440"/>
          </a:xfrm>
          <a:prstGeom prst="rect">
            <a:avLst/>
          </a:prstGeom>
          <a:solidFill>
            <a:srgbClr val="ffcc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872720" y="3816360"/>
            <a:ext cx="21026520" cy="57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0945800" y="4896000"/>
            <a:ext cx="20378880" cy="376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創英角ｺﾞｼｯｸUB"/>
              </a:rPr>
              <a:t>作業手順確認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創英角ｺﾞｼｯｸUB"/>
              <a:ea typeface="HG創英角ｺﾞｼｯｸUB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0945800" y="1800360"/>
            <a:ext cx="207374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FIRM PROCEDURES</a:t>
            </a:r>
            <a:endParaRPr b="0" lang="en-US" sz="9600" spc="1" strike="noStrike">
              <a:ln w="507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676520"/>
            <a:ext cx="9829800" cy="7391160"/>
          </a:xfrm>
          <a:prstGeom prst="rect">
            <a:avLst/>
          </a:prstGeom>
          <a:solidFill>
            <a:srgbClr val="ffffff"/>
          </a:solidFill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47640" y="3097080"/>
            <a:ext cx="92170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05:36:54Z</dcterms:created>
  <dc:creator>toshi.miyamoto</dc:creator>
  <dc:description/>
  <dc:language>en-US</dc:language>
  <cp:lastModifiedBy>fukase3</cp:lastModifiedBy>
  <dcterms:modified xsi:type="dcterms:W3CDTF">2009-01-16T02:30:50Z</dcterms:modified>
  <cp:revision>4</cp:revision>
  <dc:subject/>
  <dc:title>スライド 1</dc:title>
</cp:coreProperties>
</file>