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1579-81D2-4188-B4A4-F12C5A4A5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D0F8-B18A-4A45-A32F-BE6EBD00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77B-EE5D-4255-B9C3-CA5DA1D1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C0F-1C90-4970-BEC5-95403CB1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8E5-4E71-489A-86D0-36B7557C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4AB-88DE-40A8-A42D-072B972D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DF9-D3A2-4DA3-BFEF-DDF0DE45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5D2-561B-4C4B-8261-4ED7E7D9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63F-D09C-4C43-9D3F-36B8677A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30A-E399-4FB0-85C9-475D5D96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AA0-EDFF-41C6-8B38-C6834030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C6F-F674-4CBD-9577-66E0CF3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D8C-8561-4ECE-BCE6-8D0F1823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770-8A84-42D3-A9AD-646141D2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marL="458640" indent="-4586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38088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712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8400" indent="-304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49680" indent="-3063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49680" indent="-3063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49680" indent="-3063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90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90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90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E437-B284-493F-B00F-74546208C728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281160" y="0"/>
            <a:ext cx="9056520" cy="12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-49320" y="4680"/>
            <a:ext cx="9663120" cy="12792240"/>
          </a:xfrm>
          <a:prstGeom prst="rect">
            <a:avLst/>
          </a:prstGeom>
          <a:solidFill>
            <a:srgbClr val="86a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グループ化 125"/>
          <p:cNvGrpSpPr/>
          <p:nvPr/>
        </p:nvGrpSpPr>
        <p:grpSpPr>
          <a:xfrm>
            <a:off x="914400" y="449280"/>
            <a:ext cx="7327800" cy="1868400"/>
            <a:chOff x="914400" y="449280"/>
            <a:chExt cx="7327800" cy="1868400"/>
          </a:xfrm>
        </p:grpSpPr>
        <p:sp>
          <p:nvSpPr>
            <p:cNvPr id="51" name="Freeform 9"/>
            <p:cNvSpPr/>
            <p:nvPr/>
          </p:nvSpPr>
          <p:spPr>
            <a:xfrm>
              <a:off x="914400" y="477720"/>
              <a:ext cx="1684080" cy="1839960"/>
            </a:xfrm>
            <a:prstGeom prst="pie">
              <a:avLst/>
            </a:prstGeom>
            <a:solidFill>
              <a:srgbClr val="ff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2803320" y="484200"/>
              <a:ext cx="1670040" cy="1770120"/>
            </a:xfrm>
            <a:prstGeom prst="pie">
              <a:avLst/>
            </a:prstGeom>
            <a:solidFill>
              <a:srgbClr val="ff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4670280" y="449280"/>
              <a:ext cx="1681200" cy="1863720"/>
            </a:xfrm>
            <a:prstGeom prst="pie">
              <a:avLst/>
            </a:prstGeom>
            <a:solidFill>
              <a:srgbClr val="ff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6553080" y="485640"/>
              <a:ext cx="1689120" cy="1820880"/>
            </a:xfrm>
            <a:prstGeom prst="pie">
              <a:avLst/>
            </a:prstGeom>
            <a:solidFill>
              <a:srgbClr val="ff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13"/>
          <p:cNvSpPr/>
          <p:nvPr/>
        </p:nvSpPr>
        <p:spPr>
          <a:xfrm>
            <a:off x="960480" y="2733840"/>
            <a:ext cx="7700760" cy="1440"/>
          </a:xfrm>
          <a:prstGeom prst="line">
            <a:avLst/>
          </a:prstGeom>
          <a:ln w="65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グループ化 126"/>
          <p:cNvGrpSpPr/>
          <p:nvPr/>
        </p:nvGrpSpPr>
        <p:grpSpPr>
          <a:xfrm>
            <a:off x="920880" y="3070080"/>
            <a:ext cx="5424480" cy="466920"/>
            <a:chOff x="920880" y="3070080"/>
            <a:chExt cx="5424480" cy="466920"/>
          </a:xfrm>
        </p:grpSpPr>
        <p:sp>
          <p:nvSpPr>
            <p:cNvPr id="57" name="Freeform 14"/>
            <p:cNvSpPr/>
            <p:nvPr/>
          </p:nvSpPr>
          <p:spPr>
            <a:xfrm>
              <a:off x="920880" y="3080880"/>
              <a:ext cx="442800" cy="4464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1382760" y="3080880"/>
              <a:ext cx="439560" cy="43848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1857240" y="3090600"/>
              <a:ext cx="422280" cy="43704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2330640" y="3090600"/>
              <a:ext cx="399960" cy="4194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2762280" y="3072960"/>
              <a:ext cx="449280" cy="46404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3232080" y="3078000"/>
              <a:ext cx="395280" cy="44172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3667320" y="3120840"/>
              <a:ext cx="426960" cy="37188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4154760" y="3085920"/>
              <a:ext cx="401400" cy="44172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4605480" y="3080880"/>
              <a:ext cx="369720" cy="43848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5035680" y="3088800"/>
              <a:ext cx="342720" cy="4320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5424840" y="3160440"/>
              <a:ext cx="326880" cy="35568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5786640" y="3070080"/>
              <a:ext cx="355320" cy="46692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6213600" y="3379680"/>
              <a:ext cx="131760" cy="13644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Freeform 41"/>
          <p:cNvSpPr/>
          <p:nvPr/>
        </p:nvSpPr>
        <p:spPr>
          <a:xfrm>
            <a:off x="925560" y="3808440"/>
            <a:ext cx="7767720" cy="7451640"/>
          </a:xfrm>
          <a:prstGeom prst="pie">
            <a:avLst/>
          </a:prstGeom>
          <a:solidFill>
            <a:srgbClr val="ff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グループ化 131"/>
          <p:cNvGrpSpPr/>
          <p:nvPr/>
        </p:nvGrpSpPr>
        <p:grpSpPr>
          <a:xfrm>
            <a:off x="2746440" y="4338720"/>
            <a:ext cx="4937040" cy="1095120"/>
            <a:chOff x="2746440" y="4338720"/>
            <a:chExt cx="4937040" cy="1095120"/>
          </a:xfrm>
        </p:grpSpPr>
        <p:sp>
          <p:nvSpPr>
            <p:cNvPr id="72" name="Freeform 42"/>
            <p:cNvSpPr/>
            <p:nvPr/>
          </p:nvSpPr>
          <p:spPr>
            <a:xfrm>
              <a:off x="2749320" y="4343400"/>
              <a:ext cx="439560" cy="47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3214440" y="4378320"/>
              <a:ext cx="409320" cy="42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3659040" y="4338720"/>
              <a:ext cx="433080" cy="47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4138560" y="4363920"/>
              <a:ext cx="393480" cy="43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4556160" y="4340160"/>
              <a:ext cx="438120" cy="47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5027760" y="4359240"/>
              <a:ext cx="415800" cy="45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5478480" y="4346640"/>
              <a:ext cx="411120" cy="47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5921280" y="4359240"/>
              <a:ext cx="430200" cy="46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6380280" y="4378320"/>
              <a:ext cx="411120" cy="42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6842160" y="4343400"/>
              <a:ext cx="398160" cy="47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7304400" y="4367160"/>
              <a:ext cx="37908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2746440" y="4952880"/>
              <a:ext cx="446040" cy="46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3216240" y="4991040"/>
              <a:ext cx="399960" cy="42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5"/>
            <p:cNvSpPr/>
            <p:nvPr/>
          </p:nvSpPr>
          <p:spPr>
            <a:xfrm>
              <a:off x="3651120" y="4971960"/>
              <a:ext cx="442800" cy="46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6"/>
            <p:cNvSpPr/>
            <p:nvPr/>
          </p:nvSpPr>
          <p:spPr>
            <a:xfrm>
              <a:off x="4113000" y="4975200"/>
              <a:ext cx="425160" cy="43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4573440" y="4991040"/>
              <a:ext cx="399960" cy="42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8"/>
            <p:cNvSpPr/>
            <p:nvPr/>
          </p:nvSpPr>
          <p:spPr>
            <a:xfrm>
              <a:off x="5035680" y="4964040"/>
              <a:ext cx="330120" cy="45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9"/>
            <p:cNvSpPr/>
            <p:nvPr/>
          </p:nvSpPr>
          <p:spPr>
            <a:xfrm>
              <a:off x="5421240" y="4957560"/>
              <a:ext cx="414360" cy="4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0"/>
            <p:cNvSpPr/>
            <p:nvPr/>
          </p:nvSpPr>
          <p:spPr>
            <a:xfrm>
              <a:off x="5875560" y="4968720"/>
              <a:ext cx="379080" cy="44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1"/>
            <p:cNvSpPr/>
            <p:nvPr/>
          </p:nvSpPr>
          <p:spPr>
            <a:xfrm>
              <a:off x="6310440" y="4992480"/>
              <a:ext cx="39996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2"/>
            <p:cNvSpPr/>
            <p:nvPr/>
          </p:nvSpPr>
          <p:spPr>
            <a:xfrm>
              <a:off x="6770880" y="5245200"/>
              <a:ext cx="1490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グループ化 135"/>
          <p:cNvGrpSpPr/>
          <p:nvPr/>
        </p:nvGrpSpPr>
        <p:grpSpPr>
          <a:xfrm>
            <a:off x="2505240" y="11574360"/>
            <a:ext cx="4614840" cy="830520"/>
            <a:chOff x="2505240" y="11574360"/>
            <a:chExt cx="4614840" cy="830520"/>
          </a:xfrm>
        </p:grpSpPr>
        <p:sp>
          <p:nvSpPr>
            <p:cNvPr id="94" name="Freeform 63"/>
            <p:cNvSpPr/>
            <p:nvPr/>
          </p:nvSpPr>
          <p:spPr>
            <a:xfrm>
              <a:off x="3375000" y="11579040"/>
              <a:ext cx="368280" cy="35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4"/>
            <p:cNvSpPr/>
            <p:nvPr/>
          </p:nvSpPr>
          <p:spPr>
            <a:xfrm>
              <a:off x="3746520" y="11575800"/>
              <a:ext cx="35856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5"/>
            <p:cNvSpPr/>
            <p:nvPr/>
          </p:nvSpPr>
          <p:spPr>
            <a:xfrm>
              <a:off x="4105440" y="11579040"/>
              <a:ext cx="36504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6"/>
            <p:cNvSpPr/>
            <p:nvPr/>
          </p:nvSpPr>
          <p:spPr>
            <a:xfrm>
              <a:off x="4470480" y="11579040"/>
              <a:ext cx="357120" cy="35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7"/>
            <p:cNvSpPr/>
            <p:nvPr/>
          </p:nvSpPr>
          <p:spPr>
            <a:xfrm>
              <a:off x="4973760" y="11621880"/>
              <a:ext cx="315720" cy="27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8"/>
            <p:cNvSpPr/>
            <p:nvPr/>
          </p:nvSpPr>
          <p:spPr>
            <a:xfrm>
              <a:off x="5355000" y="11621880"/>
              <a:ext cx="27612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9"/>
            <p:cNvSpPr/>
            <p:nvPr/>
          </p:nvSpPr>
          <p:spPr>
            <a:xfrm>
              <a:off x="5700960" y="11585160"/>
              <a:ext cx="31104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0"/>
            <p:cNvSpPr/>
            <p:nvPr/>
          </p:nvSpPr>
          <p:spPr>
            <a:xfrm>
              <a:off x="6104160" y="11594880"/>
              <a:ext cx="239400" cy="32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1"/>
            <p:cNvSpPr/>
            <p:nvPr/>
          </p:nvSpPr>
          <p:spPr>
            <a:xfrm>
              <a:off x="6407280" y="11579040"/>
              <a:ext cx="36504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2"/>
            <p:cNvSpPr/>
            <p:nvPr/>
          </p:nvSpPr>
          <p:spPr>
            <a:xfrm>
              <a:off x="6791760" y="11590200"/>
              <a:ext cx="328320" cy="34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3"/>
            <p:cNvSpPr/>
            <p:nvPr/>
          </p:nvSpPr>
          <p:spPr>
            <a:xfrm>
              <a:off x="4264200" y="12047760"/>
              <a:ext cx="36180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4"/>
            <p:cNvSpPr/>
            <p:nvPr/>
          </p:nvSpPr>
          <p:spPr>
            <a:xfrm>
              <a:off x="4629240" y="12049200"/>
              <a:ext cx="363240" cy="35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5"/>
            <p:cNvSpPr/>
            <p:nvPr/>
          </p:nvSpPr>
          <p:spPr>
            <a:xfrm>
              <a:off x="4994280" y="12049200"/>
              <a:ext cx="360360" cy="35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6"/>
            <p:cNvSpPr/>
            <p:nvPr/>
          </p:nvSpPr>
          <p:spPr>
            <a:xfrm>
              <a:off x="2505240" y="11707560"/>
              <a:ext cx="760320" cy="2016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7"/>
            <p:cNvSpPr/>
            <p:nvPr/>
          </p:nvSpPr>
          <p:spPr>
            <a:xfrm>
              <a:off x="2778120" y="11621880"/>
              <a:ext cx="484200" cy="12708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8"/>
            <p:cNvSpPr/>
            <p:nvPr/>
          </p:nvSpPr>
          <p:spPr>
            <a:xfrm>
              <a:off x="2660760" y="11707560"/>
              <a:ext cx="268200" cy="16200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9"/>
            <p:cNvSpPr/>
            <p:nvPr/>
          </p:nvSpPr>
          <p:spPr>
            <a:xfrm>
              <a:off x="2963880" y="11574360"/>
              <a:ext cx="268200" cy="7128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グループ化 127"/>
          <p:cNvGrpSpPr/>
          <p:nvPr/>
        </p:nvGrpSpPr>
        <p:grpSpPr>
          <a:xfrm>
            <a:off x="1317600" y="4311720"/>
            <a:ext cx="1171440" cy="1168200"/>
            <a:chOff x="1317600" y="4311720"/>
            <a:chExt cx="1171440" cy="1168200"/>
          </a:xfrm>
        </p:grpSpPr>
        <p:sp>
          <p:nvSpPr>
            <p:cNvPr id="112" name="Freeform 80"/>
            <p:cNvSpPr/>
            <p:nvPr/>
          </p:nvSpPr>
          <p:spPr>
            <a:xfrm>
              <a:off x="1317600" y="4311720"/>
              <a:ext cx="1171440" cy="1168200"/>
            </a:xfrm>
            <a:prstGeom prst="pie">
              <a:avLst/>
            </a:prstGeom>
            <a:solidFill>
              <a:srgbClr val="86a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1"/>
            <p:cNvSpPr/>
            <p:nvPr/>
          </p:nvSpPr>
          <p:spPr>
            <a:xfrm>
              <a:off x="1857240" y="4619520"/>
              <a:ext cx="123840" cy="547560"/>
            </a:xfrm>
            <a:prstGeom prst="rect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グループ化 128"/>
          <p:cNvGrpSpPr/>
          <p:nvPr/>
        </p:nvGrpSpPr>
        <p:grpSpPr>
          <a:xfrm>
            <a:off x="1317600" y="6091200"/>
            <a:ext cx="1171440" cy="1171440"/>
            <a:chOff x="1317600" y="6091200"/>
            <a:chExt cx="1171440" cy="1171440"/>
          </a:xfrm>
        </p:grpSpPr>
        <p:sp>
          <p:nvSpPr>
            <p:cNvPr id="115" name="Freeform 82"/>
            <p:cNvSpPr/>
            <p:nvPr/>
          </p:nvSpPr>
          <p:spPr>
            <a:xfrm>
              <a:off x="1317600" y="6091200"/>
              <a:ext cx="1171440" cy="1171440"/>
            </a:xfrm>
            <a:prstGeom prst="pie">
              <a:avLst/>
            </a:prstGeom>
            <a:solidFill>
              <a:srgbClr val="86a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3"/>
            <p:cNvSpPr/>
            <p:nvPr/>
          </p:nvSpPr>
          <p:spPr>
            <a:xfrm>
              <a:off x="1741320" y="6392880"/>
              <a:ext cx="363600" cy="55548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グループ化 129"/>
          <p:cNvGrpSpPr/>
          <p:nvPr/>
        </p:nvGrpSpPr>
        <p:grpSpPr>
          <a:xfrm>
            <a:off x="1317600" y="7872480"/>
            <a:ext cx="1171440" cy="1171440"/>
            <a:chOff x="1317600" y="7872480"/>
            <a:chExt cx="1171440" cy="1171440"/>
          </a:xfrm>
        </p:grpSpPr>
        <p:sp>
          <p:nvSpPr>
            <p:cNvPr id="118" name="Freeform 84"/>
            <p:cNvSpPr/>
            <p:nvPr/>
          </p:nvSpPr>
          <p:spPr>
            <a:xfrm>
              <a:off x="1317600" y="7872480"/>
              <a:ext cx="1171440" cy="1171440"/>
            </a:xfrm>
            <a:prstGeom prst="pie">
              <a:avLst/>
            </a:prstGeom>
            <a:solidFill>
              <a:srgbClr val="86a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5"/>
            <p:cNvSpPr/>
            <p:nvPr/>
          </p:nvSpPr>
          <p:spPr>
            <a:xfrm>
              <a:off x="1747800" y="8175600"/>
              <a:ext cx="326880" cy="56196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グループ化 130"/>
          <p:cNvGrpSpPr/>
          <p:nvPr/>
        </p:nvGrpSpPr>
        <p:grpSpPr>
          <a:xfrm>
            <a:off x="1317600" y="9653760"/>
            <a:ext cx="1171440" cy="1171440"/>
            <a:chOff x="1317600" y="9653760"/>
            <a:chExt cx="1171440" cy="1171440"/>
          </a:xfrm>
        </p:grpSpPr>
        <p:sp>
          <p:nvSpPr>
            <p:cNvPr id="121" name="Freeform 86"/>
            <p:cNvSpPr/>
            <p:nvPr/>
          </p:nvSpPr>
          <p:spPr>
            <a:xfrm>
              <a:off x="1317600" y="9653760"/>
              <a:ext cx="1171440" cy="1171440"/>
            </a:xfrm>
            <a:prstGeom prst="pie">
              <a:avLst/>
            </a:prstGeom>
            <a:solidFill>
              <a:srgbClr val="86a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7"/>
            <p:cNvSpPr/>
            <p:nvPr/>
          </p:nvSpPr>
          <p:spPr>
            <a:xfrm>
              <a:off x="1731960" y="9956880"/>
              <a:ext cx="372960" cy="554040"/>
            </a:xfrm>
            <a:prstGeom prst="pie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グループ化 132"/>
          <p:cNvGrpSpPr/>
          <p:nvPr/>
        </p:nvGrpSpPr>
        <p:grpSpPr>
          <a:xfrm>
            <a:off x="2757600" y="6067440"/>
            <a:ext cx="4614840" cy="1093680"/>
            <a:chOff x="2757600" y="6067440"/>
            <a:chExt cx="4614840" cy="1093680"/>
          </a:xfrm>
        </p:grpSpPr>
        <p:sp>
          <p:nvSpPr>
            <p:cNvPr id="124" name="Freeform 88"/>
            <p:cNvSpPr/>
            <p:nvPr/>
          </p:nvSpPr>
          <p:spPr>
            <a:xfrm>
              <a:off x="2757600" y="6067440"/>
              <a:ext cx="465120" cy="47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9"/>
            <p:cNvSpPr/>
            <p:nvPr/>
          </p:nvSpPr>
          <p:spPr>
            <a:xfrm>
              <a:off x="3286080" y="6091200"/>
              <a:ext cx="430200" cy="43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3751200" y="6067440"/>
              <a:ext cx="474480" cy="47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1"/>
            <p:cNvSpPr/>
            <p:nvPr/>
          </p:nvSpPr>
          <p:spPr>
            <a:xfrm>
              <a:off x="4275360" y="6083280"/>
              <a:ext cx="453960" cy="45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2"/>
            <p:cNvSpPr/>
            <p:nvPr/>
          </p:nvSpPr>
          <p:spPr>
            <a:xfrm>
              <a:off x="4757760" y="6067440"/>
              <a:ext cx="476280" cy="48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3"/>
            <p:cNvSpPr/>
            <p:nvPr/>
          </p:nvSpPr>
          <p:spPr>
            <a:xfrm>
              <a:off x="5268960" y="6070320"/>
              <a:ext cx="466560" cy="47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4"/>
            <p:cNvSpPr/>
            <p:nvPr/>
          </p:nvSpPr>
          <p:spPr>
            <a:xfrm>
              <a:off x="5808960" y="6086160"/>
              <a:ext cx="3729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5"/>
            <p:cNvSpPr/>
            <p:nvPr/>
          </p:nvSpPr>
          <p:spPr>
            <a:xfrm>
              <a:off x="6247080" y="6365880"/>
              <a:ext cx="16812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6"/>
            <p:cNvSpPr/>
            <p:nvPr/>
          </p:nvSpPr>
          <p:spPr>
            <a:xfrm>
              <a:off x="2757600" y="6680160"/>
              <a:ext cx="465120" cy="47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7"/>
            <p:cNvSpPr/>
            <p:nvPr/>
          </p:nvSpPr>
          <p:spPr>
            <a:xfrm>
              <a:off x="3249720" y="6675480"/>
              <a:ext cx="485640" cy="48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8"/>
            <p:cNvSpPr/>
            <p:nvPr/>
          </p:nvSpPr>
          <p:spPr>
            <a:xfrm>
              <a:off x="3767040" y="6691320"/>
              <a:ext cx="431640" cy="44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9"/>
            <p:cNvSpPr/>
            <p:nvPr/>
          </p:nvSpPr>
          <p:spPr>
            <a:xfrm>
              <a:off x="4243320" y="6680160"/>
              <a:ext cx="474480" cy="47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0"/>
            <p:cNvSpPr/>
            <p:nvPr/>
          </p:nvSpPr>
          <p:spPr>
            <a:xfrm>
              <a:off x="4749840" y="6702480"/>
              <a:ext cx="449280" cy="45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1"/>
            <p:cNvSpPr/>
            <p:nvPr/>
          </p:nvSpPr>
          <p:spPr>
            <a:xfrm>
              <a:off x="5276880" y="6691320"/>
              <a:ext cx="360360" cy="45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2"/>
            <p:cNvSpPr/>
            <p:nvPr/>
          </p:nvSpPr>
          <p:spPr>
            <a:xfrm>
              <a:off x="5708880" y="6684840"/>
              <a:ext cx="449280" cy="4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3"/>
            <p:cNvSpPr/>
            <p:nvPr/>
          </p:nvSpPr>
          <p:spPr>
            <a:xfrm>
              <a:off x="6212160" y="6696000"/>
              <a:ext cx="412560" cy="44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"/>
            <p:cNvSpPr/>
            <p:nvPr/>
          </p:nvSpPr>
          <p:spPr>
            <a:xfrm>
              <a:off x="6697800" y="6719760"/>
              <a:ext cx="43488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5"/>
            <p:cNvSpPr/>
            <p:nvPr/>
          </p:nvSpPr>
          <p:spPr>
            <a:xfrm>
              <a:off x="7207560" y="6972480"/>
              <a:ext cx="16488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グループ化 133"/>
          <p:cNvGrpSpPr/>
          <p:nvPr/>
        </p:nvGrpSpPr>
        <p:grpSpPr>
          <a:xfrm>
            <a:off x="2749680" y="7910640"/>
            <a:ext cx="4168800" cy="1093680"/>
            <a:chOff x="2749680" y="7910640"/>
            <a:chExt cx="4168800" cy="1093680"/>
          </a:xfrm>
        </p:grpSpPr>
        <p:sp>
          <p:nvSpPr>
            <p:cNvPr id="143" name="Freeform 106"/>
            <p:cNvSpPr/>
            <p:nvPr/>
          </p:nvSpPr>
          <p:spPr>
            <a:xfrm>
              <a:off x="2770200" y="7966080"/>
              <a:ext cx="446040" cy="39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274920" y="7953480"/>
              <a:ext cx="457200" cy="42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782880" y="7921440"/>
              <a:ext cx="430200" cy="45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4268880" y="7921440"/>
              <a:ext cx="444240" cy="45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4756320" y="7910640"/>
              <a:ext cx="485640" cy="47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5289840" y="7929360"/>
              <a:ext cx="461880" cy="45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2749680" y="8523360"/>
              <a:ext cx="482400" cy="47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267000" y="8543880"/>
              <a:ext cx="453960" cy="46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3821040" y="8542440"/>
              <a:ext cx="377640" cy="43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4259520" y="8559720"/>
              <a:ext cx="446040" cy="42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4783320" y="8533080"/>
              <a:ext cx="366480" cy="46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5222880" y="8528040"/>
              <a:ext cx="457200" cy="4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5735880" y="8539200"/>
              <a:ext cx="422280" cy="44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6231240" y="8562960"/>
              <a:ext cx="44424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6751800" y="8815680"/>
              <a:ext cx="16668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グループ化 134"/>
          <p:cNvGrpSpPr/>
          <p:nvPr/>
        </p:nvGrpSpPr>
        <p:grpSpPr>
          <a:xfrm>
            <a:off x="2754360" y="9672480"/>
            <a:ext cx="5349960" cy="1098720"/>
            <a:chOff x="2754360" y="9672480"/>
            <a:chExt cx="5349960" cy="1098720"/>
          </a:xfrm>
        </p:grpSpPr>
        <p:sp>
          <p:nvSpPr>
            <p:cNvPr id="159" name="Freeform 121"/>
            <p:cNvSpPr/>
            <p:nvPr/>
          </p:nvSpPr>
          <p:spPr>
            <a:xfrm>
              <a:off x="2754360" y="9677160"/>
              <a:ext cx="438120" cy="47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3232080" y="9699120"/>
              <a:ext cx="395280" cy="43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3651120" y="9675360"/>
              <a:ext cx="438120" cy="47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4"/>
            <p:cNvSpPr/>
            <p:nvPr/>
          </p:nvSpPr>
          <p:spPr>
            <a:xfrm>
              <a:off x="4121280" y="9693000"/>
              <a:ext cx="417240" cy="45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5"/>
            <p:cNvSpPr/>
            <p:nvPr/>
          </p:nvSpPr>
          <p:spPr>
            <a:xfrm>
              <a:off x="4556160" y="9680400"/>
              <a:ext cx="436320" cy="47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6"/>
            <p:cNvSpPr/>
            <p:nvPr/>
          </p:nvSpPr>
          <p:spPr>
            <a:xfrm>
              <a:off x="5016600" y="9680400"/>
              <a:ext cx="431640" cy="47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7"/>
            <p:cNvSpPr/>
            <p:nvPr/>
          </p:nvSpPr>
          <p:spPr>
            <a:xfrm>
              <a:off x="5462640" y="9680400"/>
              <a:ext cx="436320" cy="4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8"/>
            <p:cNvSpPr/>
            <p:nvPr/>
          </p:nvSpPr>
          <p:spPr>
            <a:xfrm>
              <a:off x="5921640" y="9696240"/>
              <a:ext cx="407880" cy="4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9"/>
            <p:cNvSpPr/>
            <p:nvPr/>
          </p:nvSpPr>
          <p:spPr>
            <a:xfrm>
              <a:off x="6380280" y="9712080"/>
              <a:ext cx="411120" cy="42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0"/>
            <p:cNvSpPr/>
            <p:nvPr/>
          </p:nvSpPr>
          <p:spPr>
            <a:xfrm>
              <a:off x="6842160" y="9672480"/>
              <a:ext cx="399960" cy="46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31"/>
            <p:cNvSpPr/>
            <p:nvPr/>
          </p:nvSpPr>
          <p:spPr>
            <a:xfrm>
              <a:off x="7267680" y="9874080"/>
              <a:ext cx="396720" cy="82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2"/>
            <p:cNvSpPr/>
            <p:nvPr/>
          </p:nvSpPr>
          <p:spPr>
            <a:xfrm>
              <a:off x="7715520" y="9718200"/>
              <a:ext cx="388800" cy="41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3"/>
            <p:cNvSpPr/>
            <p:nvPr/>
          </p:nvSpPr>
          <p:spPr>
            <a:xfrm>
              <a:off x="2781000" y="10314000"/>
              <a:ext cx="376200" cy="43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4"/>
            <p:cNvSpPr/>
            <p:nvPr/>
          </p:nvSpPr>
          <p:spPr>
            <a:xfrm>
              <a:off x="3195720" y="10309320"/>
              <a:ext cx="442800" cy="46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5"/>
            <p:cNvSpPr/>
            <p:nvPr/>
          </p:nvSpPr>
          <p:spPr>
            <a:xfrm>
              <a:off x="3665520" y="10302840"/>
              <a:ext cx="385560" cy="44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6"/>
            <p:cNvSpPr/>
            <p:nvPr/>
          </p:nvSpPr>
          <p:spPr>
            <a:xfrm>
              <a:off x="4084560" y="10293480"/>
              <a:ext cx="442800" cy="47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7"/>
            <p:cNvSpPr/>
            <p:nvPr/>
          </p:nvSpPr>
          <p:spPr>
            <a:xfrm>
              <a:off x="4546440" y="10302840"/>
              <a:ext cx="399960" cy="44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8"/>
            <p:cNvSpPr/>
            <p:nvPr/>
          </p:nvSpPr>
          <p:spPr>
            <a:xfrm>
              <a:off x="4992840" y="10325160"/>
              <a:ext cx="399960" cy="42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9"/>
            <p:cNvSpPr/>
            <p:nvPr/>
          </p:nvSpPr>
          <p:spPr>
            <a:xfrm>
              <a:off x="5454720" y="10298160"/>
              <a:ext cx="330120" cy="46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0"/>
            <p:cNvSpPr/>
            <p:nvPr/>
          </p:nvSpPr>
          <p:spPr>
            <a:xfrm>
              <a:off x="5843880" y="10293480"/>
              <a:ext cx="411120" cy="45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1"/>
            <p:cNvSpPr/>
            <p:nvPr/>
          </p:nvSpPr>
          <p:spPr>
            <a:xfrm>
              <a:off x="6294600" y="10306080"/>
              <a:ext cx="37944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2"/>
            <p:cNvSpPr/>
            <p:nvPr/>
          </p:nvSpPr>
          <p:spPr>
            <a:xfrm>
              <a:off x="6729480" y="10329840"/>
              <a:ext cx="399960" cy="40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3"/>
            <p:cNvSpPr/>
            <p:nvPr/>
          </p:nvSpPr>
          <p:spPr>
            <a:xfrm>
              <a:off x="7189920" y="10582200"/>
              <a:ext cx="1490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16" descr="C:\Documents and Settings\moosawa\My Documents\テックTTBS\クリップアート化200905\PPT納品データ\活用２\OK\tel_eisei\名称未設定-3.png"/>
          <p:cNvPicPr/>
          <p:nvPr/>
        </p:nvPicPr>
        <p:blipFill>
          <a:blip r:embed="rId1"/>
          <a:stretch/>
        </p:blipFill>
        <p:spPr>
          <a:xfrm>
            <a:off x="6515280" y="1554120"/>
            <a:ext cx="2330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6:19:13Z</dcterms:created>
  <dc:creator>NEC-PCuser</dc:creator>
  <dc:description/>
  <dc:language>en-US</dc:language>
  <cp:lastModifiedBy>moosawa</cp:lastModifiedBy>
  <dcterms:modified xsi:type="dcterms:W3CDTF">2009-05-30T13:46:27Z</dcterms:modified>
  <cp:revision>4</cp:revision>
  <dc:subject/>
  <dc:title>スライド 1</dc:title>
</cp:coreProperties>
</file>