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799763"/>
  <p:notesSz cx="423830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45E-EB76-4AB3-91F9-24B80731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3888396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243840"/>
            <a:ext cx="3888396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0A6-6DDB-44F7-9B47-D59F90F7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52072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24384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24384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CB8-4122-4664-8EF9-5C2DDF2F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125204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520720"/>
            <a:ext cx="125204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520720"/>
            <a:ext cx="125204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243840"/>
            <a:ext cx="125204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243840"/>
            <a:ext cx="125204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243840"/>
            <a:ext cx="125204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1DC-0EC4-47C9-8DD8-0DBEDD18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520720"/>
            <a:ext cx="388839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684-B5D5-43DA-893A-BD6AA803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38883960" cy="71276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5B0-435D-42D7-A2AA-F9DEFC25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18975240" cy="71276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520720"/>
            <a:ext cx="18975240" cy="71276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9DC-8CB8-4588-981B-3C439FAA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520-6C1D-4F94-95D8-A1F9A12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31280"/>
            <a:ext cx="388839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F6C-0AD6-4647-88D0-B22D2E89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520720"/>
            <a:ext cx="18975240" cy="71276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24384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D43-D60B-4AF9-B1DA-7A30460C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18975240" cy="71276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52072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24384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818-138C-47A0-944D-F4EAF6BD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41760"/>
            <a:ext cx="38883960" cy="25797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52072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520720"/>
            <a:ext cx="1897524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243840"/>
            <a:ext cx="38883960" cy="33998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DDE-25C0-48DA-8D7C-8C4D0CB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31280"/>
            <a:ext cx="38883960" cy="18003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520720"/>
            <a:ext cx="38883960" cy="71276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50000"/>
          </a:bodyPr>
          <a:p>
            <a:pPr marL="578520" indent="-578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53880" indent="-48240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928880" indent="-3855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700360" indent="-3855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471840" indent="-385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471840" indent="-385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471840" indent="-385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835920"/>
            <a:ext cx="10080360" cy="75060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>
              <a:buNone/>
              <a:tabLst>
                <a:tab algn="l" pos="0"/>
                <a:tab algn="l" pos="3086280"/>
                <a:tab algn="l" pos="6172200"/>
                <a:tab algn="l" pos="925848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835920"/>
            <a:ext cx="13681080" cy="75060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835920"/>
            <a:ext cx="10080360" cy="75060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3086280"/>
                <a:tab algn="l" pos="6172200"/>
                <a:tab algn="l" pos="925848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fld id="{89B0970A-E35F-46FD-B410-D0B241807F1E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85280" y="5203800"/>
            <a:ext cx="18432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740880"/>
            <a:ext cx="43205400" cy="92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0" spc="-1" strike="noStrike">
                <a:solidFill>
                  <a:srgbClr val="000000"/>
                </a:solidFill>
                <a:latin typeface="Arial"/>
              </a:rPr>
              <a:t>地球に優しい</a:t>
            </a:r>
            <a:r>
              <a:rPr b="1" lang="zh-CN" sz="30000" spc="-1" strike="noStrike">
                <a:solidFill>
                  <a:srgbClr val="008000"/>
                </a:solidFill>
                <a:latin typeface="Arial"/>
              </a:rPr>
              <a:t>モノ</a:t>
            </a:r>
            <a:r>
              <a:rPr b="1" lang="zh-CN" sz="30000" spc="-1" strike="noStrike">
                <a:solidFill>
                  <a:srgbClr val="000000"/>
                </a:solidFill>
                <a:latin typeface="Arial"/>
              </a:rPr>
              <a:t>つくり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Arial"/>
              </a:rPr>
              <a:t>　   環境対策は 企業義務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2000" y="5688000"/>
            <a:ext cx="4602240" cy="452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165040" y="647640"/>
            <a:ext cx="46022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4:05:40Z</dcterms:created>
  <dc:creator>demo</dc:creator>
  <dc:description/>
  <dc:language>en-US</dc:language>
  <cp:lastModifiedBy>fukase3</cp:lastModifiedBy>
  <dcterms:modified xsi:type="dcterms:W3CDTF">2009-01-16T06:49:14Z</dcterms:modified>
  <cp:revision>16</cp:revision>
  <dc:subject/>
  <dc:title>スライド 1</dc:title>
</cp:coreProperties>
</file>