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1C1-D9E0-413A-BDA2-831175F5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E22-F11D-45DE-8BA3-A7CEF10D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E87-76D4-4147-AA3A-E867628E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B13-6F0A-4D15-86B7-13254205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E99-7CD7-4D1F-A917-5221AE04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80B-141B-471B-B9B7-FBF998EC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4B1-926F-4060-B777-6C2A6097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CD4-ED8E-4064-AFDA-C872A68A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4063680"/>
            <a:ext cx="961704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C39-E647-4261-8B5B-278B96C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E12-8870-46E3-A6F8-F82ADEB5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222-0D6A-4BD9-B872-47601656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EBD-5D43-415A-8AA6-6D17E4FC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4000"/>
          </a:bodyPr>
          <a:p>
            <a:pPr marL="904320" indent="-9043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9120" indent="-753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014280" indent="-6022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4220640" indent="-60336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41655600"/>
            <a:ext cx="235764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41655600"/>
            <a:ext cx="358452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41655600"/>
            <a:ext cx="235728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2763-1205-41BB-875A-02C610AF0161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025_通行止め"/>
          <p:cNvPicPr/>
          <p:nvPr/>
        </p:nvPicPr>
        <p:blipFill>
          <a:blip r:embed="rId1"/>
          <a:stretch/>
        </p:blipFill>
        <p:spPr>
          <a:xfrm>
            <a:off x="331920" y="754200"/>
            <a:ext cx="10650240" cy="10645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-3508560" y="12730320"/>
            <a:ext cx="13759200" cy="31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3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この先</a:t>
            </a:r>
            <a:endParaRPr b="0" lang="en-US" sz="3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3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　通行できません</a:t>
            </a:r>
            <a:endParaRPr b="0" lang="en-US" sz="3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kkato</cp:lastModifiedBy>
  <dcterms:modified xsi:type="dcterms:W3CDTF">2012-04-17T03:21:53Z</dcterms:modified>
  <cp:revision>14</cp:revision>
  <dc:subject/>
  <dc:title>PowerPoint プレゼンテーション</dc:title>
</cp:coreProperties>
</file>