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EC3-D84E-46EB-8E54-B5AD5E5E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F8A-FBE2-463F-89EA-BB981A4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A16-2B55-48C4-9C53-BE1CEB8C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936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6120" y="326880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936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6120" y="6815520"/>
            <a:ext cx="1251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A87-4F63-475D-A3A5-9BB7872B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3D0-9CDB-4458-91AF-E9C6C75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C4F-5A11-45AE-B23F-87157790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21D-0FA1-4443-8630-858BD3B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D43-1044-45FA-899E-0D46FC74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2240" y="1006200"/>
            <a:ext cx="38855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747-B264-408C-9DE2-CD10BF3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715-5B4B-4544-9FEF-30BDFAA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681552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664-10D7-4744-996C-010F19E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2240" y="589680"/>
            <a:ext cx="388555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22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3268800"/>
            <a:ext cx="189612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2240" y="6815520"/>
            <a:ext cx="388555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CA4-317C-40B6-A07B-3F8AB36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2240" y="1006200"/>
            <a:ext cx="388555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2240" y="3268800"/>
            <a:ext cx="388555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224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17880" y="10308960"/>
            <a:ext cx="144842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2880" y="10308960"/>
            <a:ext cx="95248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9D2520F0-F1F4-4F71-A5FA-B4A070D90F8F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08840" y="23760"/>
            <a:ext cx="1765080" cy="176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3600" y="69840"/>
            <a:ext cx="1765440" cy="17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09760" y="906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作業安全運動週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8920" y="7232760"/>
            <a:ext cx="32045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9 </a:t>
            </a:r>
            <a:r>
              <a:rPr b="1" lang="zh-CN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月 </a:t>
            </a:r>
            <a:r>
              <a:rPr b="1" lang="en-US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10 </a:t>
            </a:r>
            <a:r>
              <a:rPr b="1" lang="zh-CN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日 ～ </a:t>
            </a:r>
            <a:r>
              <a:rPr b="1" lang="en-US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9 </a:t>
            </a:r>
            <a:r>
              <a:rPr b="1" lang="zh-CN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月 </a:t>
            </a:r>
            <a:r>
              <a:rPr b="1" lang="en-US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25 </a:t>
            </a:r>
            <a:r>
              <a:rPr b="1" lang="zh-CN" sz="20000" spc="-1" strike="noStrike">
                <a:solidFill>
                  <a:srgbClr val="ff66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27920" y="7178760"/>
            <a:ext cx="35683920" cy="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0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6372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324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66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6620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1536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648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61440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6356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130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6260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5964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90880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6504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0000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4916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59868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5604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80556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36112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1064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1408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26324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58840" y="46080"/>
            <a:ext cx="2230560" cy="1812960"/>
          </a:xfrm>
          <a:prstGeom prst="parallelogram">
            <a:avLst>
              <a:gd name="adj" fmla="val 3075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0836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211800" y="46080"/>
            <a:ext cx="2230200" cy="1812960"/>
          </a:xfrm>
          <a:prstGeom prst="parallelogram">
            <a:avLst>
              <a:gd name="adj" fmla="val 307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2066760"/>
            <a:ext cx="36271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安全作業運動週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3120" y="401760"/>
            <a:ext cx="5577120" cy="107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6:47:50Z</dcterms:modified>
  <cp:revision>3</cp:revision>
  <dc:subject/>
  <dc:title>PowerPoint プレゼンテーション</dc:title>
</cp:coreProperties>
</file>