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B76-38D6-4D92-9B25-217F790E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277-A21A-4B58-AF39-CDCA99C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E32-FC54-4AB4-BFF3-4C4F1326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C03-BFB0-4216-A8B7-B68B06FC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682-ACDC-4CDD-B425-F37C0388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342-ED72-4C1E-9476-0F5865E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6DB-E539-489C-8E7F-60042E8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3DD-62E0-4E5B-9853-998619A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D6A-3DD1-4EA3-A54C-29DF012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C6B-F47A-46CC-9AB1-5ED2399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807-B638-41D4-A674-586217E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4D3-F120-4691-BB55-8347D404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63000"/>
          </a:bodyPr>
          <a:p>
            <a:pPr marL="769680" indent="-7696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7880" indent="-6418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6608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93160" indent="-51372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A0E4B6F4-94CA-4CB5-8CB9-D9721D307A93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6320" y="684360"/>
            <a:ext cx="9361440" cy="824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80200" y="9829800"/>
            <a:ext cx="10847880" cy="22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00"/>
                </a:solidFill>
                <a:latin typeface="Times New Roman"/>
                <a:ea typeface="ＤＦＧ極太ゴシック体"/>
              </a:rPr>
              <a:t>頭 上 注 意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8582400" y="19992960"/>
            <a:ext cx="2225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WATCH YOUR HEAD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23T05:05:49Z</dcterms:modified>
  <cp:revision>19</cp:revision>
  <dc:subject/>
  <dc:title>PowerPoint プレゼンテーション</dc:title>
</cp:coreProperties>
</file>